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D4F-D7FB-4F64-AF50-710BB619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9D7-E23B-4AFD-A9DB-B69CDDC2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909-9916-49BC-B99D-C94EE983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5A8-F235-4703-B438-A595A7A6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2BFD-6B84-43D0-A597-3AD59E39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BB1A-2091-40C3-8C07-A217C538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6A5F-8941-4729-B95F-C00BFAB8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A11C-48BE-4A24-A5B3-56AB15B6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58F45-2DCF-48F5-8A1C-4C3853A8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B148-7CF7-483F-BB85-2482DB82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F296-0750-4C85-AABB-420D1801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E27E-C31F-40EF-94B3-454A748C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C15D-D5F6-4224-B93C-4DB07EB0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C126-6B2E-4724-B316-BC8CC2D6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7661-0F81-438F-BE39-1AE71657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C2DE-FAB8-494C-AAAC-50C4AC1C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62C1-D185-418D-8F60-AB292EBB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14B-889E-4FBE-83AF-129996EA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8A6-FF7E-4B82-B43C-3504E96D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9D5-684E-472B-A42F-D846D18D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30E9-5616-4F13-9538-610D8576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E56-0179-42FA-9F4C-D7E9A69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148-FAE4-4B61-ADDB-073F5478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0E3-1664-44CC-9951-3FCF2DE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728E-3BD2-4F7B-9283-05E264BF9F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6890-CDDD-43E9-BD89-33B25188EB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</a:rPr>
              <a:t>Организация циклических процессов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Язык программирования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URBO PA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икл с предусловием («Пока»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1700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565360"/>
            <a:ext cx="1657440" cy="93492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500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4149720"/>
            <a:ext cx="1728720" cy="57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29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2997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835280" y="53006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5300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47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84000" y="4941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4360" y="299700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299736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3573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00360" y="2349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2360" y="1916280"/>
            <a:ext cx="4824720" cy="37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следующий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ile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.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ерато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ется до тех пор, пока истинно условие, оно проверяется вначале, потом исполняется опера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Цикл с постусловием («До»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17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4221000"/>
            <a:ext cx="1657440" cy="935280"/>
          </a:xfrm>
          <a:prstGeom prst="diamond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8360" y="3213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2637000"/>
            <a:ext cx="1728720" cy="57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5640" y="515772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900000" y="2924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2924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6836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076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92360" y="1587600"/>
            <a:ext cx="5327640" cy="44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следующий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peat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операторо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ntil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ловие проверяется в конце цикла. Цикл выполняется до тех пор, пока условие не станет истинным. Особенностью цикла «До» является то, что тело цикла выполняется хотя бы 1 ра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4724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Цикл с параметром (со счетчиком) («Для»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162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3860640"/>
            <a:ext cx="1728720" cy="57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8000" y="314172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2205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1587600"/>
            <a:ext cx="5327640" cy="62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меет следующий 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.знач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ч.знач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ерат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араметр цикла меняется от начального значения до конечного с шагом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ч.знач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wnto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еч.знач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o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перато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араметр цикла меняется от начального значения до конечного с шаг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2565360"/>
            <a:ext cx="165564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06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2852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35280" y="486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Задача 1.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Автомобиль трогается с места и каждую секунду его скорость увеличивается на 7км/ч. Какова будет скорость автомобиля через 12 секунд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ые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: = 0, t: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for t: = 1 to 12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оры цик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: = v +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84720" y="1989000"/>
            <a:ext cx="455940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0033"/>
                </a:solidFill>
                <a:uFillTx/>
                <a:latin typeface="Times New Roman"/>
              </a:rPr>
              <a:t>Задача 2.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330033"/>
                </a:solidFill>
                <a:latin typeface="Times New Roman"/>
              </a:rPr>
              <a:t>Из бочки емкостью 350 литров через сливное отверстие каждую минуту вытекает 3 литра воды. Через какое время бочка опорожнится наполовину.</a:t>
            </a:r>
            <a:endParaRPr b="0" lang="en-US" sz="2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ьные знач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: = 350, t: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v &gt; 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ераторы цик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: = v – 3; t: = t + 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284720" y="1700280"/>
            <a:ext cx="450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330033"/>
                </a:solidFill>
                <a:uFillTx/>
                <a:latin typeface="Times New Roman"/>
              </a:rPr>
              <a:t>Задача 3.</a:t>
            </a:r>
            <a:r>
              <a:rPr b="1" lang="en-US" sz="2300" spc="-1" strike="noStrike">
                <a:solidFill>
                  <a:srgbClr val="330033"/>
                </a:solidFill>
                <a:latin typeface="Times New Roman"/>
              </a:rPr>
              <a:t> В чайник налили воду при температуре 20</a:t>
            </a:r>
            <a:r>
              <a:rPr b="1" lang="en-US" sz="2300" spc="-1" strike="noStrike" baseline="30000">
                <a:solidFill>
                  <a:srgbClr val="330033"/>
                </a:solidFill>
                <a:latin typeface="Times New Roman"/>
              </a:rPr>
              <a:t>0</a:t>
            </a:r>
            <a:r>
              <a:rPr b="1" lang="en-US" sz="2300" spc="-1" strike="noStrike">
                <a:solidFill>
                  <a:srgbClr val="330033"/>
                </a:solidFill>
                <a:latin typeface="Times New Roman"/>
              </a:rPr>
              <a:t> С и поставили на газ. Каждую минуту вода нагревается на 10</a:t>
            </a:r>
            <a:r>
              <a:rPr b="1" lang="en-US" sz="2300" spc="-1" strike="noStrike" baseline="30000">
                <a:solidFill>
                  <a:srgbClr val="330033"/>
                </a:solidFill>
                <a:latin typeface="Times New Roman"/>
              </a:rPr>
              <a:t>0</a:t>
            </a:r>
            <a:r>
              <a:rPr b="1" lang="en-US" sz="2300" spc="-1" strike="noStrike">
                <a:solidFill>
                  <a:srgbClr val="330033"/>
                </a:solidFill>
                <a:latin typeface="Times New Roman"/>
              </a:rPr>
              <a:t>С. Через какое время вода закипит?</a:t>
            </a:r>
            <a:endParaRPr b="0" lang="en-US" sz="2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ьные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: = 20; n: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 &gt;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оры цик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: = t + 10; n: = n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464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9:43:45Z</dcterms:created>
  <dc:creator>Yuya</dc:creator>
  <dc:description/>
  <dc:language>en-US</dc:language>
  <cp:lastModifiedBy>Yuya</cp:lastModifiedBy>
  <dcterms:modified xsi:type="dcterms:W3CDTF">2007-01-29T18:45:02Z</dcterms:modified>
  <cp:revision>7</cp:revision>
  <dc:subject/>
  <dc:title>Цикл с предусловием («Пока»)</dc:title>
</cp:coreProperties>
</file>