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055-F8B1-42EA-BA6D-EF716B0F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8CB-0647-4E68-96D5-69B547D2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AC4-CB02-4A32-A679-BE50AA26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24C-58EA-4A72-9B8D-A1ACF5BD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54B0-0C62-40D2-8ED6-3CFD4B7A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14FB-8915-4938-BAE7-92DA74A8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0DB2-AC99-462A-BBF3-2E0260FA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2BD0-92EA-4462-900A-3AC3B5F2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4C6-FC97-4F6B-9A08-C9EEF8F3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179D-3636-4A90-874E-20CEE5CB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6885-982D-4C7C-ADFD-E66415C8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CD6-0C31-4BF5-ADA7-0F6BF9A4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E295-AD61-43E1-AC67-FF71093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B734-80A0-4608-BCF8-4E2710A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D890-0B87-454D-9434-8ABB8044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E238-6AA3-43CA-A918-106000F6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D170-2181-465D-A1F4-48C970E7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D1E-128F-49D9-B628-0326B56D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23E-F396-4B75-B4B7-3AECBA6D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0D9-E8C5-4469-AFC0-77392DDF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BB0-63EC-4243-A5A7-5B50F3B7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D1E-6CD8-4434-AC5E-767D0BF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F9D-6B2E-466D-B42F-E3AA2AD8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D4F-C3F4-4CF7-887E-5B5FA90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7E18-97B6-46B7-AA13-07A039AF69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46BE-836F-4A28-A2FA-C97A8FE70C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coin.wav" TargetMode="External"/><Relationship Id="rId3" Type="http://schemas.openxmlformats.org/officeDocument/2006/relationships/image" Target="../media/image9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678168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Компьютерная </a:t>
            </a:r>
            <a:br>
              <a:rPr sz="4000"/>
            </a:b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график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4920" y="5950080"/>
            <a:ext cx="62485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8C6A-FD9B-4F7B-B68B-D457785AE2A0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439" r="0" b="0"/>
          <a:stretch/>
        </p:blipFill>
        <p:spPr>
          <a:xfrm>
            <a:off x="1476360" y="3141720"/>
            <a:ext cx="4392720" cy="2852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26920" y="404640"/>
            <a:ext cx="678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ные изображения могут иметь различную глубину цвета (бит на точку 4, 8, 16, 24). Каждый цвет можно рассматривать как возможные состояния точки, и тогда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вычислено количество цветов отображаемых на экране мони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5486400"/>
            <a:ext cx="19810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3357720"/>
          <a:ext cx="7848360" cy="3062160"/>
        </p:xfrm>
        <a:graphic>
          <a:graphicData uri="http://schemas.openxmlformats.org/drawingml/2006/table">
            <a:tbl>
              <a:tblPr/>
              <a:tblGrid>
                <a:gridCol w="3925800"/>
                <a:gridCol w="39225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отображаемых цветов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Colo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65 5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(True Colo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6 777 2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9748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89000"/>
            <a:ext cx="6008760" cy="647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1640" y="47628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бражение может иметь различный размер, которое определяется количеством точек по горизонтали и вертик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26920" y="2565360"/>
            <a:ext cx="4822560" cy="3313080"/>
            <a:chOff x="826920" y="2565360"/>
            <a:chExt cx="4822560" cy="3313080"/>
          </a:xfrm>
        </p:grpSpPr>
        <p:grpSp>
          <p:nvGrpSpPr>
            <p:cNvPr id="183" name=""/>
            <p:cNvGrpSpPr/>
            <p:nvPr/>
          </p:nvGrpSpPr>
          <p:grpSpPr>
            <a:xfrm>
              <a:off x="1545840" y="3141720"/>
              <a:ext cx="4103640" cy="2736720"/>
              <a:chOff x="1545840" y="3141720"/>
              <a:chExt cx="4103640" cy="2736720"/>
            </a:xfrm>
          </p:grpSpPr>
          <p:sp>
            <p:nvSpPr>
              <p:cNvPr id="184" name=""/>
              <p:cNvSpPr/>
              <p:nvPr/>
            </p:nvSpPr>
            <p:spPr>
              <a:xfrm>
                <a:off x="1545840" y="3141720"/>
                <a:ext cx="4103640" cy="273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1761840" y="3286080"/>
                <a:ext cx="360360" cy="2375640"/>
                <a:chOff x="1761840" y="3286080"/>
                <a:chExt cx="360360" cy="2375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76184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76184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76184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76184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6184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265120" y="3286080"/>
                <a:ext cx="360360" cy="2375640"/>
                <a:chOff x="2265120" y="3286080"/>
                <a:chExt cx="360360" cy="23756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26512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26512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26512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26512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26512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841480" y="3286080"/>
                <a:ext cx="360360" cy="2375640"/>
                <a:chOff x="2841480" y="3286080"/>
                <a:chExt cx="360360" cy="23756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84148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4148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84148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84148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84148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417480" y="3286080"/>
                <a:ext cx="360360" cy="2375640"/>
                <a:chOff x="3417480" y="3286080"/>
                <a:chExt cx="360360" cy="23756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41748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41748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41748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1748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1748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922560" y="3286080"/>
                <a:ext cx="360360" cy="2375640"/>
                <a:chOff x="3922560" y="3286080"/>
                <a:chExt cx="360360" cy="23756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92256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92256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256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2256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2256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498560" y="3286080"/>
                <a:ext cx="360360" cy="2375640"/>
                <a:chOff x="4498560" y="3286080"/>
                <a:chExt cx="360360" cy="23756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9856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856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49856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49856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49856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001840" y="3286080"/>
                <a:ext cx="360360" cy="2375640"/>
                <a:chOff x="5001840" y="3286080"/>
                <a:chExt cx="360360" cy="2375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001840" y="328608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001840" y="3790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01840" y="4293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001840" y="479844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001840" y="5301720"/>
                  <a:ext cx="360360" cy="360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1834920" y="2781360"/>
              <a:ext cx="33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3492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46200" y="2781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1840" y="2565360"/>
              <a:ext cx="576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14200" y="342900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14200" y="5516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14200" y="342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6920" y="4076640"/>
              <a:ext cx="5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19280" y="2708280"/>
            <a:ext cx="3167280" cy="1295280"/>
            <a:chOff x="5219280" y="2708280"/>
            <a:chExt cx="3167280" cy="1295280"/>
          </a:xfrm>
        </p:grpSpPr>
        <p:sp>
          <p:nvSpPr>
            <p:cNvPr id="236" name=""/>
            <p:cNvSpPr/>
            <p:nvPr/>
          </p:nvSpPr>
          <p:spPr>
            <a:xfrm flipH="1">
              <a:off x="5219280" y="3139920"/>
              <a:ext cx="14396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514920" y="2708280"/>
              <a:ext cx="1871640" cy="433440"/>
              <a:chOff x="6514920" y="2708280"/>
              <a:chExt cx="1871640" cy="433440"/>
            </a:xfrm>
          </p:grpSpPr>
          <p:sp>
            <p:nvSpPr>
              <p:cNvPr id="238" name=""/>
              <p:cNvSpPr/>
              <p:nvPr/>
            </p:nvSpPr>
            <p:spPr>
              <a:xfrm>
                <a:off x="6659280" y="314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14920" y="2708280"/>
                <a:ext cx="18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Пиксел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5940360" y="4076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Растр</a:t>
            </a: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x N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рафическая сетк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7524720" y="558972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5493" y="10800"/>
                </a:moveTo>
                <a:lnTo>
                  <a:pt x="4988" y="17806"/>
                </a:lnTo>
                <a:lnTo>
                  <a:pt x="4988" y="3794"/>
                </a:lnTo>
                <a:close/>
              </a:path>
              <a:path fill="darken" w="23988" h="21600">
                <a:moveTo>
                  <a:pt x="17338" y="3794"/>
                </a:moveTo>
                <a:lnTo>
                  <a:pt x="17338" y="17806"/>
                </a:lnTo>
                <a:lnTo>
                  <a:pt x="19000" y="17806"/>
                </a:lnTo>
                <a:lnTo>
                  <a:pt x="19000" y="379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стр  -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от англ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st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– представление изображения в виде двумерного массива точек (пикселов), упорядоченных в ряды и столб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774072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4975" y="10800"/>
                </a:moveTo>
                <a:lnTo>
                  <a:pt x="18988" y="3794"/>
                </a:lnTo>
                <a:lnTo>
                  <a:pt x="1898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12193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современных ПК обычно используются 4 основных размера изображения или разрешающих способностей экрана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40х480, 800х600, 1024х768, 1280х1024 пикс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11280" y="836640"/>
            <a:ext cx="73612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афический режим вывода изображения на экран определяется 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разрешающей способностью экрана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глубиной (интенсивностью) цве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ная информация о всех точках изображения, хранящаяся в видеопамяти, называется 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битовой картой изображения</a:t>
            </a:r>
            <a:r>
              <a:rPr b="0" lang="en-US" sz="3600" spc="-1" strike="noStrike">
                <a:solidFill>
                  <a:srgbClr val="6699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Основные проблемы при работе с растровой графикой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3308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объемы данных. Для обработки растровых изображений требуются высокопроизводительные компью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еличение изображения приводит к эффекту пикселизации, иллюстрация иска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212920" cy="3097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79640" y="620640"/>
            <a:ext cx="4573440" cy="5335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87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Форматы файлов растровой граф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719360"/>
          <a:ext cx="8229600" cy="4763880"/>
        </p:xfrm>
        <a:graphic>
          <a:graphicData uri="http://schemas.openxmlformats.org/drawingml/2006/table">
            <a:tbl>
              <a:tblPr/>
              <a:tblGrid>
                <a:gridCol w="1378080"/>
                <a:gridCol w="6851520"/>
              </a:tblGrid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m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map.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андартный формат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.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размер файлов из-за отсутствия сжатия изображени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e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Photographic Experts Group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Предназначен для хранения многоцветных изображений (фотографий). Отличается огромной степенью сжатия за счет потери информации. Степень сжатия можно регулировать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i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ый «плотный». Фиксированное количество цветов (256). Позволяет создавать прозрачность фона и анимацию изображ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зучив эту тему вы узнает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графических компьютерных изображ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нципы формирования графических изображ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ы форматов графических изображ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Форматы файлов растровой граф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5280" y="1484280"/>
          <a:ext cx="8229600" cy="4746600"/>
        </p:xfrm>
        <a:graphic>
          <a:graphicData uri="http://schemas.openxmlformats.org/drawingml/2006/table">
            <a:tbl>
              <a:tblPr/>
              <a:tblGrid>
                <a:gridCol w="1378080"/>
                <a:gridCol w="6851520"/>
              </a:tblGrid>
              <a:tr h="25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ti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ged Image File Format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Формат предназначен для хранения растровых изображений высокого качества. Неплохая степень сжатия. Возможность наложения аннотаций и примечаний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ps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Shop Document.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зволяет запоминать параметры слоев, каналов, степени прозрачности, множества масок. Большой объем файлов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екторная граф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назначена для создания иллюстраций с применением шрифтов и простейших геометрических объек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ым элементом векторного изображения является контур (лини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93080" y="4508640"/>
            <a:ext cx="1873080" cy="1225440"/>
          </a:xfrm>
          <a:custGeom>
            <a:avLst/>
            <a:gdLst>
              <a:gd name="textAreaLeft" fmla="*/ 440280 w 1873080"/>
              <a:gd name="textAreaRight" fmla="*/ 1431720 w 1873080"/>
              <a:gd name="textAreaTop" fmla="*/ 144000 h 1225440"/>
              <a:gd name="textAreaBottom" fmla="*/ 768600 h 1225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92720" y="2708280"/>
            <a:ext cx="2951280" cy="2736720"/>
          </a:xfrm>
          <a:prstGeom prst="su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5280" y="476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ожные объекты векторной графики при увеличении можно рассматривать более подроб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Географическая"/>
          <p:cNvPicPr/>
          <p:nvPr/>
        </p:nvPicPr>
        <p:blipFill>
          <a:blip r:embed="rId1"/>
          <a:stretch/>
        </p:blipFill>
        <p:spPr>
          <a:xfrm>
            <a:off x="971640" y="1197000"/>
            <a:ext cx="6624720" cy="5448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рактальная график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05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рактальная графика, как и векторная, основана на математических вычислен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азовым элементом фрактальной графики является сама математическая формула, изображение строится исключительно по уравн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3106440" cy="244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e9ce8"/>
                </a:solidFill>
                <a:latin typeface="Arial"/>
              </a:rPr>
              <a:t>Сравнительная характеристика растровой и векторной граф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557360"/>
          <a:ext cx="8228160" cy="4680000"/>
        </p:xfrm>
        <a:graphic>
          <a:graphicData uri="http://schemas.openxmlformats.org/drawingml/2006/table">
            <a:tbl>
              <a:tblPr/>
              <a:tblGrid>
                <a:gridCol w="3106800"/>
                <a:gridCol w="2560680"/>
                <a:gridCol w="2560680"/>
              </a:tblGrid>
              <a:tr h="53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ровая граф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торная граф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арный объек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ксель (точ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ур и внутренняя обла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ображ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окупность точек (матриц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окупность объек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тографическое качес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ечатка на принтер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к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огда не печатаются или выглядят не та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памя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больш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о небольш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штабирование и вращ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желатель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ировка и разгруппиров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MP, GIF, JPG, PCX, TI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MF, EPS, DXF, CG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e9ce8"/>
                </a:solidFill>
                <a:latin typeface="Arial"/>
              </a:rPr>
              <a:t>Области примен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разработке электронных (мультимедийных) и полиграфических изд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Интерн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инство графических редакторов, предназначенных для работы с растровыми иллюстрациями, ориентированы не столько на создание изображений, сколько на их обрабо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2920" y="2138040"/>
            <a:ext cx="424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рекламных агентств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дизайнерских бю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редакциях и издательств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инство векторных редакторов предназначены, в первую очередь, для создания иллюстраций и в меньшей степени для их обработк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оформительских работах, основанных на применении шрифтов и простейших геометрически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126828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65c"/>
                </a:solidFill>
                <a:latin typeface="Times New Roman"/>
              </a:rPr>
              <a:t>Растров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12654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65c"/>
                </a:solidFill>
                <a:latin typeface="Times New Roman"/>
              </a:rPr>
              <a:t>Векто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67280" y="404640"/>
            <a:ext cx="4068720" cy="3372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3743280" cy="2836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7687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57800" y="3962520"/>
            <a:ext cx="3657600" cy="2431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276720" y="3809880"/>
            <a:ext cx="2314440" cy="2727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70036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7502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иды компьютерной граф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кторная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рактальная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граф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436572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ы компьютерной графики отличаются принципами формирования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Растровая граф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няется при разработке электронных и полиграфических изд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ьшинство редакторов ориентированы не столько на создание изображений, сколько на их обработ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Интернете применяются только растровые иллюст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0974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Основным элементом растрового изображения является точка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ешение изображения выражает количество точек в единице длины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p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количество точек на дюй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изображение экранное, то эта точка называется </a:t>
            </a:r>
            <a:r>
              <a:rPr b="0" lang="ru-RU" sz="26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пиксе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680" y="2060640"/>
            <a:ext cx="3809880" cy="384948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7956720" y="595008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11349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  <a:path fill="darken" w="29695" h="21600">
                <a:moveTo>
                  <a:pt x="7841" y="3794"/>
                </a:moveTo>
                <a:lnTo>
                  <a:pt x="9503" y="3794"/>
                </a:lnTo>
                <a:lnTo>
                  <a:pt x="9503" y="17806"/>
                </a:lnTo>
                <a:lnTo>
                  <a:pt x="784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иксел (пиксель) -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от англ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cture element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элемент картинки) – наименьший элемент растрового изобра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7596360" y="5734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1640" y="549360"/>
            <a:ext cx="670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стейшем случае (черно-белое изображение без градаций серого цвета). Каждая точка экрана может иметь лишь два состояния – «черная» или «белая», т.е. для хранения ее состояния необходим 1 б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728640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715000" cy="560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4:21:34Z</dcterms:created>
  <dc:creator>Усольцева Э.М. Преподаватель информатики ГОУ НПО КПУ</dc:creator>
  <dc:description/>
  <dc:language>en-US</dc:language>
  <cp:lastModifiedBy>Компьютер</cp:lastModifiedBy>
  <dcterms:modified xsi:type="dcterms:W3CDTF">2007-12-19T12:52:16Z</dcterms:modified>
  <cp:revision>87</cp:revision>
  <dc:subject/>
  <dc:title>Компьютерная графика</dc:title>
</cp:coreProperties>
</file>