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DEE-4449-4B8C-8B56-F55A0CEA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CB8-5783-4F0A-A398-0ED77D2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56C-63AE-4AAE-8877-9C078119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550-40A6-4D9E-9040-536E6CF8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934-4A64-466B-A2BA-C279E0EA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C02D-B712-429F-91CC-32AB231E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103C-A407-427E-ACCE-BB9E80CA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83D8-E627-4163-97A0-756E902A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99C0-2ABC-473E-9978-1629F09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E23C-7802-48BC-8EEB-31DC026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920-E059-4024-85DC-B2CB4D9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1C8-887A-4C74-93C1-06AF8580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6D3-A692-4FA8-99FC-AC58D59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9F9B-C144-49A6-A0E7-978E187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2F2A-E0E1-4928-AC45-A3E91AE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9348-F172-4889-8F35-7BE479C1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89C-D399-4454-81BD-E415BD22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2ACC-E545-4DD5-A637-9BF9C874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F6C70-F674-4183-B88C-64DBD92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C6AE-4DB8-4583-9DC0-E9EDC349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6B78-3067-4751-A196-345D8B0C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7B07-9593-41CF-A9E9-D9BD0D3C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739-0292-43B8-9518-75BC5724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E695-FD06-459A-9BE4-C075C33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A0ED-7059-4EF8-8AC0-FECCF9FD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5BAF-861A-46C6-864E-041A036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123D-5ED0-4B23-88FB-977C5F94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0B11-B88E-4D43-AADB-DAFE85F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E52D-256D-4DA4-B63C-D188B873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9464-5AF1-46EF-B056-75BCEA9C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3B6A-079D-4DA8-A14A-538C4A5C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BACB-05C6-4BDB-9BD7-7E678DD2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7C4A6-9371-40A7-9B3C-F1F6A7E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B75-736E-45FB-ADC9-0BBE9113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ED28-C9C6-4899-9AD5-657643E1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6043-149D-458A-8CC3-EFBC4C9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E453-45E2-4E16-8DDD-ECA002C3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22E1-7F8D-4E01-A1DE-20DD4E3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3B66-8D60-46E0-B1BA-E805385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AD17-2349-4FC7-BD4A-654FE3F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5DDF-C3C5-4582-A3C7-F62E36F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81B95-A94B-4BEC-8F2E-BCA8A837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480F4-E6C9-4BD6-BFDF-53222815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39AD-2A4C-42C8-BD59-FF9A8CDC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11C3-9A9A-422B-BACF-5D293390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9E487-64F0-42CA-B1E4-3F5BCC8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8E738-BAB9-4779-AD13-0A65314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D30BB-CB6A-42BA-8B24-278B4D4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9A49-E46C-417A-AB72-4B8AA4C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6E09-FFE0-408C-A168-6C9ACBBC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4FD6-2A7D-4BB4-99EA-85D1026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CC2D-5342-4675-8D95-D479C37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F8C3-D108-4796-B26D-4965AF6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029E-F452-43A4-9246-29E0D64E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3ADE-CAA5-4554-A741-C654D70D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55A-B347-423F-A998-C6DCD48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6B8D-B284-42B9-A1C4-2E7794B0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6A1E-7C67-48E1-A6FA-8D5EF2BB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B99F9-2C57-4245-B2BB-DEACBB1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E79F-DFCA-49B4-A49D-925CDB9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226C-F1F1-4DCD-A1D9-E35743C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06031-BC4F-408F-B074-7ED1048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6A74-8F34-4928-BC25-1B3CA4F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314AA-6163-4BC2-A76E-97B85D8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5C4F-E3BF-4767-A2E0-F48CB5FB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340E-C46D-4C5D-8801-ED493CFC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569-6B5F-4B8C-AC99-6B80012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26A3-FAE9-4532-8F2A-25E2304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2054E-C51A-460B-BE17-F4FA3BCA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7F47-1844-4556-AD5F-6E3ED11B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AFF5D-332F-41FF-B081-EA699902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6CA30-61C9-4BE2-89DC-1C2B1FE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653EE-47BA-47EE-857F-FEFCD118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1086F-B35C-476B-976B-546A05CB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08F7E-9A07-4ADA-BDEE-BAB86718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3C09F-74B0-4EE9-95B9-011707C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6BE55-D800-44C4-9119-3428C96E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4DB-31E3-474D-8863-D8EFD0E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8AED3-14AA-4CBC-ACE0-FCC6BA5B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EC9B8-787D-498E-A0DA-7C17D4AC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76278-8F02-4353-940E-4FE7AE8F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6A07D-AE61-4F60-BD5D-E3AAF260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A1870-29C0-4D83-82A3-E2E161F0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5350D-BFE8-4DAA-8C8A-683C6A0A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1FC1-6B74-4485-8A15-FA567A7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3C86-E54A-4166-8FA4-C8189380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A99D4-C8E5-4EB3-A7D2-5D5DCF6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0C51-E8B4-4443-82C4-74B236F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699-DBCD-4D2C-A826-C6520F1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D9D35-DB1B-4AA7-BE29-1CB75076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77402-30E5-48C1-B400-554D37F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3F869-907C-4ED7-A7FA-2D10D2D2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DADDE-B116-44FB-963F-A4E201B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ABD4-9524-4775-A7B2-F89B1E52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9348-2255-4D50-AD2F-9994B734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D0E27-3E90-4F53-B4F6-E422C84B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DF78-985B-4D75-ADC9-CEAD057D8ED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562-BBB1-4A2D-BD43-34C4DB79434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4853-CC44-423F-8B95-150D6EBF45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9E95-363C-4F55-B3B6-3B0CB08C6A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427-25FA-4E22-AC8D-238C608700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6F7-3C26-4F7E-BA6D-9802D22F93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28A-0B47-4C3B-A1A9-C29A6E7D6D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572E-F6BB-43D3-A3D6-5CDB6F1CDB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9880" y="1963800"/>
            <a:ext cx="5334120" cy="489420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57909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 Narrow"/>
              </a:rPr>
              <a:t>Техника безопасности в компьютерном классе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6" name="">
            <a:hlinkClick r:id="" action="ppaction://hlinkshowjump?jump=nextslide"/>
          </p:cNvPr>
          <p:cNvSpPr/>
          <p:nvPr/>
        </p:nvSpPr>
        <p:spPr>
          <a:xfrm>
            <a:off x="8307360" y="6129360"/>
            <a:ext cx="836640" cy="728640"/>
          </a:xfrm>
          <a:custGeom>
            <a:avLst/>
            <a:gdLst>
              <a:gd name="textAreaLeft" fmla="*/ 47160 w 836640"/>
              <a:gd name="textAreaRight" fmla="*/ 789480 w 836640"/>
              <a:gd name="textAreaTop" fmla="*/ 47160 h 728640"/>
              <a:gd name="textAreaBottom" fmla="*/ 681480 h 728640"/>
            </a:gdLst>
            <a:ahLst/>
            <a:rect l="textAreaLeft" t="textAreaTop" r="textAreaRight" b="textAreaBottom"/>
            <a:pathLst>
              <a:path w="24800" h="21600">
                <a:moveTo>
                  <a:pt x="0" y="0"/>
                </a:moveTo>
                <a:lnTo>
                  <a:pt x="24800" y="0"/>
                </a:lnTo>
                <a:lnTo>
                  <a:pt x="24800" y="21600"/>
                </a:lnTo>
                <a:lnTo>
                  <a:pt x="0" y="21600"/>
                </a:lnTo>
                <a:close/>
              </a:path>
              <a:path fill="lightenLess" w="24800" h="21600">
                <a:moveTo>
                  <a:pt x="0" y="0"/>
                </a:moveTo>
                <a:lnTo>
                  <a:pt x="24800" y="0"/>
                </a:lnTo>
                <a:lnTo>
                  <a:pt x="23400" y="1400"/>
                </a:lnTo>
                <a:lnTo>
                  <a:pt x="1400" y="1400"/>
                </a:lnTo>
                <a:close/>
              </a:path>
              <a:path fill="darken" w="24800" h="21600">
                <a:moveTo>
                  <a:pt x="24800" y="0"/>
                </a:moveTo>
                <a:lnTo>
                  <a:pt x="24800" y="21600"/>
                </a:lnTo>
                <a:lnTo>
                  <a:pt x="23400" y="20200"/>
                </a:lnTo>
                <a:lnTo>
                  <a:pt x="23400" y="1400"/>
                </a:lnTo>
                <a:close/>
              </a:path>
              <a:path fill="darkenLess" w="24800" h="21600">
                <a:moveTo>
                  <a:pt x="2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00" y="20200"/>
                </a:lnTo>
                <a:close/>
              </a:path>
              <a:path fill="lighten" w="2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00" h="21600">
                <a:moveTo>
                  <a:pt x="5394" y="3794"/>
                </a:moveTo>
                <a:lnTo>
                  <a:pt x="19406" y="10800"/>
                </a:lnTo>
                <a:lnTo>
                  <a:pt x="5394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имеры из жиз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огда нештатная ситуация поджидает вас в самом неожиданном месте. В комнате несколько дней пахло чем-то сладковато-карамельным. Оказалось, в настольную лампу с красивым пластмассовым плафоном вкрутили слишком «сильную» лампочку: 75 ватт вместо положенных 40. Жаль, что причина выяснилась, когда плафон, увы, расплавил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же знал, что в импортную пластмассу добавляют ароматизаторы, чтобы она приятно пахла при нагреван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8172360" y="5985000"/>
            <a:ext cx="971640" cy="873000"/>
          </a:xfrm>
          <a:custGeom>
            <a:avLst/>
            <a:gdLst>
              <a:gd name="textAreaLeft" fmla="*/ 56520 w 971640"/>
              <a:gd name="textAreaRight" fmla="*/ 915120 w 97164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4040" h="21600">
                <a:moveTo>
                  <a:pt x="0" y="0"/>
                </a:moveTo>
                <a:lnTo>
                  <a:pt x="24040" y="0"/>
                </a:lnTo>
                <a:lnTo>
                  <a:pt x="24040" y="21600"/>
                </a:lnTo>
                <a:lnTo>
                  <a:pt x="0" y="21600"/>
                </a:lnTo>
                <a:close/>
              </a:path>
              <a:path fill="lightenLess" w="24040" h="21600">
                <a:moveTo>
                  <a:pt x="0" y="0"/>
                </a:moveTo>
                <a:lnTo>
                  <a:pt x="24040" y="0"/>
                </a:lnTo>
                <a:lnTo>
                  <a:pt x="22640" y="1400"/>
                </a:lnTo>
                <a:lnTo>
                  <a:pt x="1400" y="1400"/>
                </a:lnTo>
                <a:close/>
              </a:path>
              <a:path fill="darken" w="24040" h="21600">
                <a:moveTo>
                  <a:pt x="24040" y="0"/>
                </a:moveTo>
                <a:lnTo>
                  <a:pt x="24040" y="21600"/>
                </a:lnTo>
                <a:lnTo>
                  <a:pt x="22640" y="20200"/>
                </a:lnTo>
                <a:lnTo>
                  <a:pt x="22640" y="1400"/>
                </a:lnTo>
                <a:close/>
              </a:path>
              <a:path fill="darkenLess" w="24040" h="21600">
                <a:moveTo>
                  <a:pt x="24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0" y="20200"/>
                </a:lnTo>
                <a:close/>
              </a:path>
              <a:path fill="lighten" w="24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0" h="21600">
                <a:moveTo>
                  <a:pt x="5013" y="3794"/>
                </a:moveTo>
                <a:lnTo>
                  <a:pt x="19026" y="10800"/>
                </a:lnTo>
                <a:lnTo>
                  <a:pt x="5013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Что все это значит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18043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е учащиеся должны изучить правила ТБ при работе в компьютерном классе и расписаться в специальной графе журнала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Times New Roman"/>
              </a:rPr>
              <a:t>Это поможет им сохранит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оровь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рогостоящую техни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шелек роди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зможность дальнейшего обучения с использованием компью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217000" y="5985000"/>
            <a:ext cx="927000" cy="873000"/>
          </a:xfrm>
          <a:custGeom>
            <a:avLst/>
            <a:gdLst>
              <a:gd name="textAreaLeft" fmla="*/ 56520 w 927000"/>
              <a:gd name="textAreaRight" fmla="*/ 870480 w 927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936" h="21600">
                <a:moveTo>
                  <a:pt x="0" y="0"/>
                </a:moveTo>
                <a:lnTo>
                  <a:pt x="22936" y="0"/>
                </a:lnTo>
                <a:lnTo>
                  <a:pt x="22936" y="21600"/>
                </a:lnTo>
                <a:lnTo>
                  <a:pt x="0" y="21600"/>
                </a:lnTo>
                <a:close/>
              </a:path>
              <a:path fill="lightenLess" w="22936" h="21600">
                <a:moveTo>
                  <a:pt x="0" y="0"/>
                </a:moveTo>
                <a:lnTo>
                  <a:pt x="22936" y="0"/>
                </a:lnTo>
                <a:lnTo>
                  <a:pt x="21536" y="1400"/>
                </a:lnTo>
                <a:lnTo>
                  <a:pt x="1400" y="1400"/>
                </a:lnTo>
                <a:close/>
              </a:path>
              <a:path fill="darken" w="22936" h="21600">
                <a:moveTo>
                  <a:pt x="22936" y="0"/>
                </a:moveTo>
                <a:lnTo>
                  <a:pt x="22936" y="21600"/>
                </a:lnTo>
                <a:lnTo>
                  <a:pt x="21536" y="20200"/>
                </a:lnTo>
                <a:lnTo>
                  <a:pt x="21536" y="1400"/>
                </a:lnTo>
                <a:close/>
              </a:path>
              <a:path fill="darkenLess" w="22936" h="21600">
                <a:moveTo>
                  <a:pt x="22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36" y="20200"/>
                </a:lnTo>
                <a:close/>
              </a:path>
              <a:path fill="lighten" w="22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36" h="21600">
                <a:moveTo>
                  <a:pt x="4461" y="3794"/>
                </a:moveTo>
                <a:lnTo>
                  <a:pt x="18474" y="10800"/>
                </a:lnTo>
                <a:lnTo>
                  <a:pt x="4461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41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клю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2" name=""/>
          <p:cNvSpPr/>
          <p:nvPr/>
        </p:nvSpPr>
        <p:spPr>
          <a:xfrm>
            <a:off x="250920" y="1398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щиеся, нарушившие правила ТБ в компьютерном классе, от выполнения практических работ отстраняются. Сведения о нарушении передаются администрации школы, которая принимает соответствующие решения о наказании, возмещении причиненного ущерба и возможности дальнейших занятий в компьютерном классе. Допуск таких учащихся к работе возможен только после повторного инструктажа и сдачи зачета по ТБ с соответствующей записью в журнале по Т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 грубое нарушение ТБ учащиеся и их родители несут все виды ответственности, предусмотренные законами Р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34920" cy="873000"/>
          </a:xfrm>
          <a:custGeom>
            <a:avLst/>
            <a:gdLst>
              <a:gd name="textAreaLeft" fmla="*/ 56520 w 934920"/>
              <a:gd name="textAreaRight" fmla="*/ 878400 w 93492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3131" h="21600">
                <a:moveTo>
                  <a:pt x="0" y="0"/>
                </a:moveTo>
                <a:lnTo>
                  <a:pt x="23131" y="0"/>
                </a:lnTo>
                <a:lnTo>
                  <a:pt x="23131" y="21600"/>
                </a:lnTo>
                <a:lnTo>
                  <a:pt x="0" y="21600"/>
                </a:lnTo>
                <a:close/>
              </a:path>
              <a:path fill="lightenLess" w="23131" h="21600">
                <a:moveTo>
                  <a:pt x="0" y="0"/>
                </a:moveTo>
                <a:lnTo>
                  <a:pt x="23131" y="0"/>
                </a:lnTo>
                <a:lnTo>
                  <a:pt x="21731" y="1400"/>
                </a:lnTo>
                <a:lnTo>
                  <a:pt x="1400" y="1400"/>
                </a:lnTo>
                <a:close/>
              </a:path>
              <a:path fill="darken" w="23131" h="21600">
                <a:moveTo>
                  <a:pt x="23131" y="0"/>
                </a:moveTo>
                <a:lnTo>
                  <a:pt x="23131" y="21600"/>
                </a:lnTo>
                <a:lnTo>
                  <a:pt x="21731" y="20200"/>
                </a:lnTo>
                <a:lnTo>
                  <a:pt x="21731" y="1400"/>
                </a:lnTo>
                <a:close/>
              </a:path>
              <a:path fill="darkenLess" w="23131" h="21600">
                <a:moveTo>
                  <a:pt x="23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1" y="20200"/>
                </a:lnTo>
                <a:close/>
              </a:path>
              <a:path fill="lighten" w="23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1" h="21600">
                <a:moveTo>
                  <a:pt x="4559" y="3794"/>
                </a:moveTo>
                <a:lnTo>
                  <a:pt x="18572" y="10800"/>
                </a:lnTo>
                <a:lnTo>
                  <a:pt x="45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>
            <a:hlinkClick r:id="" action="ppaction://hlinkshowjump?jump=firstslide"/>
          </p:cNvPr>
          <p:cNvSpPr/>
          <p:nvPr/>
        </p:nvSpPr>
        <p:spPr>
          <a:xfrm>
            <a:off x="8101080" y="5877000"/>
            <a:ext cx="952560" cy="898560"/>
          </a:xfrm>
          <a:custGeom>
            <a:avLst/>
            <a:gdLst>
              <a:gd name="textAreaLeft" fmla="*/ 57960 w 952560"/>
              <a:gd name="textAreaRight" fmla="*/ 894600 w 95256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2898" h="21600">
                <a:moveTo>
                  <a:pt x="0" y="0"/>
                </a:moveTo>
                <a:lnTo>
                  <a:pt x="22898" y="0"/>
                </a:lnTo>
                <a:lnTo>
                  <a:pt x="22898" y="21600"/>
                </a:lnTo>
                <a:lnTo>
                  <a:pt x="0" y="21600"/>
                </a:lnTo>
                <a:close/>
              </a:path>
              <a:path fill="lightenLess" w="22898" h="21600">
                <a:moveTo>
                  <a:pt x="0" y="0"/>
                </a:moveTo>
                <a:lnTo>
                  <a:pt x="22898" y="0"/>
                </a:lnTo>
                <a:lnTo>
                  <a:pt x="21498" y="1400"/>
                </a:lnTo>
                <a:lnTo>
                  <a:pt x="1400" y="1400"/>
                </a:lnTo>
                <a:close/>
              </a:path>
              <a:path fill="darken" w="22898" h="21600">
                <a:moveTo>
                  <a:pt x="22898" y="0"/>
                </a:moveTo>
                <a:lnTo>
                  <a:pt x="22898" y="21600"/>
                </a:lnTo>
                <a:lnTo>
                  <a:pt x="21498" y="20200"/>
                </a:lnTo>
                <a:lnTo>
                  <a:pt x="21498" y="1400"/>
                </a:lnTo>
                <a:close/>
              </a:path>
              <a:path fill="darkenLess" w="22898" h="21600">
                <a:moveTo>
                  <a:pt x="228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98" y="20200"/>
                </a:lnTo>
                <a:close/>
              </a:path>
              <a:path fill="lighten" w="228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98" h="21600">
                <a:moveTo>
                  <a:pt x="11449" y="3837"/>
                </a:moveTo>
                <a:lnTo>
                  <a:pt x="14025" y="6448"/>
                </a:ln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lnTo>
                  <a:pt x="18412" y="10800"/>
                </a:lnTo>
                <a:lnTo>
                  <a:pt x="16758" y="10800"/>
                </a:lnTo>
                <a:lnTo>
                  <a:pt x="16758" y="17989"/>
                </a:lnTo>
                <a:lnTo>
                  <a:pt x="6140" y="17989"/>
                </a:lnTo>
                <a:lnTo>
                  <a:pt x="6140" y="10800"/>
                </a:lnTo>
                <a:lnTo>
                  <a:pt x="4486" y="10800"/>
                </a:lnTo>
                <a:close/>
              </a:path>
              <a:path fill="darkenLess" w="22898" h="21600">
                <a:moveTo>
                  <a:pt x="14025" y="6448"/>
                </a:moveTo>
                <a:lnTo>
                  <a:pt x="14025" y="4707"/>
                </a:lnTo>
                <a:lnTo>
                  <a:pt x="15801" y="4707"/>
                </a:lnTo>
                <a:lnTo>
                  <a:pt x="15801" y="8224"/>
                </a:lnTo>
                <a:close/>
              </a:path>
              <a:path fill="darkenLess" w="22898" h="21600">
                <a:moveTo>
                  <a:pt x="10526" y="14299"/>
                </a:moveTo>
                <a:lnTo>
                  <a:pt x="12371" y="14299"/>
                </a:lnTo>
                <a:lnTo>
                  <a:pt x="12371" y="17989"/>
                </a:lnTo>
                <a:lnTo>
                  <a:pt x="16758" y="17989"/>
                </a:lnTo>
                <a:lnTo>
                  <a:pt x="16758" y="10800"/>
                </a:lnTo>
                <a:lnTo>
                  <a:pt x="6140" y="10800"/>
                </a:lnTo>
                <a:lnTo>
                  <a:pt x="6140" y="17989"/>
                </a:lnTo>
                <a:lnTo>
                  <a:pt x="10526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ресс-т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838080"/>
            <a:ext cx="853452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Comic Sans MS"/>
              </a:rPr>
              <a:t>Выбери один из предложенных вариантов отв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При появлении признаков пожара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Воспользоваться огнетушителе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2" action="ppaction://hlinksldjump"/>
              </a:rPr>
              <a:t>Отключить питание сет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3" action="ppaction://hlinksldjump"/>
              </a:rPr>
              <a:t>Сообщить учителю и организованно покинуть помеще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480" y="311940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у соседа по компьютеру не ладится работа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4" action="ppaction://hlinksldjump"/>
              </a:rPr>
              <a:t>Оставить свой  компьютер и выполнить задание за него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5" action="ppaction://hlinksldjump"/>
              </a:rPr>
              <a:t>Помочь совето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6" action="ppaction://hlinksldjump"/>
              </a:rPr>
              <a:t>Пожаловаться учите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4902120"/>
            <a:ext cx="8534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66"/>
                </a:solidFill>
                <a:latin typeface="Times New Roman"/>
              </a:rPr>
              <a:t>Если компьютер в процессе работы «зависает», следу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7" action="ppaction://hlinksldjump"/>
              </a:rPr>
              <a:t>Сообщить учителю и сделать запись в регистрационном журнал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8" action="ppaction://hlinksldjump"/>
              </a:rPr>
              <a:t>Открыть крышку системного блока и «пошевелить» материнскую плат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Times New Roman"/>
                <a:hlinkClick r:id="rId9" action="ppaction://hlinksldjump"/>
              </a:rPr>
              <a:t>Проверить системные устан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1640" y="114264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лох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нимательно изучи материал!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3390840" cy="5562720"/>
          </a:xfrm>
          <a:prstGeom prst="rect">
            <a:avLst/>
          </a:prstGeom>
          <a:ln w="0">
            <a:noFill/>
          </a:ln>
        </p:spPr>
      </p:pic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7991640" y="5772240"/>
            <a:ext cx="936360" cy="860400"/>
          </a:xfrm>
          <a:custGeom>
            <a:avLst/>
            <a:gdLst>
              <a:gd name="textAreaLeft" fmla="*/ 55440 w 936360"/>
              <a:gd name="textAreaRight" fmla="*/ 880920 w 936360"/>
              <a:gd name="textAreaTop" fmla="*/ 55440 h 860400"/>
              <a:gd name="textAreaBottom" fmla="*/ 804960 h 860400"/>
            </a:gdLst>
            <a:ahLst/>
            <a:rect l="textAreaLeft" t="textAreaTop" r="textAreaRight" b="textAreaBottom"/>
            <a:pathLst>
              <a:path w="23506" h="21600">
                <a:moveTo>
                  <a:pt x="0" y="0"/>
                </a:moveTo>
                <a:lnTo>
                  <a:pt x="23506" y="0"/>
                </a:lnTo>
                <a:lnTo>
                  <a:pt x="23506" y="21600"/>
                </a:lnTo>
                <a:lnTo>
                  <a:pt x="0" y="21600"/>
                </a:lnTo>
                <a:close/>
              </a:path>
              <a:path fill="lightenLess" w="23506" h="21600">
                <a:moveTo>
                  <a:pt x="0" y="0"/>
                </a:moveTo>
                <a:lnTo>
                  <a:pt x="23506" y="0"/>
                </a:lnTo>
                <a:lnTo>
                  <a:pt x="22106" y="1400"/>
                </a:lnTo>
                <a:lnTo>
                  <a:pt x="1400" y="1400"/>
                </a:lnTo>
                <a:close/>
              </a:path>
              <a:path fill="darken" w="23506" h="21600">
                <a:moveTo>
                  <a:pt x="23506" y="0"/>
                </a:moveTo>
                <a:lnTo>
                  <a:pt x="23506" y="21600"/>
                </a:lnTo>
                <a:lnTo>
                  <a:pt x="22106" y="20200"/>
                </a:lnTo>
                <a:lnTo>
                  <a:pt x="22106" y="1400"/>
                </a:lnTo>
                <a:close/>
              </a:path>
              <a:path fill="darkenLess" w="23506" h="21600">
                <a:moveTo>
                  <a:pt x="23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06" y="20200"/>
                </a:lnTo>
                <a:close/>
              </a:path>
              <a:path fill="lighten" w="23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06" h="21600">
                <a:moveTo>
                  <a:pt x="1175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506" h="21600">
                <a:moveTo>
                  <a:pt x="12858" y="14281"/>
                </a:moveTo>
                <a:lnTo>
                  <a:pt x="12858" y="12323"/>
                </a:lnTo>
                <a:cubicBezTo>
                  <a:pt x="12858" y="11496"/>
                  <a:pt x="13189" y="10800"/>
                  <a:pt x="13790" y="10800"/>
                </a:cubicBezTo>
                <a:cubicBezTo>
                  <a:pt x="14921" y="10800"/>
                  <a:pt x="15818" y="9434"/>
                  <a:pt x="15818" y="7849"/>
                </a:cubicBezTo>
                <a:cubicBezTo>
                  <a:pt x="15818" y="5534"/>
                  <a:pt x="13964" y="3794"/>
                  <a:pt x="11753" y="3794"/>
                </a:cubicBezTo>
                <a:cubicBezTo>
                  <a:pt x="9542" y="3794"/>
                  <a:pt x="7871" y="5534"/>
                  <a:pt x="7871" y="7849"/>
                </a:cubicBezTo>
                <a:lnTo>
                  <a:pt x="9725" y="7849"/>
                </a:lnTo>
                <a:cubicBezTo>
                  <a:pt x="9725" y="6709"/>
                  <a:pt x="10648" y="5821"/>
                  <a:pt x="11753" y="5821"/>
                </a:cubicBezTo>
                <a:cubicBezTo>
                  <a:pt x="12858" y="5821"/>
                  <a:pt x="13790" y="6709"/>
                  <a:pt x="13790" y="7849"/>
                </a:cubicBezTo>
                <a:cubicBezTo>
                  <a:pt x="13790" y="8589"/>
                  <a:pt x="13320" y="9320"/>
                  <a:pt x="12858" y="9320"/>
                </a:cubicBezTo>
                <a:cubicBezTo>
                  <a:pt x="11753" y="9320"/>
                  <a:pt x="10648" y="10800"/>
                  <a:pt x="10648" y="12323"/>
                </a:cubicBezTo>
                <a:lnTo>
                  <a:pt x="10648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твет верен!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2286000" y="2057400"/>
            <a:ext cx="3913200" cy="4113360"/>
          </a:xfrm>
          <a:prstGeom prst="rect">
            <a:avLst/>
          </a:prstGeom>
          <a:ln w="0">
            <a:noFill/>
          </a:ln>
        </p:spPr>
      </p:pic>
      <p:sp>
        <p:nvSpPr>
          <p:cNvPr id="714" name="">
            <a:hlinkClick r:id="rId3" action="ppaction://hlinksldjump"/>
          </p:cNvPr>
          <p:cNvSpPr/>
          <p:nvPr/>
        </p:nvSpPr>
        <p:spPr>
          <a:xfrm>
            <a:off x="8029440" y="5823000"/>
            <a:ext cx="971640" cy="882720"/>
          </a:xfrm>
          <a:custGeom>
            <a:avLst/>
            <a:gdLst>
              <a:gd name="textAreaLeft" fmla="*/ 56880 w 971640"/>
              <a:gd name="textAreaRight" fmla="*/ 914760 w 971640"/>
              <a:gd name="textAreaTop" fmla="*/ 56880 h 882720"/>
              <a:gd name="textAreaBottom" fmla="*/ 825840 h 882720"/>
            </a:gdLst>
            <a:ahLst/>
            <a:rect l="textAreaLeft" t="textAreaTop" r="textAreaRight" b="textAreaBottom"/>
            <a:pathLst>
              <a:path w="23775" h="21600">
                <a:moveTo>
                  <a:pt x="0" y="0"/>
                </a:moveTo>
                <a:lnTo>
                  <a:pt x="23775" y="0"/>
                </a:lnTo>
                <a:lnTo>
                  <a:pt x="23775" y="21600"/>
                </a:lnTo>
                <a:lnTo>
                  <a:pt x="0" y="21600"/>
                </a:lnTo>
                <a:close/>
              </a:path>
              <a:path fill="lightenLess" w="23775" h="21600">
                <a:moveTo>
                  <a:pt x="0" y="0"/>
                </a:moveTo>
                <a:lnTo>
                  <a:pt x="23775" y="0"/>
                </a:lnTo>
                <a:lnTo>
                  <a:pt x="22375" y="1400"/>
                </a:lnTo>
                <a:lnTo>
                  <a:pt x="1400" y="1400"/>
                </a:lnTo>
                <a:close/>
              </a:path>
              <a:path fill="darken" w="23775" h="21600">
                <a:moveTo>
                  <a:pt x="23775" y="0"/>
                </a:moveTo>
                <a:lnTo>
                  <a:pt x="23775" y="21600"/>
                </a:lnTo>
                <a:lnTo>
                  <a:pt x="22375" y="20200"/>
                </a:lnTo>
                <a:lnTo>
                  <a:pt x="22375" y="1400"/>
                </a:lnTo>
                <a:close/>
              </a:path>
              <a:path fill="darkenLess" w="23775" h="21600">
                <a:moveTo>
                  <a:pt x="23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5" y="20200"/>
                </a:lnTo>
                <a:close/>
              </a:path>
              <a:path fill="lighten" w="23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75" h="21600">
                <a:moveTo>
                  <a:pt x="1188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75" h="21600">
                <a:moveTo>
                  <a:pt x="12993" y="14281"/>
                </a:moveTo>
                <a:lnTo>
                  <a:pt x="12993" y="12323"/>
                </a:lnTo>
                <a:cubicBezTo>
                  <a:pt x="12993" y="11496"/>
                  <a:pt x="13324" y="10800"/>
                  <a:pt x="13924" y="10800"/>
                </a:cubicBezTo>
                <a:cubicBezTo>
                  <a:pt x="15056" y="10800"/>
                  <a:pt x="15952" y="9434"/>
                  <a:pt x="15952" y="7849"/>
                </a:cubicBezTo>
                <a:cubicBezTo>
                  <a:pt x="15952" y="5534"/>
                  <a:pt x="14098" y="3794"/>
                  <a:pt x="11887" y="3794"/>
                </a:cubicBezTo>
                <a:cubicBezTo>
                  <a:pt x="9677" y="3794"/>
                  <a:pt x="8006" y="5534"/>
                  <a:pt x="8006" y="7849"/>
                </a:cubicBezTo>
                <a:lnTo>
                  <a:pt x="9860" y="7849"/>
                </a:lnTo>
                <a:cubicBezTo>
                  <a:pt x="9860" y="6709"/>
                  <a:pt x="10782" y="5821"/>
                  <a:pt x="11887" y="5821"/>
                </a:cubicBezTo>
                <a:cubicBezTo>
                  <a:pt x="12993" y="5821"/>
                  <a:pt x="13924" y="6709"/>
                  <a:pt x="13924" y="7849"/>
                </a:cubicBezTo>
                <a:cubicBezTo>
                  <a:pt x="13924" y="8589"/>
                  <a:pt x="13454" y="9320"/>
                  <a:pt x="12993" y="9320"/>
                </a:cubicBezTo>
                <a:cubicBezTo>
                  <a:pt x="11887" y="9320"/>
                  <a:pt x="10782" y="10800"/>
                  <a:pt x="10782" y="12323"/>
                </a:cubicBezTo>
                <a:lnTo>
                  <a:pt x="10782" y="1428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68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68" fill="hold"/>
                                        <p:tgtEl>
                                          <p:spTgt spid="7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800600" y="0"/>
            <a:ext cx="3693960" cy="22701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вед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560" y="25142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чему актуален вопрос о технике безопасности в компьютерном клас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В кабинете вычислительной техники установлена дорогостоящая, сложная и требующая осторожного и аккуратного обращения аппаратура — компьютеры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принтер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ы и </a:t>
            </a: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другие технические средства.</a:t>
            </a: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ff"/>
                </a:solidFill>
                <a:latin typeface="Times New Roman"/>
              </a:rPr>
              <a:t>Факты нахождения в кабинете большого количества техники, питающейся от электросети, с одновременным присутствием  школьников являются достаточными для выдвижения повышенных требований к безопасности такого поме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</p:cNvPr>
          <p:cNvSpPr/>
          <p:nvPr/>
        </p:nvSpPr>
        <p:spPr>
          <a:xfrm>
            <a:off x="8352000" y="6058080"/>
            <a:ext cx="792000" cy="765000"/>
          </a:xfrm>
          <a:custGeom>
            <a:avLst/>
            <a:gdLst>
              <a:gd name="textAreaLeft" fmla="*/ 49320 w 792000"/>
              <a:gd name="textAreaRight" fmla="*/ 742680 w 79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2362" h="21600">
                <a:moveTo>
                  <a:pt x="0" y="0"/>
                </a:moveTo>
                <a:lnTo>
                  <a:pt x="22362" y="0"/>
                </a:lnTo>
                <a:lnTo>
                  <a:pt x="22362" y="21600"/>
                </a:lnTo>
                <a:lnTo>
                  <a:pt x="0" y="21600"/>
                </a:lnTo>
                <a:close/>
              </a:path>
              <a:path fill="lightenLess" w="22362" h="21600">
                <a:moveTo>
                  <a:pt x="0" y="0"/>
                </a:moveTo>
                <a:lnTo>
                  <a:pt x="22362" y="0"/>
                </a:lnTo>
                <a:lnTo>
                  <a:pt x="20962" y="1400"/>
                </a:lnTo>
                <a:lnTo>
                  <a:pt x="1400" y="1400"/>
                </a:lnTo>
                <a:close/>
              </a:path>
              <a:path fill="darken" w="22362" h="21600">
                <a:moveTo>
                  <a:pt x="22362" y="0"/>
                </a:moveTo>
                <a:lnTo>
                  <a:pt x="22362" y="21600"/>
                </a:lnTo>
                <a:lnTo>
                  <a:pt x="20962" y="20200"/>
                </a:lnTo>
                <a:lnTo>
                  <a:pt x="20962" y="1400"/>
                </a:lnTo>
                <a:close/>
              </a:path>
              <a:path fill="darkenLess" w="22362" h="21600">
                <a:moveTo>
                  <a:pt x="22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62" y="20200"/>
                </a:lnTo>
                <a:close/>
              </a:path>
              <a:path fill="lighten" w="22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62" h="21600">
                <a:moveTo>
                  <a:pt x="4175" y="3794"/>
                </a:moveTo>
                <a:lnTo>
                  <a:pt x="18187" y="10800"/>
                </a:lnTo>
                <a:lnTo>
                  <a:pt x="4175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6962760" y="3724200"/>
            <a:ext cx="2181240" cy="31338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емы для обсуждени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Правила поведения в компьютерном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Правила электро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Правила 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576360" y="3681360"/>
            <a:ext cx="3635640" cy="344952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ведения в компьютерном классе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6" name=""/>
          <p:cNvSpPr/>
          <p:nvPr/>
        </p:nvSpPr>
        <p:spPr>
          <a:xfrm>
            <a:off x="1727280" y="3097080"/>
            <a:ext cx="74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ходите в кабинет спокойно, не торопясь, не толкаясь, не задевая столы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анимайте отведенное вам мест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режно обращайтесь с техни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 кладите книги, тетради на монитор и клавиатур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пишитесь в журнал регистр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инайте работу только по указанию препода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лавно нажимайте на клавиши, не допуская резких удар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28404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е вставайте со своих мест, когда в кабинет входят посетител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1600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Чем отличаются правила поведения в компьютерном классе от правил поведения в школе?</a:t>
            </a:r>
            <a:br>
              <a:rPr sz="2000"/>
            </a:br>
            <a:r>
              <a:rPr b="1" lang="ru-RU" sz="2000" spc="-1" strike="noStrike">
                <a:solidFill>
                  <a:srgbClr val="ff9966"/>
                </a:solidFill>
                <a:latin typeface="Times New Roman"/>
              </a:rPr>
              <a:t>Правила поведения в компьютерном классе не противоречат общим правилам поведения в школе, но имеют ряд существенных добавлений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>
            <a:hlinkClick r:id="" action="ppaction://hlinkshowjump?jump=nextslide"/>
          </p:cNvPr>
          <p:cNvSpPr/>
          <p:nvPr/>
        </p:nvSpPr>
        <p:spPr>
          <a:xfrm>
            <a:off x="8244000" y="587700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3889"/>
                </a:moveTo>
                <a:lnTo>
                  <a:pt x="17806" y="10895"/>
                </a:lnTo>
                <a:lnTo>
                  <a:pt x="3794" y="17901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5032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Забота о здоровь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0" y="1042560"/>
            <a:ext cx="885672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едует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работать на расстоянии 60—70 с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от экрана монитора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, допустимо не менее 50 см, соблюдая правильную посадку, не сутулясь, не наклоняя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чащимся, имеющим очки для постоянного ношения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ледует работать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в очках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свещен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 должно быть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достаточ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ельзя работа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при плохом самочувстви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ожение при работе должно быть таким, чтобы линия взора приходилась в центр экрана. Не следует наклоняться и сутулиться при пользовании клавиатурой и чтении с экрана мони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мя непрерывной работы за компьютером не должно превышать 30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8209080" y="5950080"/>
            <a:ext cx="900000" cy="873000"/>
          </a:xfrm>
          <a:custGeom>
            <a:avLst/>
            <a:gdLst>
              <a:gd name="textAreaLeft" fmla="*/ 56520 w 900000"/>
              <a:gd name="textAreaRight" fmla="*/ 843480 w 900000"/>
              <a:gd name="textAreaTop" fmla="*/ 56520 h 873000"/>
              <a:gd name="textAreaBottom" fmla="*/ 816480 h 873000"/>
            </a:gdLst>
            <a:ahLst/>
            <a:rect l="textAreaLeft" t="textAreaTop" r="textAreaRight" b="textAreaBottom"/>
            <a:pathLst>
              <a:path w="22268" h="21600">
                <a:moveTo>
                  <a:pt x="0" y="0"/>
                </a:moveTo>
                <a:lnTo>
                  <a:pt x="22268" y="0"/>
                </a:lnTo>
                <a:lnTo>
                  <a:pt x="22268" y="21600"/>
                </a:lnTo>
                <a:lnTo>
                  <a:pt x="0" y="21600"/>
                </a:lnTo>
                <a:close/>
              </a:path>
              <a:path fill="lightenLess" w="22268" h="21600">
                <a:moveTo>
                  <a:pt x="0" y="0"/>
                </a:moveTo>
                <a:lnTo>
                  <a:pt x="22268" y="0"/>
                </a:lnTo>
                <a:lnTo>
                  <a:pt x="20868" y="1400"/>
                </a:lnTo>
                <a:lnTo>
                  <a:pt x="1400" y="1400"/>
                </a:lnTo>
                <a:close/>
              </a:path>
              <a:path fill="darken" w="22268" h="21600">
                <a:moveTo>
                  <a:pt x="22268" y="0"/>
                </a:moveTo>
                <a:lnTo>
                  <a:pt x="22268" y="21600"/>
                </a:lnTo>
                <a:lnTo>
                  <a:pt x="20868" y="20200"/>
                </a:lnTo>
                <a:lnTo>
                  <a:pt x="20868" y="1400"/>
                </a:lnTo>
                <a:close/>
              </a:path>
              <a:path fill="darkenLess" w="22268" h="21600">
                <a:moveTo>
                  <a:pt x="2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68" y="20200"/>
                </a:lnTo>
                <a:close/>
              </a:path>
              <a:path fill="lighten" w="2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19640" y="5977080"/>
            <a:ext cx="1513080" cy="944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236160 h 944280"/>
              <a:gd name="textAreaBottom" fmla="*/ 708480 h 944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8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П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15428" t="13841" r="3156" b="40692"/>
          <a:stretch/>
        </p:blipFill>
        <p:spPr>
          <a:xfrm>
            <a:off x="3311640" y="5938920"/>
            <a:ext cx="21952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aptop"/>
          <p:cNvSpPr/>
          <p:nvPr/>
        </p:nvSpPr>
        <p:spPr>
          <a:xfrm>
            <a:off x="3402000" y="3249720"/>
            <a:ext cx="1809720" cy="1361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20854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На рабочем мест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 в компьютерном классе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размещены составные части ПЭВМ — системный блок, клавиатура и монитор. Во время работы лучевая трубка монитора работает под высоким напряжением. Неправильное обращение с аппаратурой, кабелями и мониторами может привести к тяжелым поражениям электрическим током, вызвать загорание аппарату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ower"/>
          <p:cNvSpPr/>
          <p:nvPr/>
        </p:nvSpPr>
        <p:spPr>
          <a:xfrm>
            <a:off x="297000" y="324000"/>
            <a:ext cx="904680" cy="1809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rinter2"/>
          <p:cNvSpPr/>
          <p:nvPr/>
        </p:nvSpPr>
        <p:spPr>
          <a:xfrm>
            <a:off x="297000" y="572436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электро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9" name="scanner1"/>
          <p:cNvSpPr/>
          <p:nvPr/>
        </p:nvSpPr>
        <p:spPr>
          <a:xfrm>
            <a:off x="7047000" y="728640"/>
            <a:ext cx="180972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209080" y="5985000"/>
            <a:ext cx="927000" cy="836640"/>
          </a:xfrm>
          <a:custGeom>
            <a:avLst/>
            <a:gdLst>
              <a:gd name="textAreaLeft" fmla="*/ 54000 w 927000"/>
              <a:gd name="textAreaRight" fmla="*/ 873000 w 927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932" h="21600">
                <a:moveTo>
                  <a:pt x="0" y="0"/>
                </a:moveTo>
                <a:lnTo>
                  <a:pt x="23932" y="0"/>
                </a:lnTo>
                <a:lnTo>
                  <a:pt x="23932" y="21600"/>
                </a:lnTo>
                <a:lnTo>
                  <a:pt x="0" y="21600"/>
                </a:lnTo>
                <a:close/>
              </a:path>
              <a:path fill="lightenLess" w="23932" h="21600">
                <a:moveTo>
                  <a:pt x="0" y="0"/>
                </a:moveTo>
                <a:lnTo>
                  <a:pt x="23932" y="0"/>
                </a:lnTo>
                <a:lnTo>
                  <a:pt x="22532" y="1400"/>
                </a:lnTo>
                <a:lnTo>
                  <a:pt x="1400" y="1400"/>
                </a:lnTo>
                <a:close/>
              </a:path>
              <a:path fill="darken" w="23932" h="21600">
                <a:moveTo>
                  <a:pt x="23932" y="0"/>
                </a:moveTo>
                <a:lnTo>
                  <a:pt x="23932" y="21600"/>
                </a:lnTo>
                <a:lnTo>
                  <a:pt x="22532" y="20200"/>
                </a:lnTo>
                <a:lnTo>
                  <a:pt x="22532" y="1400"/>
                </a:lnTo>
                <a:close/>
              </a:path>
              <a:path fill="darkenLess" w="23932" h="21600">
                <a:moveTo>
                  <a:pt x="23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32" y="20200"/>
                </a:lnTo>
                <a:close/>
              </a:path>
              <a:path fill="lighten" w="23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32" h="21600">
                <a:moveTo>
                  <a:pt x="4959" y="3794"/>
                </a:moveTo>
                <a:lnTo>
                  <a:pt x="18972" y="10800"/>
                </a:lnTo>
                <a:lnTo>
                  <a:pt x="4959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4770360"/>
            <a:ext cx="2771640" cy="20876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го запрещается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47280" y="1052640"/>
            <a:ext cx="9186840" cy="37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ть влажными и грязными ру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ходить в рабочую зону (за компьютеры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рогать разъемы соединительных каб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питающим проводам и устройствам зазем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саться к экрану и к тыльной стороне монитора, клавиа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ключать и отключать аппаратуру без указания преподава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самостоятельно устр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ть неисправнос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в работе аппаратур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8101080" y="587700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равила пожарной безопасност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264960" y="2210760"/>
            <a:ext cx="844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О ИЗБЕЖАНИЕ ПОЖАРА НЕОБХОДИМО СТРОГО СОБЛЮДАТЬ СЛЕДУЮЩИЕ ТРЕБ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оянно поддерживать порядок в рабочих помещениях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держать в чистоте свое рабочее мест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накапливать ненужных материал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е загромождать проходы, выход, коридоры и доступ к средствам пожаротуше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ширина минимально допустимых проход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между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орудованием должна быть не менее 1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128080" y="5913360"/>
            <a:ext cx="1015920" cy="944640"/>
          </a:xfrm>
          <a:custGeom>
            <a:avLst/>
            <a:gdLst>
              <a:gd name="textAreaLeft" fmla="*/ 61200 w 1015920"/>
              <a:gd name="textAreaRight" fmla="*/ 954720 w 101592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229" h="21600">
                <a:moveTo>
                  <a:pt x="0" y="0"/>
                </a:moveTo>
                <a:lnTo>
                  <a:pt x="23229" y="0"/>
                </a:lnTo>
                <a:lnTo>
                  <a:pt x="23229" y="21600"/>
                </a:lnTo>
                <a:lnTo>
                  <a:pt x="0" y="21600"/>
                </a:lnTo>
                <a:close/>
              </a:path>
              <a:path fill="lightenLess" w="23229" h="21600">
                <a:moveTo>
                  <a:pt x="0" y="0"/>
                </a:moveTo>
                <a:lnTo>
                  <a:pt x="23229" y="0"/>
                </a:lnTo>
                <a:lnTo>
                  <a:pt x="21829" y="1400"/>
                </a:lnTo>
                <a:lnTo>
                  <a:pt x="1400" y="1400"/>
                </a:lnTo>
                <a:close/>
              </a:path>
              <a:path fill="darken" w="23229" h="21600">
                <a:moveTo>
                  <a:pt x="23229" y="0"/>
                </a:moveTo>
                <a:lnTo>
                  <a:pt x="23229" y="21600"/>
                </a:lnTo>
                <a:lnTo>
                  <a:pt x="21829" y="20200"/>
                </a:lnTo>
                <a:lnTo>
                  <a:pt x="21829" y="1400"/>
                </a:lnTo>
                <a:close/>
              </a:path>
              <a:path fill="darkenLess" w="23229" h="21600">
                <a:moveTo>
                  <a:pt x="23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29" y="20200"/>
                </a:lnTo>
                <a:close/>
              </a:path>
              <a:path fill="lighten" w="23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29" h="21600">
                <a:moveTo>
                  <a:pt x="4608" y="3794"/>
                </a:moveTo>
                <a:lnTo>
                  <a:pt x="18621" y="10800"/>
                </a:lnTo>
                <a:lnTo>
                  <a:pt x="4608" y="17806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6335640" y="138240"/>
            <a:ext cx="252900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7632720" y="1376280"/>
            <a:ext cx="1052640" cy="136836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6767640" y="2349360"/>
            <a:ext cx="2376360" cy="182880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0" y="41058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урить в помещен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льзоваться зажигалк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ешать одежду и класть горючие предметы на электрощиты, электропроводку и другое электрооборуд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>
            <a:hlinkClick r:id="rId3" action="ppaction://hlinksldjump"/>
          </p:cNvPr>
          <p:cNvSpPr/>
          <p:nvPr/>
        </p:nvSpPr>
        <p:spPr>
          <a:xfrm>
            <a:off x="8101080" y="5877000"/>
            <a:ext cx="1008000" cy="944640"/>
          </a:xfrm>
          <a:custGeom>
            <a:avLst/>
            <a:gdLst>
              <a:gd name="textAreaLeft" fmla="*/ 61200 w 1008000"/>
              <a:gd name="textAreaRight" fmla="*/ 946800 w 1008000"/>
              <a:gd name="textAreaTop" fmla="*/ 61200 h 944640"/>
              <a:gd name="textAreaBottom" fmla="*/ 883440 h 944640"/>
            </a:gdLst>
            <a:ahLst/>
            <a:rect l="textAreaLeft" t="textAreaTop" r="textAreaRight" b="textAreaBottom"/>
            <a:pathLst>
              <a:path w="23048" h="21600">
                <a:moveTo>
                  <a:pt x="0" y="0"/>
                </a:moveTo>
                <a:lnTo>
                  <a:pt x="23048" y="0"/>
                </a:lnTo>
                <a:lnTo>
                  <a:pt x="23048" y="21600"/>
                </a:lnTo>
                <a:lnTo>
                  <a:pt x="0" y="21600"/>
                </a:lnTo>
                <a:close/>
              </a:path>
              <a:path fill="lightenLess" w="23048" h="21600">
                <a:moveTo>
                  <a:pt x="0" y="0"/>
                </a:moveTo>
                <a:lnTo>
                  <a:pt x="23048" y="0"/>
                </a:lnTo>
                <a:lnTo>
                  <a:pt x="21648" y="1400"/>
                </a:lnTo>
                <a:lnTo>
                  <a:pt x="1400" y="1400"/>
                </a:lnTo>
                <a:close/>
              </a:path>
              <a:path fill="darken" w="23048" h="21600">
                <a:moveTo>
                  <a:pt x="23048" y="0"/>
                </a:moveTo>
                <a:lnTo>
                  <a:pt x="23048" y="21600"/>
                </a:lnTo>
                <a:lnTo>
                  <a:pt x="21648" y="20200"/>
                </a:lnTo>
                <a:lnTo>
                  <a:pt x="21648" y="1400"/>
                </a:lnTo>
                <a:close/>
              </a:path>
              <a:path fill="darkenLess" w="23048" h="21600">
                <a:moveTo>
                  <a:pt x="23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8" y="20200"/>
                </a:lnTo>
                <a:close/>
              </a:path>
              <a:path fill="lighten" w="23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166920" y="6093000"/>
            <a:ext cx="2449800" cy="765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Подробне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000" y="36468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Times New Roman"/>
              </a:rPr>
              <a:t>В НЕШТАТНЫХ СИТУАЦИ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 нештатных ситуациях, при нагревании  устройств, появлении постороннего запаха, звука необходимо немедленно поставить в известность преподавателя и в случае необходимости организованно покинуть помещ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еры по ликвидации ситуации (отключать напряжение, вызывать пожарную команду по телефону 01) должно принимать лицо, ответственное за пожарную безопас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колайчук</cp:lastModifiedBy>
  <dcterms:modified xsi:type="dcterms:W3CDTF">2005-09-04T18:47:50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