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9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gif" ContentType="image/gif"/>
  <Override PartName="/ppt/media/image8.png" ContentType="image/png"/>
  <Override PartName="/ppt/media/image11.jpeg" ContentType="image/jpeg"/>
  <Override PartName="/ppt/media/image10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6CE71-BE19-432A-9822-B887F9BC9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44F72-F6CB-402E-A366-D7309195A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97D5A-3245-4391-8E2F-501E7C149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B4B74-4FB9-4AF1-B7EC-40C343747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37544-C81B-4B24-AB6C-BA66E30AA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85FDD-3A9D-4D97-B0AA-9A186A754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9D717-CE77-472D-9CBE-A8DB2DBDD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C6B3A-8D3D-49BB-A968-0322742D3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286DD-99AD-4036-A6E8-AE4A5EB0E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55D94-CC91-47E3-8ADE-079069EC4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31DD0-A007-4E96-BA3F-229CE2393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5354F-F011-4715-ACF1-04E21EB40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1FDE0-1FB6-4948-BAE0-955D16E84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DE8D3-CC33-4474-82C3-9ADEA0D08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8F49B-0F14-430D-9C86-6EF250A59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E1ED3-5F9E-4B45-A7AB-FC47787DE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E2F1D-9495-4B60-B264-7BAE5FB54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9920A-45B9-4878-8A10-8C33D182B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6630A-A96C-4CFC-B448-B931E3F09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815C1-F682-421B-ACFF-41379CB59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98567-8902-4F84-A718-C70ABAFA1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AE4B8-6D0B-4BE2-BEBF-775239D76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4D31A-449D-49D5-92E8-0BB33E256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08486-50C7-4D05-86A6-8E0AD761C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E6038-36DB-4DFC-8E1B-A69DD91B7FC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B400D-DD96-4789-8F31-E959963A2A4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8.xml"/><Relationship Id="rId7" Type="http://schemas.openxmlformats.org/officeDocument/2006/relationships/slide" Target="slide9.xml"/><Relationship Id="rId8" Type="http://schemas.openxmlformats.org/officeDocument/2006/relationships/slide" Target="slide10.xml"/><Relationship Id="rId9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6.wmf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" Target="slide2.xml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 flipH="1">
            <a:off x="0" y="0"/>
            <a:ext cx="2556000" cy="248904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630760" y="1341360"/>
            <a:ext cx="3513240" cy="551664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2400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Компьютер и здоровье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990360" y="3962160"/>
            <a:ext cx="7181640" cy="15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Учебный комплекс по информатике и информационным технологиям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>
            <a:hlinkClick r:id="" action="ppaction://hlinkshowjump?jump=nextslide"/>
          </p:cNvPr>
          <p:cNvSpPr/>
          <p:nvPr/>
        </p:nvSpPr>
        <p:spPr>
          <a:xfrm>
            <a:off x="8172360" y="5877000"/>
            <a:ext cx="827280" cy="836640"/>
          </a:xfrm>
          <a:custGeom>
            <a:avLst/>
            <a:gdLst>
              <a:gd name="textAreaLeft" fmla="*/ 53640 w 827280"/>
              <a:gd name="textAreaRight" fmla="*/ 773640 w 827280"/>
              <a:gd name="textAreaTop" fmla="*/ 53640 h 836640"/>
              <a:gd name="textAreaBottom" fmla="*/ 783000 h 836640"/>
            </a:gdLst>
            <a:ahLst/>
            <a:rect l="textAreaLeft" t="textAreaTop" r="textAreaRight" b="textAreaBottom"/>
            <a:pathLst>
              <a:path w="21600" h="21844">
                <a:moveTo>
                  <a:pt x="0" y="0"/>
                </a:moveTo>
                <a:lnTo>
                  <a:pt x="21600" y="0"/>
                </a:lnTo>
                <a:lnTo>
                  <a:pt x="21600" y="21844"/>
                </a:lnTo>
                <a:lnTo>
                  <a:pt x="0" y="21844"/>
                </a:lnTo>
                <a:close/>
              </a:path>
              <a:path fill="lightenLess" w="21600" h="2184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844">
                <a:moveTo>
                  <a:pt x="21600" y="0"/>
                </a:moveTo>
                <a:lnTo>
                  <a:pt x="21600" y="21844"/>
                </a:lnTo>
                <a:lnTo>
                  <a:pt x="20200" y="20444"/>
                </a:lnTo>
                <a:lnTo>
                  <a:pt x="20200" y="1400"/>
                </a:lnTo>
                <a:close/>
              </a:path>
              <a:path fill="darkenLess" w="21600" h="21844">
                <a:moveTo>
                  <a:pt x="21600" y="21844"/>
                </a:moveTo>
                <a:lnTo>
                  <a:pt x="0" y="21844"/>
                </a:lnTo>
                <a:lnTo>
                  <a:pt x="1400" y="20444"/>
                </a:lnTo>
                <a:lnTo>
                  <a:pt x="20200" y="20444"/>
                </a:lnTo>
                <a:close/>
              </a:path>
              <a:path fill="lighten" w="21600" h="21844">
                <a:moveTo>
                  <a:pt x="0" y="21844"/>
                </a:moveTo>
                <a:lnTo>
                  <a:pt x="0" y="0"/>
                </a:lnTo>
                <a:lnTo>
                  <a:pt x="1400" y="1400"/>
                </a:lnTo>
                <a:lnTo>
                  <a:pt x="1400" y="20444"/>
                </a:lnTo>
                <a:close/>
              </a:path>
              <a:path fill="darken" w="21600" h="21844">
                <a:moveTo>
                  <a:pt x="3794" y="3916"/>
                </a:moveTo>
                <a:lnTo>
                  <a:pt x="17806" y="10922"/>
                </a:lnTo>
                <a:lnTo>
                  <a:pt x="3794" y="17929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31640" y="5805360"/>
            <a:ext cx="827280" cy="836640"/>
          </a:xfrm>
          <a:custGeom>
            <a:avLst/>
            <a:gdLst>
              <a:gd name="textAreaLeft" fmla="*/ 53640 w 827280"/>
              <a:gd name="textAreaRight" fmla="*/ 773640 w 827280"/>
              <a:gd name="textAreaTop" fmla="*/ 53640 h 836640"/>
              <a:gd name="textAreaBottom" fmla="*/ 783000 h 836640"/>
            </a:gdLst>
            <a:ahLst/>
            <a:rect l="textAreaLeft" t="textAreaTop" r="textAreaRight" b="textAreaBottom"/>
            <a:pathLst>
              <a:path w="21600" h="21844">
                <a:moveTo>
                  <a:pt x="0" y="0"/>
                </a:moveTo>
                <a:lnTo>
                  <a:pt x="21600" y="0"/>
                </a:lnTo>
                <a:lnTo>
                  <a:pt x="21600" y="21844"/>
                </a:lnTo>
                <a:lnTo>
                  <a:pt x="0" y="21844"/>
                </a:lnTo>
                <a:close/>
              </a:path>
              <a:path fill="lightenLess" w="21600" h="2184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844">
                <a:moveTo>
                  <a:pt x="21600" y="0"/>
                </a:moveTo>
                <a:lnTo>
                  <a:pt x="21600" y="21844"/>
                </a:lnTo>
                <a:lnTo>
                  <a:pt x="20200" y="20444"/>
                </a:lnTo>
                <a:lnTo>
                  <a:pt x="20200" y="1400"/>
                </a:lnTo>
                <a:close/>
              </a:path>
              <a:path fill="darkenLess" w="21600" h="21844">
                <a:moveTo>
                  <a:pt x="21600" y="21844"/>
                </a:moveTo>
                <a:lnTo>
                  <a:pt x="0" y="21844"/>
                </a:lnTo>
                <a:lnTo>
                  <a:pt x="1400" y="20444"/>
                </a:lnTo>
                <a:lnTo>
                  <a:pt x="20200" y="20444"/>
                </a:lnTo>
                <a:close/>
              </a:path>
              <a:path fill="lighten" w="21600" h="21844">
                <a:moveTo>
                  <a:pt x="0" y="21844"/>
                </a:moveTo>
                <a:lnTo>
                  <a:pt x="0" y="0"/>
                </a:lnTo>
                <a:lnTo>
                  <a:pt x="1400" y="1400"/>
                </a:lnTo>
                <a:lnTo>
                  <a:pt x="1400" y="20444"/>
                </a:lnTo>
                <a:close/>
              </a:path>
              <a:path fill="darken" w="21600" h="21844">
                <a:moveTo>
                  <a:pt x="3794" y="7615"/>
                </a:moveTo>
                <a:lnTo>
                  <a:pt x="7301" y="7615"/>
                </a:lnTo>
                <a:lnTo>
                  <a:pt x="7301" y="12950"/>
                </a:lnTo>
                <a:cubicBezTo>
                  <a:pt x="7301" y="13873"/>
                  <a:pt x="8102" y="14604"/>
                  <a:pt x="9138" y="14604"/>
                </a:cubicBezTo>
                <a:lnTo>
                  <a:pt x="10800" y="14604"/>
                </a:lnTo>
                <a:cubicBezTo>
                  <a:pt x="11836" y="14604"/>
                  <a:pt x="12636" y="13873"/>
                  <a:pt x="12636" y="12950"/>
                </a:cubicBezTo>
                <a:lnTo>
                  <a:pt x="12636" y="7615"/>
                </a:lnTo>
                <a:lnTo>
                  <a:pt x="10800" y="7615"/>
                </a:lnTo>
                <a:lnTo>
                  <a:pt x="14308" y="4107"/>
                </a:lnTo>
                <a:lnTo>
                  <a:pt x="17981" y="7615"/>
                </a:lnTo>
                <a:lnTo>
                  <a:pt x="16144" y="7615"/>
                </a:lnTo>
                <a:lnTo>
                  <a:pt x="16144" y="12950"/>
                </a:lnTo>
                <a:cubicBezTo>
                  <a:pt x="16144" y="15718"/>
                  <a:pt x="13568" y="18277"/>
                  <a:pt x="10800" y="18277"/>
                </a:cubicBezTo>
                <a:lnTo>
                  <a:pt x="9138" y="18277"/>
                </a:lnTo>
                <a:cubicBezTo>
                  <a:pt x="6370" y="18277"/>
                  <a:pt x="3794" y="15718"/>
                  <a:pt x="3794" y="12950"/>
                </a:cubicBez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Возврат н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вызвавшую презентацию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95640" y="5734080"/>
            <a:ext cx="43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дготовлено по Санитарным правилам и нормам (СанПиН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b7"/>
                </a:solidFill>
                <a:latin typeface="Arial Black"/>
              </a:rPr>
              <a:t>Рабочий компьютерный стол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7" name="">
            <a:hlinkClick r:id="rId1" action="ppaction://hlinksldjump"/>
          </p:cNvPr>
          <p:cNvSpPr/>
          <p:nvPr/>
        </p:nvSpPr>
        <p:spPr>
          <a:xfrm>
            <a:off x="7164360" y="5950080"/>
            <a:ext cx="647640" cy="907920"/>
          </a:xfrm>
          <a:custGeom>
            <a:avLst/>
            <a:gdLst>
              <a:gd name="textAreaLeft" fmla="*/ 86760 w 647640"/>
              <a:gd name="textAreaRight" fmla="*/ 560880 w 647640"/>
              <a:gd name="textAreaTop" fmla="*/ 158760 h 907920"/>
              <a:gd name="textAreaBottom" fmla="*/ 658440 h 90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Содержа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>
            <a:hlinkClick r:id="" action="ppaction://hlinkshowjump?jump=firstslide"/>
          </p:cNvPr>
          <p:cNvSpPr/>
          <p:nvPr/>
        </p:nvSpPr>
        <p:spPr>
          <a:xfrm>
            <a:off x="8317080" y="6093000"/>
            <a:ext cx="718920" cy="647640"/>
          </a:xfrm>
          <a:custGeom>
            <a:avLst/>
            <a:gdLst>
              <a:gd name="textAreaLeft" fmla="*/ 41760 w 718920"/>
              <a:gd name="textAreaRight" fmla="*/ 677160 w 7189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3976" h="21600">
                <a:moveTo>
                  <a:pt x="0" y="0"/>
                </a:moveTo>
                <a:lnTo>
                  <a:pt x="23976" y="0"/>
                </a:lnTo>
                <a:lnTo>
                  <a:pt x="23976" y="21600"/>
                </a:lnTo>
                <a:lnTo>
                  <a:pt x="0" y="21600"/>
                </a:lnTo>
                <a:close/>
              </a:path>
              <a:path fill="lightenLess" w="23976" h="21600">
                <a:moveTo>
                  <a:pt x="0" y="0"/>
                </a:moveTo>
                <a:lnTo>
                  <a:pt x="23976" y="0"/>
                </a:lnTo>
                <a:lnTo>
                  <a:pt x="22576" y="1400"/>
                </a:lnTo>
                <a:lnTo>
                  <a:pt x="1400" y="1400"/>
                </a:lnTo>
                <a:close/>
              </a:path>
              <a:path fill="darken" w="23976" h="21600">
                <a:moveTo>
                  <a:pt x="23976" y="0"/>
                </a:moveTo>
                <a:lnTo>
                  <a:pt x="23976" y="21600"/>
                </a:lnTo>
                <a:lnTo>
                  <a:pt x="22576" y="20200"/>
                </a:lnTo>
                <a:lnTo>
                  <a:pt x="22576" y="1400"/>
                </a:lnTo>
                <a:close/>
              </a:path>
              <a:path fill="darkenLess" w="23976" h="21600">
                <a:moveTo>
                  <a:pt x="239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76" y="20200"/>
                </a:lnTo>
                <a:close/>
              </a:path>
              <a:path fill="lighten" w="239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76" h="21600">
                <a:moveTo>
                  <a:pt x="11988" y="3837"/>
                </a:moveTo>
                <a:lnTo>
                  <a:pt x="14564" y="6448"/>
                </a:lnTo>
                <a:lnTo>
                  <a:pt x="14564" y="4707"/>
                </a:lnTo>
                <a:lnTo>
                  <a:pt x="16340" y="4707"/>
                </a:lnTo>
                <a:lnTo>
                  <a:pt x="16340" y="8224"/>
                </a:lnTo>
                <a:lnTo>
                  <a:pt x="18951" y="10800"/>
                </a:lnTo>
                <a:lnTo>
                  <a:pt x="17297" y="10800"/>
                </a:lnTo>
                <a:lnTo>
                  <a:pt x="17297" y="17989"/>
                </a:lnTo>
                <a:lnTo>
                  <a:pt x="6679" y="17989"/>
                </a:lnTo>
                <a:lnTo>
                  <a:pt x="6679" y="10800"/>
                </a:lnTo>
                <a:lnTo>
                  <a:pt x="5025" y="10800"/>
                </a:lnTo>
                <a:close/>
              </a:path>
              <a:path fill="darkenLess" w="23976" h="21600">
                <a:moveTo>
                  <a:pt x="14564" y="6448"/>
                </a:moveTo>
                <a:lnTo>
                  <a:pt x="14564" y="4707"/>
                </a:lnTo>
                <a:lnTo>
                  <a:pt x="16340" y="4707"/>
                </a:lnTo>
                <a:lnTo>
                  <a:pt x="16340" y="8224"/>
                </a:lnTo>
                <a:close/>
              </a:path>
              <a:path fill="darkenLess" w="23976" h="21600">
                <a:moveTo>
                  <a:pt x="11065" y="14299"/>
                </a:moveTo>
                <a:lnTo>
                  <a:pt x="12911" y="14299"/>
                </a:lnTo>
                <a:lnTo>
                  <a:pt x="12911" y="17989"/>
                </a:lnTo>
                <a:lnTo>
                  <a:pt x="17297" y="17989"/>
                </a:lnTo>
                <a:lnTo>
                  <a:pt x="17297" y="10800"/>
                </a:lnTo>
                <a:lnTo>
                  <a:pt x="6679" y="10800"/>
                </a:lnTo>
                <a:lnTo>
                  <a:pt x="6679" y="17989"/>
                </a:lnTo>
                <a:lnTo>
                  <a:pt x="11065" y="17989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930920" y="6093000"/>
            <a:ext cx="1728720" cy="620640"/>
          </a:xfrm>
          <a:prstGeom prst="flowChartMultidocumen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Норматив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250920" y="1557360"/>
            <a:ext cx="2930400" cy="453708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6488280" y="1297080"/>
            <a:ext cx="2404800" cy="436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Содержание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91440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3" marL="1600200" indent="-22860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ff66"/>
                </a:solidFill>
                <a:uFillTx/>
                <a:latin typeface="Arial"/>
                <a:hlinkClick r:id="rId1" action="ppaction://hlinksldjump"/>
              </a:rPr>
              <a:t>Введен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ff66"/>
                </a:solidFill>
                <a:uFillTx/>
                <a:latin typeface="Arial"/>
                <a:hlinkClick r:id="rId2" action="ppaction://hlinksldjump"/>
              </a:rPr>
              <a:t>Время непрерывной работы за компьютеро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ff66"/>
                </a:solidFill>
                <a:uFillTx/>
                <a:latin typeface="Arial"/>
                <a:hlinkClick r:id="rId3" action="ppaction://hlinksldjump"/>
              </a:rPr>
              <a:t>Компьютер и утомление школьни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ff66"/>
                </a:solidFill>
                <a:uFillTx/>
                <a:latin typeface="Arial"/>
                <a:hlinkClick r:id="rId4" action="ppaction://hlinksldjump"/>
              </a:rPr>
              <a:t>Компьютер и зрен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ff66"/>
                </a:solidFill>
                <a:uFillTx/>
                <a:latin typeface="Arial"/>
                <a:hlinkClick r:id="rId5" action="ppaction://hlinksldjump"/>
              </a:rPr>
              <a:t>Освещение рабочего мест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ff66"/>
                </a:solidFill>
                <a:uFillTx/>
                <a:latin typeface="Arial"/>
                <a:hlinkClick r:id="rId6" action="ppaction://hlinksldjump"/>
              </a:rPr>
              <a:t>Размещение нескольких компьютер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ff66"/>
                </a:solidFill>
                <a:uFillTx/>
                <a:latin typeface="Arial"/>
                <a:hlinkClick r:id="rId7" action="ppaction://hlinksldjump"/>
              </a:rPr>
              <a:t>Конструктивные особенности рабочего кресл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ff66"/>
                </a:solidFill>
                <a:uFillTx/>
                <a:latin typeface="Arial"/>
                <a:hlinkClick r:id="rId8" action="ppaction://hlinksldjump"/>
              </a:rPr>
              <a:t>Рабочий компьютерный сто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b7"/>
                </a:solidFill>
                <a:latin typeface="Arial Black"/>
              </a:rPr>
              <a:t>Введение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Во время работы за компьютером лучевая трубка видеомонитора является источником электромагнитного излучения, которое при работе вблизи экрана неблагоприятно действует на зрение, вызывает усталость и снижение работоспособност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>
            <a:hlinkClick r:id="rId1" action="ppaction://hlinksldjump"/>
          </p:cNvPr>
          <p:cNvSpPr/>
          <p:nvPr/>
        </p:nvSpPr>
        <p:spPr>
          <a:xfrm>
            <a:off x="8101080" y="5950080"/>
            <a:ext cx="647640" cy="907920"/>
          </a:xfrm>
          <a:custGeom>
            <a:avLst/>
            <a:gdLst>
              <a:gd name="textAreaLeft" fmla="*/ 86760 w 647640"/>
              <a:gd name="textAreaRight" fmla="*/ 560880 w 647640"/>
              <a:gd name="textAreaTop" fmla="*/ 158760 h 907920"/>
              <a:gd name="textAreaBottom" fmla="*/ 658440 h 90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Содержа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987640" y="2492280"/>
            <a:ext cx="2673360" cy="267336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b7"/>
                </a:solidFill>
                <a:latin typeface="Arial Black"/>
              </a:rPr>
              <a:t>Время непрерывной работы за компьютером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8000" y="1905120"/>
            <a:ext cx="835164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Непрерывная длительность занятий за компьютером не должна превышать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для учащихся I классов (6 лет) - 10 минут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для учащихся II - V классов - 15 минут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для учащихся VI - VII классов - 20 минут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для учащихся VIII - IX классов -25 минут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для учащихся X - XI классов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на первом часу учебных занятий  - 30 минут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на втором часу - 20 минут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2" action="ppaction://hlinksldjump"/>
          </p:cNvPr>
          <p:cNvSpPr/>
          <p:nvPr/>
        </p:nvSpPr>
        <p:spPr>
          <a:xfrm>
            <a:off x="8101080" y="5950080"/>
            <a:ext cx="647640" cy="907920"/>
          </a:xfrm>
          <a:custGeom>
            <a:avLst/>
            <a:gdLst>
              <a:gd name="textAreaLeft" fmla="*/ 86760 w 647640"/>
              <a:gd name="textAreaRight" fmla="*/ 560880 w 647640"/>
              <a:gd name="textAreaTop" fmla="*/ 158760 h 907920"/>
              <a:gd name="textAreaBottom" fmla="*/ 658440 h 90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Содержа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771640" y="1989000"/>
            <a:ext cx="3738600" cy="328644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b7"/>
                </a:solidFill>
                <a:latin typeface="Arial Black"/>
              </a:rPr>
              <a:t>Компьютер и утомление школьника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ля снятия общего утомления, улучшения функционального состояния нервной, сердечно-сосудистой, дыхательной систем, а также мышц плечевого пояса, рук, спины, шеи и ног, следует проводить физкультпауз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ля снятия локального утомления индивидуально или организованно должны использоваться упражнения целенаправленного назначения под контролем учителя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омплексы упражнений следует менять через 2 - 3 недел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>
            <a:hlinkClick r:id="rId2" action="ppaction://hlinksldjump"/>
          </p:cNvPr>
          <p:cNvSpPr/>
          <p:nvPr/>
        </p:nvSpPr>
        <p:spPr>
          <a:xfrm>
            <a:off x="8101080" y="5950080"/>
            <a:ext cx="647640" cy="907920"/>
          </a:xfrm>
          <a:custGeom>
            <a:avLst/>
            <a:gdLst>
              <a:gd name="textAreaLeft" fmla="*/ 86760 w 647640"/>
              <a:gd name="textAreaRight" fmla="*/ 560880 w 647640"/>
              <a:gd name="textAreaTop" fmla="*/ 158760 h 907920"/>
              <a:gd name="textAreaBottom" fmla="*/ 658440 h 90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Содержа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12000" y="6093000"/>
            <a:ext cx="1439640" cy="549000"/>
          </a:xfrm>
          <a:prstGeom prst="foldedCorner">
            <a:avLst>
              <a:gd name="adj" fmla="val 12500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Упражне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2050920" y="1052640"/>
            <a:ext cx="4753080" cy="475272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0" y="1630080"/>
            <a:ext cx="91440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Для уменьшения зрительного напряжения важно следить за тем, чтобы изображение на экране компьютера было четким и контрастным. Необходимо также исключить возможность засветки экрана, поскольку блики снижают контрастность и яркость изображен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Экран видеомонитора должен находиться от глаз пользователя на расстоянии 600 - 700 мм, но не ближе 500 мм с учетом размеров алфавитно-цифровых знаков и символо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Уровень глаз при вертикально расположенном экране должен приходиться на центр или 2/3 высоты экрана. Линия взора должна быть перпендикулярна центру экрана. Оптимальное ее отклонение от перпендикуляра, проходящего через центр экрана в вертикальной плоскости, не должно превышать ±5 градусов, допустимое ±10 градусов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При работе с текстовой информацией предпочтение следует отдавать позитивному контрасту: темные знаки на светлом фоне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title"/>
          </p:nvPr>
        </p:nvSpPr>
        <p:spPr>
          <a:xfrm>
            <a:off x="457200" y="188640"/>
            <a:ext cx="838512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b7"/>
                </a:solidFill>
                <a:latin typeface="Arial Black"/>
              </a:rPr>
              <a:t>Компьютер и зрение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2" name="">
            <a:hlinkClick r:id="rId2" action="ppaction://hlinksldjump"/>
          </p:cNvPr>
          <p:cNvSpPr/>
          <p:nvPr/>
        </p:nvSpPr>
        <p:spPr>
          <a:xfrm>
            <a:off x="8101080" y="5950080"/>
            <a:ext cx="647640" cy="907920"/>
          </a:xfrm>
          <a:custGeom>
            <a:avLst/>
            <a:gdLst>
              <a:gd name="textAreaLeft" fmla="*/ 86760 w 647640"/>
              <a:gd name="textAreaRight" fmla="*/ 560880 w 647640"/>
              <a:gd name="textAreaTop" fmla="*/ 158760 h 907920"/>
              <a:gd name="textAreaBottom" fmla="*/ 658440 h 90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Содержа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012000" y="6093000"/>
            <a:ext cx="1439640" cy="549000"/>
          </a:xfrm>
          <a:prstGeom prst="foldedCorner">
            <a:avLst>
              <a:gd name="adj" fmla="val 12500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Упражне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b7"/>
                </a:solidFill>
                <a:latin typeface="Arial Black"/>
              </a:rPr>
              <a:t>Освещение рабочего места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23640" y="1904760"/>
            <a:ext cx="852156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омещение, где эксплуатируются компьютеры, должно иметь искусственное и естественное освещение. Желательно выбирать такие помещения, выходящие окнами на север и северо-восток и оборудованные регулируемыми устройствами типа жалюзи, занавесей, внешних козырьков и др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Компьютер лучше расположить так, чтобы свет на экран падал слева. Несмотря на то, что экран светится, занятия  должны проходить не в темном, а в  хорошо освещенном помещени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>
            <a:hlinkClick r:id="rId1" action="ppaction://hlinksldjump"/>
          </p:cNvPr>
          <p:cNvSpPr/>
          <p:nvPr/>
        </p:nvSpPr>
        <p:spPr>
          <a:xfrm>
            <a:off x="8101080" y="5950080"/>
            <a:ext cx="647640" cy="907920"/>
          </a:xfrm>
          <a:custGeom>
            <a:avLst/>
            <a:gdLst>
              <a:gd name="textAreaLeft" fmla="*/ 86760 w 647640"/>
              <a:gd name="textAreaRight" fmla="*/ 560880 w 647640"/>
              <a:gd name="textAreaTop" fmla="*/ 158760 h 907920"/>
              <a:gd name="textAreaBottom" fmla="*/ 658440 h 90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Содержа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" name=""/>
          <p:cNvGrpSpPr/>
          <p:nvPr/>
        </p:nvGrpSpPr>
        <p:grpSpPr>
          <a:xfrm>
            <a:off x="2050920" y="5186520"/>
            <a:ext cx="6119640" cy="1671480"/>
            <a:chOff x="2050920" y="5186520"/>
            <a:chExt cx="6119640" cy="1671480"/>
          </a:xfrm>
        </p:grpSpPr>
        <p:sp>
          <p:nvSpPr>
            <p:cNvPr id="128" name=""/>
            <p:cNvSpPr/>
            <p:nvPr/>
          </p:nvSpPr>
          <p:spPr>
            <a:xfrm>
              <a:off x="2050920" y="5661000"/>
              <a:ext cx="4103640" cy="1197000"/>
            </a:xfrm>
            <a:prstGeom prst="parallelogram">
              <a:avLst>
                <a:gd name="adj" fmla="val 47472"/>
              </a:avLst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303960" y="5186520"/>
              <a:ext cx="1866600" cy="609480"/>
            </a:xfr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Площадь не менее 6 кв.м.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b7"/>
                </a:solidFill>
                <a:latin typeface="Arial Black"/>
              </a:rPr>
              <a:t>Размещение нескольких компьютеров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90080" y="1341360"/>
            <a:ext cx="884556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Каждое рабочее место в компьютерном классе создает электромагнитное поле с радиусом 1,5м и более.  Оптимальное расположение оборудования должно исключать влияние излучения от компьютера на учащихся, работающих за другими компьютерами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Запрещается использование одного компьютера для одновременной работы двух и более школьников независимо от их возраст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>
            <a:hlinkClick r:id="rId1" action="ppaction://hlinksldjump"/>
          </p:cNvPr>
          <p:cNvSpPr/>
          <p:nvPr/>
        </p:nvSpPr>
        <p:spPr>
          <a:xfrm>
            <a:off x="8101080" y="5950080"/>
            <a:ext cx="647640" cy="907920"/>
          </a:xfrm>
          <a:custGeom>
            <a:avLst/>
            <a:gdLst>
              <a:gd name="textAreaLeft" fmla="*/ 86760 w 647640"/>
              <a:gd name="textAreaRight" fmla="*/ 560880 w 647640"/>
              <a:gd name="textAreaTop" fmla="*/ 158760 h 907920"/>
              <a:gd name="textAreaBottom" fmla="*/ 658440 h 90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Содержа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395280" y="3213000"/>
            <a:ext cx="3644640" cy="1440000"/>
            <a:chOff x="395280" y="3213000"/>
            <a:chExt cx="3644640" cy="1440000"/>
          </a:xfrm>
        </p:grpSpPr>
        <p:sp>
          <p:nvSpPr>
            <p:cNvPr id="134" name="computr2"/>
            <p:cNvSpPr/>
            <p:nvPr/>
          </p:nvSpPr>
          <p:spPr>
            <a:xfrm>
              <a:off x="395280" y="3323520"/>
              <a:ext cx="1533240" cy="13294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computr2"/>
            <p:cNvSpPr/>
            <p:nvPr/>
          </p:nvSpPr>
          <p:spPr>
            <a:xfrm>
              <a:off x="2506680" y="3318840"/>
              <a:ext cx="1533240" cy="132912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591920" y="3582360"/>
              <a:ext cx="1220040" cy="317160"/>
            </a:xfrm>
            <a:prstGeom prst="leftRightArrow">
              <a:avLst>
                <a:gd name="adj1" fmla="val 50000"/>
                <a:gd name="adj2" fmla="val 76579"/>
              </a:avLst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775160" y="3213000"/>
              <a:ext cx="914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&gt;1</a:t>
              </a:r>
              <a:r>
                <a:rPr b="1" lang="ru-RU" sz="2000" spc="-1" strike="noStrike">
                  <a:solidFill>
                    <a:srgbClr val="ffffff"/>
                  </a:solidFill>
                  <a:latin typeface="Arial"/>
                </a:rPr>
                <a:t>,2м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3780000" y="5024520"/>
            <a:ext cx="1795320" cy="183348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5219640" y="2781360"/>
            <a:ext cx="2594160" cy="2016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227640" y="2997360"/>
            <a:ext cx="86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&gt;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2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 Black"/>
              </a:rPr>
              <a:t>Конструктивные особенности рабочего кресла</a:t>
            </a:r>
            <a:br>
              <a:rPr sz="3600"/>
            </a:b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2" name="">
            <a:hlinkClick r:id="rId2" action="ppaction://hlinksldjump"/>
          </p:cNvPr>
          <p:cNvSpPr/>
          <p:nvPr/>
        </p:nvSpPr>
        <p:spPr>
          <a:xfrm>
            <a:off x="8101080" y="5950080"/>
            <a:ext cx="647640" cy="907920"/>
          </a:xfrm>
          <a:custGeom>
            <a:avLst/>
            <a:gdLst>
              <a:gd name="textAreaLeft" fmla="*/ 86760 w 647640"/>
              <a:gd name="textAreaRight" fmla="*/ 560880 w 647640"/>
              <a:gd name="textAreaTop" fmla="*/ 158760 h 907920"/>
              <a:gd name="textAreaBottom" fmla="*/ 658440 h 90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Содержа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867280" y="6165720"/>
            <a:ext cx="1729080" cy="621000"/>
          </a:xfrm>
          <a:prstGeom prst="flowChartMultidocumen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Норматив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3"/>
          <a:stretch/>
        </p:blipFill>
        <p:spPr>
          <a:xfrm>
            <a:off x="1476360" y="1268280"/>
            <a:ext cx="2714760" cy="381636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4"/>
          <a:stretch/>
        </p:blipFill>
        <p:spPr>
          <a:xfrm>
            <a:off x="5076720" y="2133720"/>
            <a:ext cx="2478240" cy="39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2T07:23:08Z</dcterms:created>
  <dc:creator>Admin</dc:creator>
  <dc:description/>
  <dc:language>en-US</dc:language>
  <cp:lastModifiedBy>Николайчук</cp:lastModifiedBy>
  <dcterms:modified xsi:type="dcterms:W3CDTF">2004-11-23T16:15:39Z</dcterms:modified>
  <cp:revision>27</cp:revision>
  <dc:subject/>
  <dc:title>Слайд 1</dc:title>
</cp:coreProperties>
</file>