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6C1-4873-4673-9A59-6CEE64FE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506-6E26-4C32-A0F5-250A68A3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0D3-3898-404B-A31E-CDB21FAA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D8A-3912-4731-B1FD-F7100054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8DB9-694D-4620-AA1C-131F8197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BEEA-1426-4EDF-815E-05E82911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EB5E-30CF-45A4-9A72-FAD4FB11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E98E-E980-46AF-9903-C204255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F196-B6F1-4071-A815-6C334BB2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2560-C4C7-4F93-A2DF-885B6FA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A6C6-6DD3-4B32-B9EF-9E21747A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7FB-BBFC-46DB-8746-3A4E4BED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DA78-3200-479A-9B79-8537728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5870-1DEC-423F-ADA5-ABBA8241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5F50-479D-421C-9534-36EB48B9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FA7-532F-46EA-9194-DA25D5AD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AF14-5BA2-4A73-ABDA-A5A8055C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458E-062D-424F-9A8C-875BC798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1481-D978-47D5-ACD2-98F856F8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86E4-82A0-4939-93DF-4BEF7D2E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C8E56-D231-4E4C-8C56-A82FCB00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08F21-2D98-4BF0-A497-E7C964EB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630-7693-4CE7-B486-DCAB562E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BE40-3804-498E-9FFF-FCFBD7F1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4C49-9FE3-44A9-8088-BFC4497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86155-6B62-4A41-A3A4-F5934B8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F726-1DE5-4CCA-9D0D-F052F83F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BBD8-4EB3-4C21-ADE1-A2A3AA2D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8BFA-C279-4B1F-804A-6DA5B22A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DB7BB-5A50-492D-A38E-6E071152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68E39-55FB-4E29-8335-D6DC43B0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F1A2-6A41-4B4B-9D32-BF0A895E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4C7DD-6268-46AF-AF2E-B557F014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686-FFC9-43F1-987D-237074D2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FC0C-A052-4EF3-B67C-322925B5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F736-D6AB-40E1-B9CE-AE352A87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4D12-82CA-42E5-A7E8-750898EC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3829-BA52-44ED-B50F-4AD32EE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A42A-4A18-4B8F-905C-D4E2F2CB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5F93-9801-4B8B-8684-8418D15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679E-4926-4CD4-8812-3EA5EBF7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ED6B8-F2EC-4D71-8D29-1EF20F97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BCB0-007C-46C8-9813-B5C705DC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80C24-84C5-4846-A5BA-1A34D712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873-A13C-4AD4-B6C5-09561CF5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610B9-2762-4D84-BCAB-745CC390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CDEF9-63EE-4160-9DC4-6DE61A11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45F07-8B68-4D25-8F6E-FFC1D0BD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A1B0D-A11D-4047-86DC-367222C1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C43E7-663A-4479-8264-63E9FF27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31E5-B866-404E-BF5F-AAAD1AD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05A8-283B-4DEB-B5B9-5BFB8DD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2DA7-19E2-478D-860E-535B824E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039F8-C39E-4780-B8EC-930575BD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85403-33F8-45D3-95D4-AD1FB91E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55D-5272-4A5A-8A49-951647FA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F6813-5D75-48C5-9969-5BF3500A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71590-90E3-4A7F-A6E3-8D62B0AA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B1656-FC72-4549-B7A7-96D6E6CB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535E-7F9B-42F5-AE65-A4A3507B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7D3BF-31F2-478B-8189-BA06C88E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DD612-FBDD-484C-889E-A8E8E762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59754-0C00-41DD-BFF4-B101483D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EE68E-26B6-45D3-89A2-CE884F1A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6F531-2D21-46F9-8610-2DAAAC50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EDD93-20CB-4116-9A03-9658B998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E36-93FD-490D-94FD-2A0E5082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C01A8-4941-4562-89D3-FEB4833B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7AB4-DF92-4E71-88D0-6C83AEA9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FDD3-9DEB-4D4A-B95A-809BF18E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730E7-679A-48C2-8B2A-6322CB1B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1FD6C-65FC-40B2-96B4-7723DDF5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064FD-07C2-4445-95D0-5656CBA3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7FA67-C482-4099-A17E-1C6C0BC5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ADB27-4885-4345-B4AB-0DBD587B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97D96-DB83-4619-A76E-53F99179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C532F-C77C-4D9E-8129-F5BB5B24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7D5-BE5B-4530-ABD5-F5AB35B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42471-0ABD-430A-B36E-390F1FA6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0D6F0-A908-4F8A-ABB0-9690FE27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27C2C-E7AB-4755-B87D-060DDCBE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F5390-881C-4138-8695-F083447A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7B4D0-61C1-4EB5-A5B7-AF0A9419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BB765-4825-4516-921A-00F49276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D632A-D2F0-47DA-A74F-71205F21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A9B6A-D873-436F-8C08-170983E6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99D1F-2B38-4ECF-B863-4A9F7A9C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C4B2E-2101-4AA9-BB0D-F66232CF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E3D-E517-4DE9-8BAE-1D5C371D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E8EBF-F020-4581-9FD3-4D90E89C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E4A97-7B60-4E7A-A746-5D6ABDA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649F2-5BCA-4803-B56D-9FB8C657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2C2FD-4E31-4910-B3A8-B53A87C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9B7B2-037B-422E-A613-11C107A7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B461-735E-4D3C-9E38-3CBA15DA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186FB-04AD-447D-8AFB-23259366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7358-0E64-4A31-9FD1-7CBC152192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30E7-561D-44C4-9243-AFF17102FB6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0CC2-F76A-40BC-8607-A41141EA69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2A7B-7522-476B-8B35-90E5F899A2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8DDA-80CC-4103-B4C6-1DDB258B3B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4452-3712-4689-879D-ACA52E1070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EF14-75F2-4C22-8CD5-C5455705CB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789C-C1BB-4749-96C1-DDF8D0F04B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3.xml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" Target="slide3.xml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9880" y="1963800"/>
            <a:ext cx="5334120" cy="48942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57909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Narrow"/>
              </a:rPr>
              <a:t>Техника безопасности в компьютерном классе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6" name="">
            <a:hlinkClick r:id="" action="ppaction://hlinkshowjump?jump=nextslide"/>
          </p:cNvPr>
          <p:cNvSpPr/>
          <p:nvPr/>
        </p:nvSpPr>
        <p:spPr>
          <a:xfrm>
            <a:off x="8307360" y="6129360"/>
            <a:ext cx="836640" cy="728640"/>
          </a:xfrm>
          <a:custGeom>
            <a:avLst/>
            <a:gdLst>
              <a:gd name="textAreaLeft" fmla="*/ 47160 w 836640"/>
              <a:gd name="textAreaRight" fmla="*/ 789480 w 83664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800" h="21600">
                <a:moveTo>
                  <a:pt x="0" y="0"/>
                </a:moveTo>
                <a:lnTo>
                  <a:pt x="24800" y="0"/>
                </a:lnTo>
                <a:lnTo>
                  <a:pt x="24800" y="21600"/>
                </a:lnTo>
                <a:lnTo>
                  <a:pt x="0" y="21600"/>
                </a:lnTo>
                <a:close/>
              </a:path>
              <a:path fill="lightenLess" w="24800" h="21600">
                <a:moveTo>
                  <a:pt x="0" y="0"/>
                </a:moveTo>
                <a:lnTo>
                  <a:pt x="24800" y="0"/>
                </a:lnTo>
                <a:lnTo>
                  <a:pt x="23400" y="1400"/>
                </a:lnTo>
                <a:lnTo>
                  <a:pt x="1400" y="1400"/>
                </a:lnTo>
                <a:close/>
              </a:path>
              <a:path fill="darken" w="24800" h="21600">
                <a:moveTo>
                  <a:pt x="24800" y="0"/>
                </a:moveTo>
                <a:lnTo>
                  <a:pt x="24800" y="21600"/>
                </a:lnTo>
                <a:lnTo>
                  <a:pt x="23400" y="20200"/>
                </a:lnTo>
                <a:lnTo>
                  <a:pt x="23400" y="1400"/>
                </a:lnTo>
                <a:close/>
              </a:path>
              <a:path fill="darkenLess" w="24800" h="21600">
                <a:moveTo>
                  <a:pt x="2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0" y="20200"/>
                </a:lnTo>
                <a:close/>
              </a:path>
              <a:path fill="lighten" w="2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00" h="21600">
                <a:moveTo>
                  <a:pt x="5394" y="3794"/>
                </a:moveTo>
                <a:lnTo>
                  <a:pt x="19406" y="10800"/>
                </a:lnTo>
                <a:lnTo>
                  <a:pt x="5394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имеры из жизн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гда нештатная ситуация поджидает вас в самом неожиданном месте. В комнате несколько дней пахло чем-то сладковато-карамельным. Оказалось, в настольную лампу с красивым пластмассовым плафоном вкрутили слишком «сильную» лампочку: 75 ватт вместо положенных 40. Жаль, что причина выяснилась, когда плафон, увы, расплавил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же знал, что в импортную пластмассу добавляют ароматизаторы, чтобы она приятно пахла при нагревани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8172360" y="5985000"/>
            <a:ext cx="971640" cy="873000"/>
          </a:xfrm>
          <a:custGeom>
            <a:avLst/>
            <a:gdLst>
              <a:gd name="textAreaLeft" fmla="*/ 56520 w 971640"/>
              <a:gd name="textAreaRight" fmla="*/ 915120 w 97164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4040" h="21600">
                <a:moveTo>
                  <a:pt x="0" y="0"/>
                </a:moveTo>
                <a:lnTo>
                  <a:pt x="24040" y="0"/>
                </a:lnTo>
                <a:lnTo>
                  <a:pt x="24040" y="21600"/>
                </a:lnTo>
                <a:lnTo>
                  <a:pt x="0" y="21600"/>
                </a:lnTo>
                <a:close/>
              </a:path>
              <a:path fill="lightenLess" w="24040" h="21600">
                <a:moveTo>
                  <a:pt x="0" y="0"/>
                </a:moveTo>
                <a:lnTo>
                  <a:pt x="24040" y="0"/>
                </a:lnTo>
                <a:lnTo>
                  <a:pt x="22640" y="1400"/>
                </a:lnTo>
                <a:lnTo>
                  <a:pt x="1400" y="1400"/>
                </a:lnTo>
                <a:close/>
              </a:path>
              <a:path fill="darken" w="24040" h="21600">
                <a:moveTo>
                  <a:pt x="24040" y="0"/>
                </a:moveTo>
                <a:lnTo>
                  <a:pt x="24040" y="21600"/>
                </a:lnTo>
                <a:lnTo>
                  <a:pt x="22640" y="20200"/>
                </a:lnTo>
                <a:lnTo>
                  <a:pt x="22640" y="1400"/>
                </a:lnTo>
                <a:close/>
              </a:path>
              <a:path fill="darkenLess" w="24040" h="21600">
                <a:moveTo>
                  <a:pt x="24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0" y="20200"/>
                </a:lnTo>
                <a:close/>
              </a:path>
              <a:path fill="lighten" w="24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0" h="21600">
                <a:moveTo>
                  <a:pt x="5013" y="3794"/>
                </a:moveTo>
                <a:lnTo>
                  <a:pt x="19026" y="10800"/>
                </a:lnTo>
                <a:lnTo>
                  <a:pt x="5013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все это значит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18043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учащиеся должны изучить правила ТБ при работе в компьютерном классе и расписаться в специальной графе журнала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Это поможет им сохрани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оровь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рогостоящую техн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шелек родит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можность дальнейшего обучения с использованием компьюте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8217000" y="5985000"/>
            <a:ext cx="927000" cy="873000"/>
          </a:xfrm>
          <a:custGeom>
            <a:avLst/>
            <a:gdLst>
              <a:gd name="textAreaLeft" fmla="*/ 56520 w 927000"/>
              <a:gd name="textAreaRight" fmla="*/ 870480 w 927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936" h="21600">
                <a:moveTo>
                  <a:pt x="0" y="0"/>
                </a:moveTo>
                <a:lnTo>
                  <a:pt x="22936" y="0"/>
                </a:lnTo>
                <a:lnTo>
                  <a:pt x="22936" y="21600"/>
                </a:lnTo>
                <a:lnTo>
                  <a:pt x="0" y="21600"/>
                </a:lnTo>
                <a:close/>
              </a:path>
              <a:path fill="lightenLess" w="22936" h="21600">
                <a:moveTo>
                  <a:pt x="0" y="0"/>
                </a:moveTo>
                <a:lnTo>
                  <a:pt x="22936" y="0"/>
                </a:lnTo>
                <a:lnTo>
                  <a:pt x="21536" y="1400"/>
                </a:lnTo>
                <a:lnTo>
                  <a:pt x="1400" y="1400"/>
                </a:lnTo>
                <a:close/>
              </a:path>
              <a:path fill="darken" w="22936" h="21600">
                <a:moveTo>
                  <a:pt x="22936" y="0"/>
                </a:moveTo>
                <a:lnTo>
                  <a:pt x="22936" y="21600"/>
                </a:lnTo>
                <a:lnTo>
                  <a:pt x="21536" y="20200"/>
                </a:lnTo>
                <a:lnTo>
                  <a:pt x="21536" y="1400"/>
                </a:lnTo>
                <a:close/>
              </a:path>
              <a:path fill="darkenLess" w="22936" h="21600">
                <a:moveTo>
                  <a:pt x="22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6" y="20200"/>
                </a:lnTo>
                <a:close/>
              </a:path>
              <a:path fill="lighten" w="22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6" h="21600">
                <a:moveTo>
                  <a:pt x="4461" y="3794"/>
                </a:moveTo>
                <a:lnTo>
                  <a:pt x="18474" y="10800"/>
                </a:lnTo>
                <a:lnTo>
                  <a:pt x="4461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41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ключ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2" name=""/>
          <p:cNvSpPr/>
          <p:nvPr/>
        </p:nvSpPr>
        <p:spPr>
          <a:xfrm>
            <a:off x="250920" y="1398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щиеся, нарушившие правила ТБ в компьютерном классе, от выполнения практических работ отстраняются. Сведения о нарушении передаются администрации школы, которая принимает соответствующие решения о наказании, возмещении причиненного ущерба и возможности дальнейших занятий в компьютерном классе. Допуск таких учащихся к работе возможен только после повторного инструктажа и сдачи зачета по ТБ с соответствующей записью в журнале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грубое нарушение ТБ учащиеся и их родители несут все виды ответственности, предусмотренные законами Р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34920" cy="873000"/>
          </a:xfrm>
          <a:custGeom>
            <a:avLst/>
            <a:gdLst>
              <a:gd name="textAreaLeft" fmla="*/ 56520 w 934920"/>
              <a:gd name="textAreaRight" fmla="*/ 878400 w 93492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3131" h="21600">
                <a:moveTo>
                  <a:pt x="0" y="0"/>
                </a:moveTo>
                <a:lnTo>
                  <a:pt x="23131" y="0"/>
                </a:lnTo>
                <a:lnTo>
                  <a:pt x="23131" y="21600"/>
                </a:lnTo>
                <a:lnTo>
                  <a:pt x="0" y="21600"/>
                </a:lnTo>
                <a:close/>
              </a:path>
              <a:path fill="lightenLess" w="23131" h="21600">
                <a:moveTo>
                  <a:pt x="0" y="0"/>
                </a:moveTo>
                <a:lnTo>
                  <a:pt x="23131" y="0"/>
                </a:lnTo>
                <a:lnTo>
                  <a:pt x="21731" y="1400"/>
                </a:lnTo>
                <a:lnTo>
                  <a:pt x="1400" y="1400"/>
                </a:lnTo>
                <a:close/>
              </a:path>
              <a:path fill="darken" w="23131" h="21600">
                <a:moveTo>
                  <a:pt x="23131" y="0"/>
                </a:moveTo>
                <a:lnTo>
                  <a:pt x="23131" y="21600"/>
                </a:lnTo>
                <a:lnTo>
                  <a:pt x="21731" y="20200"/>
                </a:lnTo>
                <a:lnTo>
                  <a:pt x="21731" y="1400"/>
                </a:lnTo>
                <a:close/>
              </a:path>
              <a:path fill="darkenLess" w="23131" h="21600">
                <a:moveTo>
                  <a:pt x="23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1" y="20200"/>
                </a:lnTo>
                <a:close/>
              </a:path>
              <a:path fill="lighten" w="23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1" h="21600">
                <a:moveTo>
                  <a:pt x="4559" y="3794"/>
                </a:moveTo>
                <a:lnTo>
                  <a:pt x="18572" y="10800"/>
                </a:lnTo>
                <a:lnTo>
                  <a:pt x="45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>
            <a:hlinkClick r:id="" action="ppaction://hlinkshowjump?jump=firstslide"/>
          </p:cNvPr>
          <p:cNvSpPr/>
          <p:nvPr/>
        </p:nvSpPr>
        <p:spPr>
          <a:xfrm>
            <a:off x="8101080" y="5877000"/>
            <a:ext cx="952560" cy="898560"/>
          </a:xfrm>
          <a:custGeom>
            <a:avLst/>
            <a:gdLst>
              <a:gd name="textAreaLeft" fmla="*/ 57960 w 952560"/>
              <a:gd name="textAreaRight" fmla="*/ 894600 w 95256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898" h="21600">
                <a:moveTo>
                  <a:pt x="0" y="0"/>
                </a:moveTo>
                <a:lnTo>
                  <a:pt x="22898" y="0"/>
                </a:lnTo>
                <a:lnTo>
                  <a:pt x="22898" y="21600"/>
                </a:lnTo>
                <a:lnTo>
                  <a:pt x="0" y="21600"/>
                </a:lnTo>
                <a:close/>
              </a:path>
              <a:path fill="lightenLess" w="22898" h="21600">
                <a:moveTo>
                  <a:pt x="0" y="0"/>
                </a:moveTo>
                <a:lnTo>
                  <a:pt x="22898" y="0"/>
                </a:lnTo>
                <a:lnTo>
                  <a:pt x="21498" y="1400"/>
                </a:lnTo>
                <a:lnTo>
                  <a:pt x="1400" y="1400"/>
                </a:lnTo>
                <a:close/>
              </a:path>
              <a:path fill="darken" w="22898" h="21600">
                <a:moveTo>
                  <a:pt x="22898" y="0"/>
                </a:moveTo>
                <a:lnTo>
                  <a:pt x="22898" y="21600"/>
                </a:lnTo>
                <a:lnTo>
                  <a:pt x="21498" y="20200"/>
                </a:lnTo>
                <a:lnTo>
                  <a:pt x="21498" y="1400"/>
                </a:lnTo>
                <a:close/>
              </a:path>
              <a:path fill="darkenLess" w="22898" h="21600">
                <a:moveTo>
                  <a:pt x="22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98" y="20200"/>
                </a:lnTo>
                <a:close/>
              </a:path>
              <a:path fill="lighten" w="22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98" h="21600">
                <a:moveTo>
                  <a:pt x="11449" y="3837"/>
                </a:moveTo>
                <a:lnTo>
                  <a:pt x="14025" y="6448"/>
                </a:ln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lnTo>
                  <a:pt x="18412" y="10800"/>
                </a:lnTo>
                <a:lnTo>
                  <a:pt x="16758" y="10800"/>
                </a:lnTo>
                <a:lnTo>
                  <a:pt x="16758" y="17989"/>
                </a:lnTo>
                <a:lnTo>
                  <a:pt x="6140" y="17989"/>
                </a:lnTo>
                <a:lnTo>
                  <a:pt x="6140" y="10800"/>
                </a:lnTo>
                <a:lnTo>
                  <a:pt x="4486" y="10800"/>
                </a:lnTo>
                <a:close/>
              </a:path>
              <a:path fill="darkenLess" w="22898" h="21600">
                <a:moveTo>
                  <a:pt x="14025" y="6448"/>
                </a:move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close/>
              </a:path>
              <a:path fill="darkenLess" w="22898" h="21600">
                <a:moveTo>
                  <a:pt x="10526" y="14299"/>
                </a:moveTo>
                <a:lnTo>
                  <a:pt x="12371" y="14299"/>
                </a:lnTo>
                <a:lnTo>
                  <a:pt x="12371" y="17989"/>
                </a:lnTo>
                <a:lnTo>
                  <a:pt x="16758" y="17989"/>
                </a:lnTo>
                <a:lnTo>
                  <a:pt x="16758" y="10800"/>
                </a:lnTo>
                <a:lnTo>
                  <a:pt x="6140" y="10800"/>
                </a:lnTo>
                <a:lnTo>
                  <a:pt x="6140" y="17989"/>
                </a:lnTo>
                <a:lnTo>
                  <a:pt x="10526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209680" y="763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ресс-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838080"/>
            <a:ext cx="853452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Comic Sans MS"/>
              </a:rPr>
              <a:t>Выбери один из предложенных вариантов от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При появлении признаков пожара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Воспользоваться огнетушителе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Отключить питание се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Сообщить учителю и организованно покинуть поме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480" y="311940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у соседа по компьютеру не ладится работа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Оставить свой  компьютер и выполнить задание за нег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Помочь совето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Пожаловаться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4902120"/>
            <a:ext cx="853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компьютер в процессе работы «зависает»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7" action="ppaction://hlinksldjump"/>
              </a:rPr>
              <a:t>Сообщить учителю и сделать запись в регистрационном журнал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8" action="ppaction://hlinksldjump"/>
              </a:rPr>
              <a:t>Открыть крышку системного блока и «пошевелить» материнскую плат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9" action="ppaction://hlinksldjump"/>
              </a:rPr>
              <a:t>Проверить системные устано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1640" y="1142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охо!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нимательно изучи материал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3390840" cy="556272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rId2" action="ppaction://hlinksldjump"/>
          </p:cNvPr>
          <p:cNvSpPr/>
          <p:nvPr/>
        </p:nvSpPr>
        <p:spPr>
          <a:xfrm>
            <a:off x="7991640" y="5772240"/>
            <a:ext cx="936360" cy="860400"/>
          </a:xfrm>
          <a:custGeom>
            <a:avLst/>
            <a:gdLst>
              <a:gd name="textAreaLeft" fmla="*/ 55440 w 936360"/>
              <a:gd name="textAreaRight" fmla="*/ 880920 w 936360"/>
              <a:gd name="textAreaTop" fmla="*/ 55440 h 860400"/>
              <a:gd name="textAreaBottom" fmla="*/ 804960 h 860400"/>
            </a:gdLst>
            <a:ahLst/>
            <a:rect l="textAreaLeft" t="textAreaTop" r="textAreaRight" b="textAreaBottom"/>
            <a:pathLst>
              <a:path w="23506" h="21600">
                <a:moveTo>
                  <a:pt x="0" y="0"/>
                </a:moveTo>
                <a:lnTo>
                  <a:pt x="23506" y="0"/>
                </a:lnTo>
                <a:lnTo>
                  <a:pt x="23506" y="21600"/>
                </a:lnTo>
                <a:lnTo>
                  <a:pt x="0" y="21600"/>
                </a:lnTo>
                <a:close/>
              </a:path>
              <a:path fill="lightenLess" w="23506" h="21600">
                <a:moveTo>
                  <a:pt x="0" y="0"/>
                </a:moveTo>
                <a:lnTo>
                  <a:pt x="23506" y="0"/>
                </a:lnTo>
                <a:lnTo>
                  <a:pt x="22106" y="1400"/>
                </a:lnTo>
                <a:lnTo>
                  <a:pt x="1400" y="1400"/>
                </a:lnTo>
                <a:close/>
              </a:path>
              <a:path fill="darken" w="23506" h="21600">
                <a:moveTo>
                  <a:pt x="23506" y="0"/>
                </a:moveTo>
                <a:lnTo>
                  <a:pt x="23506" y="21600"/>
                </a:lnTo>
                <a:lnTo>
                  <a:pt x="22106" y="20200"/>
                </a:lnTo>
                <a:lnTo>
                  <a:pt x="22106" y="1400"/>
                </a:lnTo>
                <a:close/>
              </a:path>
              <a:path fill="darkenLess" w="23506" h="21600">
                <a:moveTo>
                  <a:pt x="23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06" y="20200"/>
                </a:lnTo>
                <a:close/>
              </a:path>
              <a:path fill="lighten" w="23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06" h="21600">
                <a:moveTo>
                  <a:pt x="1175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506" h="21600">
                <a:moveTo>
                  <a:pt x="12858" y="14281"/>
                </a:moveTo>
                <a:lnTo>
                  <a:pt x="12858" y="12323"/>
                </a:lnTo>
                <a:cubicBezTo>
                  <a:pt x="12858" y="11496"/>
                  <a:pt x="13189" y="10800"/>
                  <a:pt x="13790" y="10800"/>
                </a:cubicBezTo>
                <a:cubicBezTo>
                  <a:pt x="14921" y="10800"/>
                  <a:pt x="15818" y="9434"/>
                  <a:pt x="15818" y="7849"/>
                </a:cubicBezTo>
                <a:cubicBezTo>
                  <a:pt x="15818" y="5534"/>
                  <a:pt x="13964" y="3794"/>
                  <a:pt x="11753" y="3794"/>
                </a:cubicBezTo>
                <a:cubicBezTo>
                  <a:pt x="9542" y="3794"/>
                  <a:pt x="7871" y="5534"/>
                  <a:pt x="7871" y="7849"/>
                </a:cubicBezTo>
                <a:lnTo>
                  <a:pt x="9725" y="7849"/>
                </a:lnTo>
                <a:cubicBezTo>
                  <a:pt x="9725" y="6709"/>
                  <a:pt x="10648" y="5821"/>
                  <a:pt x="11753" y="5821"/>
                </a:cubicBezTo>
                <a:cubicBezTo>
                  <a:pt x="12858" y="5821"/>
                  <a:pt x="13790" y="6709"/>
                  <a:pt x="13790" y="7849"/>
                </a:cubicBezTo>
                <a:cubicBezTo>
                  <a:pt x="13790" y="8589"/>
                  <a:pt x="13320" y="9320"/>
                  <a:pt x="12858" y="9320"/>
                </a:cubicBezTo>
                <a:cubicBezTo>
                  <a:pt x="11753" y="9320"/>
                  <a:pt x="10648" y="10800"/>
                  <a:pt x="10648" y="12323"/>
                </a:cubicBezTo>
                <a:lnTo>
                  <a:pt x="10648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лодец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твет верен!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3913200" cy="4113360"/>
          </a:xfrm>
          <a:prstGeom prst="rect">
            <a:avLst/>
          </a:prstGeom>
          <a:ln w="0">
            <a:noFill/>
          </a:ln>
        </p:spPr>
      </p:pic>
      <p:sp>
        <p:nvSpPr>
          <p:cNvPr id="714" name="">
            <a:hlinkClick r:id="rId3" action="ppaction://hlinksldjump"/>
          </p:cNvPr>
          <p:cNvSpPr/>
          <p:nvPr/>
        </p:nvSpPr>
        <p:spPr>
          <a:xfrm>
            <a:off x="8029440" y="5823000"/>
            <a:ext cx="971640" cy="882720"/>
          </a:xfrm>
          <a:custGeom>
            <a:avLst/>
            <a:gdLst>
              <a:gd name="textAreaLeft" fmla="*/ 56880 w 971640"/>
              <a:gd name="textAreaRight" fmla="*/ 914760 w 971640"/>
              <a:gd name="textAreaTop" fmla="*/ 56880 h 882720"/>
              <a:gd name="textAreaBottom" fmla="*/ 825840 h 882720"/>
            </a:gdLst>
            <a:ahLst/>
            <a:rect l="textAreaLeft" t="textAreaTop" r="textAreaRight" b="textAreaBottom"/>
            <a:pathLst>
              <a:path w="23775" h="21600">
                <a:moveTo>
                  <a:pt x="0" y="0"/>
                </a:moveTo>
                <a:lnTo>
                  <a:pt x="23775" y="0"/>
                </a:lnTo>
                <a:lnTo>
                  <a:pt x="23775" y="21600"/>
                </a:lnTo>
                <a:lnTo>
                  <a:pt x="0" y="21600"/>
                </a:lnTo>
                <a:close/>
              </a:path>
              <a:path fill="lightenLess" w="23775" h="21600">
                <a:moveTo>
                  <a:pt x="0" y="0"/>
                </a:moveTo>
                <a:lnTo>
                  <a:pt x="23775" y="0"/>
                </a:lnTo>
                <a:lnTo>
                  <a:pt x="22375" y="1400"/>
                </a:lnTo>
                <a:lnTo>
                  <a:pt x="1400" y="1400"/>
                </a:lnTo>
                <a:close/>
              </a:path>
              <a:path fill="darken" w="23775" h="21600">
                <a:moveTo>
                  <a:pt x="23775" y="0"/>
                </a:moveTo>
                <a:lnTo>
                  <a:pt x="23775" y="21600"/>
                </a:lnTo>
                <a:lnTo>
                  <a:pt x="22375" y="20200"/>
                </a:lnTo>
                <a:lnTo>
                  <a:pt x="22375" y="1400"/>
                </a:lnTo>
                <a:close/>
              </a:path>
              <a:path fill="darkenLess" w="23775" h="21600">
                <a:moveTo>
                  <a:pt x="23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5" y="20200"/>
                </a:lnTo>
                <a:close/>
              </a:path>
              <a:path fill="lighten" w="23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5" h="21600">
                <a:moveTo>
                  <a:pt x="1188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75" h="21600">
                <a:moveTo>
                  <a:pt x="12993" y="14281"/>
                </a:moveTo>
                <a:lnTo>
                  <a:pt x="12993" y="12323"/>
                </a:lnTo>
                <a:cubicBezTo>
                  <a:pt x="12993" y="11496"/>
                  <a:pt x="13324" y="10800"/>
                  <a:pt x="13924" y="10800"/>
                </a:cubicBezTo>
                <a:cubicBezTo>
                  <a:pt x="15056" y="10800"/>
                  <a:pt x="15952" y="9434"/>
                  <a:pt x="15952" y="7849"/>
                </a:cubicBezTo>
                <a:cubicBezTo>
                  <a:pt x="15952" y="5534"/>
                  <a:pt x="14098" y="3794"/>
                  <a:pt x="11887" y="3794"/>
                </a:cubicBezTo>
                <a:cubicBezTo>
                  <a:pt x="9677" y="3794"/>
                  <a:pt x="8006" y="5534"/>
                  <a:pt x="8006" y="7849"/>
                </a:cubicBezTo>
                <a:lnTo>
                  <a:pt x="9860" y="7849"/>
                </a:lnTo>
                <a:cubicBezTo>
                  <a:pt x="9860" y="6709"/>
                  <a:pt x="10782" y="5821"/>
                  <a:pt x="11887" y="5821"/>
                </a:cubicBezTo>
                <a:cubicBezTo>
                  <a:pt x="12993" y="5821"/>
                  <a:pt x="13924" y="6709"/>
                  <a:pt x="13924" y="7849"/>
                </a:cubicBezTo>
                <a:cubicBezTo>
                  <a:pt x="13924" y="8589"/>
                  <a:pt x="13454" y="9320"/>
                  <a:pt x="12993" y="9320"/>
                </a:cubicBezTo>
                <a:cubicBezTo>
                  <a:pt x="11887" y="9320"/>
                  <a:pt x="10782" y="10800"/>
                  <a:pt x="10782" y="12323"/>
                </a:cubicBezTo>
                <a:lnTo>
                  <a:pt x="10782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7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3693960" cy="22701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вед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чему актуален вопрос о технике безопасности в компьютерном клас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В кабинете вычислительной техники установлена дорогостоящая, сложная и требующая осторожного и аккуратного обращения аппаратура — компьютеры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принтер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ы и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другие технические средства.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Факты нахождения в кабинете большого количества техники, питающейся от электросети, с одновременным присутствием  школьников являются достаточными для выдвижения повышенных требований к безопасности такого поме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</p:cNvPr>
          <p:cNvSpPr/>
          <p:nvPr/>
        </p:nvSpPr>
        <p:spPr>
          <a:xfrm>
            <a:off x="8352000" y="605808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4175" y="3794"/>
                </a:moveTo>
                <a:lnTo>
                  <a:pt x="18187" y="10800"/>
                </a:lnTo>
                <a:lnTo>
                  <a:pt x="4175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962760" y="3724200"/>
            <a:ext cx="2181240" cy="31338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77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емы для обсуждения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Правила поведения в компьютерном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Правила электро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Правила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576360" y="3681360"/>
            <a:ext cx="3635640" cy="344952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ведения в компьютерном классе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6" name=""/>
          <p:cNvSpPr/>
          <p:nvPr/>
        </p:nvSpPr>
        <p:spPr>
          <a:xfrm>
            <a:off x="1727280" y="3097080"/>
            <a:ext cx="74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ходите в кабинет спокойно, не торопясь, не толкаясь, не задевая стол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анимайте отведенное вам мест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режно обращайтесь с технико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 кладите книги, тетради на монитор и клавиатур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пишитесь в журнал регистр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чинайте работу только по указанию преподав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лавно нажимайте на клавиши, не допуская резких ударо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 вставайте со своих мест, когда в кабинет входят посетител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1600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Чем отличаются правила поведения в компьютерном классе от правил поведения в школе?</a:t>
            </a:r>
            <a:br>
              <a:rPr sz="2000"/>
            </a:br>
            <a:r>
              <a:rPr b="1" lang="ru-RU" sz="2000" spc="-1" strike="noStrike">
                <a:solidFill>
                  <a:srgbClr val="ff9966"/>
                </a:solidFill>
                <a:latin typeface="Times New Roman"/>
              </a:rPr>
              <a:t>Правила поведения в компьютерном классе не противоречат общим правилам поведения в школе, но имеют ряд существенных добавле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3889"/>
                </a:moveTo>
                <a:lnTo>
                  <a:pt x="17806" y="10895"/>
                </a:lnTo>
                <a:lnTo>
                  <a:pt x="3794" y="1790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7000" y="-360"/>
            <a:ext cx="5032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бота о здоровь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0" y="1042560"/>
            <a:ext cx="8856720" cy="490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едует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работать на расстоянии 60—70 с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т экрана монитора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, допустимо не менее 50 см, соблюдая правильную посадку, не сутулясь, не наклоняяс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чащимся, имеющим очки для постоянного ношения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ледует работать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в очках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свещен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 должно быть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достаточ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ельзя работат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при плохом самочувств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ение при работе должно быть таким, чтобы линия взора приходилась в центр экрана. Не следует наклоняться и сутулиться при пользовании клавиатурой и чтении с экрана монит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ремя непрерывной работы за компьютером не должно превышать 3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>
            <a:hlinkClick r:id="rId1" action="ppaction://hlinksldjump"/>
          </p:cNvPr>
          <p:cNvSpPr/>
          <p:nvPr/>
        </p:nvSpPr>
        <p:spPr>
          <a:xfrm>
            <a:off x="8209080" y="5950080"/>
            <a:ext cx="900000" cy="873000"/>
          </a:xfrm>
          <a:custGeom>
            <a:avLst/>
            <a:gdLst>
              <a:gd name="textAreaLeft" fmla="*/ 56520 w 900000"/>
              <a:gd name="textAreaRight" fmla="*/ 843480 w 900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268" h="21600">
                <a:moveTo>
                  <a:pt x="0" y="0"/>
                </a:moveTo>
                <a:lnTo>
                  <a:pt x="22268" y="0"/>
                </a:lnTo>
                <a:lnTo>
                  <a:pt x="22268" y="21600"/>
                </a:lnTo>
                <a:lnTo>
                  <a:pt x="0" y="21600"/>
                </a:lnTo>
                <a:close/>
              </a:path>
              <a:path fill="lightenLess" w="22268" h="21600">
                <a:moveTo>
                  <a:pt x="0" y="0"/>
                </a:moveTo>
                <a:lnTo>
                  <a:pt x="22268" y="0"/>
                </a:lnTo>
                <a:lnTo>
                  <a:pt x="20868" y="1400"/>
                </a:lnTo>
                <a:lnTo>
                  <a:pt x="1400" y="1400"/>
                </a:lnTo>
                <a:close/>
              </a:path>
              <a:path fill="darken" w="22268" h="21600">
                <a:moveTo>
                  <a:pt x="22268" y="0"/>
                </a:moveTo>
                <a:lnTo>
                  <a:pt x="22268" y="21600"/>
                </a:lnTo>
                <a:lnTo>
                  <a:pt x="20868" y="20200"/>
                </a:lnTo>
                <a:lnTo>
                  <a:pt x="20868" y="1400"/>
                </a:lnTo>
                <a:close/>
              </a:path>
              <a:path fill="darkenLess" w="22268" h="21600">
                <a:moveTo>
                  <a:pt x="2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68" y="20200"/>
                </a:lnTo>
                <a:close/>
              </a:path>
              <a:path fill="lighten" w="2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19640" y="5977080"/>
            <a:ext cx="1513080" cy="944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236160 h 944280"/>
              <a:gd name="textAreaBottom" fmla="*/ 708480 h 944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н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rcRect l="15428" t="13841" r="3156" b="40692"/>
          <a:stretch/>
        </p:blipFill>
        <p:spPr>
          <a:xfrm>
            <a:off x="3311640" y="5938920"/>
            <a:ext cx="21952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laptop"/>
          <p:cNvSpPr/>
          <p:nvPr/>
        </p:nvSpPr>
        <p:spPr>
          <a:xfrm>
            <a:off x="3402000" y="3249720"/>
            <a:ext cx="1809720" cy="1361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208548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На рабочем мест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щегося в компьютерном классе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размещены составные части ПЭВМ — системный блок, клавиатура и монитор. Во время работы лучевая трубка монитора работает под высоким напряжением. Неправильное обращение с аппаратурой, кабелями и мониторами может привести к тяжелым поражениям электрическим током, вызвать загорание аппара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ower"/>
          <p:cNvSpPr/>
          <p:nvPr/>
        </p:nvSpPr>
        <p:spPr>
          <a:xfrm>
            <a:off x="297000" y="324000"/>
            <a:ext cx="90468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rinter2"/>
          <p:cNvSpPr/>
          <p:nvPr/>
        </p:nvSpPr>
        <p:spPr>
          <a:xfrm>
            <a:off x="297000" y="572436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электро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9" name="scanner1"/>
          <p:cNvSpPr/>
          <p:nvPr/>
        </p:nvSpPr>
        <p:spPr>
          <a:xfrm>
            <a:off x="7047000" y="72864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27000" cy="836640"/>
          </a:xfrm>
          <a:custGeom>
            <a:avLst/>
            <a:gdLst>
              <a:gd name="textAreaLeft" fmla="*/ 54000 w 927000"/>
              <a:gd name="textAreaRight" fmla="*/ 873000 w 927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932" h="21600">
                <a:moveTo>
                  <a:pt x="0" y="0"/>
                </a:moveTo>
                <a:lnTo>
                  <a:pt x="23932" y="0"/>
                </a:lnTo>
                <a:lnTo>
                  <a:pt x="23932" y="21600"/>
                </a:lnTo>
                <a:lnTo>
                  <a:pt x="0" y="21600"/>
                </a:lnTo>
                <a:close/>
              </a:path>
              <a:path fill="lightenLess" w="23932" h="21600">
                <a:moveTo>
                  <a:pt x="0" y="0"/>
                </a:moveTo>
                <a:lnTo>
                  <a:pt x="23932" y="0"/>
                </a:lnTo>
                <a:lnTo>
                  <a:pt x="22532" y="1400"/>
                </a:lnTo>
                <a:lnTo>
                  <a:pt x="1400" y="1400"/>
                </a:lnTo>
                <a:close/>
              </a:path>
              <a:path fill="darken" w="23932" h="21600">
                <a:moveTo>
                  <a:pt x="23932" y="0"/>
                </a:moveTo>
                <a:lnTo>
                  <a:pt x="23932" y="21600"/>
                </a:lnTo>
                <a:lnTo>
                  <a:pt x="22532" y="20200"/>
                </a:lnTo>
                <a:lnTo>
                  <a:pt x="22532" y="1400"/>
                </a:lnTo>
                <a:close/>
              </a:path>
              <a:path fill="darkenLess" w="23932" h="21600">
                <a:moveTo>
                  <a:pt x="2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32" y="20200"/>
                </a:lnTo>
                <a:close/>
              </a:path>
              <a:path fill="lighten" w="2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32" h="21600">
                <a:moveTo>
                  <a:pt x="4959" y="3794"/>
                </a:moveTo>
                <a:lnTo>
                  <a:pt x="18972" y="10800"/>
                </a:lnTo>
                <a:lnTo>
                  <a:pt x="49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4770360"/>
            <a:ext cx="2771640" cy="208764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трого запрещается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47280" y="1052640"/>
            <a:ext cx="9186840" cy="37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ть влажными и грязными ру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ходить в рабочую зону (за компьютер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рогать разъемы соединительных каб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питающим проводам и устройствам зазем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экрану и к тыльной стороне монитора, клавиа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лючать и отключать аппаратуру без указания преподава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самостоятельно устр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ь неисправнос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в работе аппаратур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>
            <a:hlinkClick r:id="rId2" action="ppaction://hlinksldjump"/>
          </p:cNvPr>
          <p:cNvSpPr/>
          <p:nvPr/>
        </p:nvSpPr>
        <p:spPr>
          <a:xfrm>
            <a:off x="8101080" y="5877000"/>
            <a:ext cx="971640" cy="936720"/>
          </a:xfrm>
          <a:custGeom>
            <a:avLst/>
            <a:gdLst>
              <a:gd name="textAreaLeft" fmla="*/ 60480 w 971640"/>
              <a:gd name="textAreaRight" fmla="*/ 911160 w 971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2405" h="21600">
                <a:moveTo>
                  <a:pt x="0" y="0"/>
                </a:moveTo>
                <a:lnTo>
                  <a:pt x="22405" y="0"/>
                </a:lnTo>
                <a:lnTo>
                  <a:pt x="22405" y="21600"/>
                </a:lnTo>
                <a:lnTo>
                  <a:pt x="0" y="21600"/>
                </a:lnTo>
                <a:close/>
              </a:path>
              <a:path fill="lightenLess" w="22405" h="21600">
                <a:moveTo>
                  <a:pt x="0" y="0"/>
                </a:moveTo>
                <a:lnTo>
                  <a:pt x="22405" y="0"/>
                </a:lnTo>
                <a:lnTo>
                  <a:pt x="21005" y="1400"/>
                </a:lnTo>
                <a:lnTo>
                  <a:pt x="1400" y="1400"/>
                </a:lnTo>
                <a:close/>
              </a:path>
              <a:path fill="darken" w="22405" h="21600">
                <a:moveTo>
                  <a:pt x="22405" y="0"/>
                </a:moveTo>
                <a:lnTo>
                  <a:pt x="22405" y="21600"/>
                </a:lnTo>
                <a:lnTo>
                  <a:pt x="21005" y="20200"/>
                </a:lnTo>
                <a:lnTo>
                  <a:pt x="21005" y="1400"/>
                </a:lnTo>
                <a:close/>
              </a:path>
              <a:path fill="darkenLess" w="22405" h="21600">
                <a:moveTo>
                  <a:pt x="2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5" y="20200"/>
                </a:lnTo>
                <a:close/>
              </a:path>
              <a:path fill="lighten" w="2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жарной 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6" name=""/>
          <p:cNvSpPr/>
          <p:nvPr/>
        </p:nvSpPr>
        <p:spPr>
          <a:xfrm>
            <a:off x="264960" y="2210760"/>
            <a:ext cx="844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О ИЗБЕЖАНИЕ ПОЖАРА НЕОБХОДИМО СТРОГО СОБЛЮДАТЬ СЛЕДУЮЩИЕ ТРЕБ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тоянно поддерживать порядок в рабочих помещениях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держать в чистоте свое рабочее мест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накапливать ненужных материал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загромождать проходы, выход, коридоры и доступ к средствам пожаротуш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ширина минимально допустимых проход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ежду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орудованием должна быть не менее 1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8128080" y="5913360"/>
            <a:ext cx="1015920" cy="944640"/>
          </a:xfrm>
          <a:custGeom>
            <a:avLst/>
            <a:gdLst>
              <a:gd name="textAreaLeft" fmla="*/ 61200 w 1015920"/>
              <a:gd name="textAreaRight" fmla="*/ 954720 w 101592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229" h="21600">
                <a:moveTo>
                  <a:pt x="0" y="0"/>
                </a:moveTo>
                <a:lnTo>
                  <a:pt x="23229" y="0"/>
                </a:lnTo>
                <a:lnTo>
                  <a:pt x="23229" y="21600"/>
                </a:lnTo>
                <a:lnTo>
                  <a:pt x="0" y="21600"/>
                </a:lnTo>
                <a:close/>
              </a:path>
              <a:path fill="lightenLess" w="23229" h="21600">
                <a:moveTo>
                  <a:pt x="0" y="0"/>
                </a:moveTo>
                <a:lnTo>
                  <a:pt x="23229" y="0"/>
                </a:lnTo>
                <a:lnTo>
                  <a:pt x="21829" y="1400"/>
                </a:lnTo>
                <a:lnTo>
                  <a:pt x="1400" y="1400"/>
                </a:lnTo>
                <a:close/>
              </a:path>
              <a:path fill="darken" w="23229" h="21600">
                <a:moveTo>
                  <a:pt x="23229" y="0"/>
                </a:moveTo>
                <a:lnTo>
                  <a:pt x="23229" y="21600"/>
                </a:lnTo>
                <a:lnTo>
                  <a:pt x="21829" y="20200"/>
                </a:lnTo>
                <a:lnTo>
                  <a:pt x="21829" y="1400"/>
                </a:lnTo>
                <a:close/>
              </a:path>
              <a:path fill="darkenLess" w="23229" h="21600">
                <a:moveTo>
                  <a:pt x="23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29" y="20200"/>
                </a:lnTo>
                <a:close/>
              </a:path>
              <a:path fill="lighten" w="23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29" h="21600">
                <a:moveTo>
                  <a:pt x="4608" y="3794"/>
                </a:moveTo>
                <a:lnTo>
                  <a:pt x="18621" y="10800"/>
                </a:lnTo>
                <a:lnTo>
                  <a:pt x="4608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6335640" y="138240"/>
            <a:ext cx="2529000" cy="20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7632720" y="1376280"/>
            <a:ext cx="1052640" cy="136836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6767640" y="2349360"/>
            <a:ext cx="2376360" cy="18288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0" y="4105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КАТЕГОРИЧЕСКИ ЗАПРЕЩАЕ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урить в помеще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льзоваться зажигалко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ешать одежду и класть горючие предметы на электрощиты, электропроводку и другое электрооборуд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>
            <a:hlinkClick r:id="rId3" action="ppaction://hlinksldjump"/>
          </p:cNvPr>
          <p:cNvSpPr/>
          <p:nvPr/>
        </p:nvSpPr>
        <p:spPr>
          <a:xfrm>
            <a:off x="8101080" y="5877000"/>
            <a:ext cx="1008000" cy="944640"/>
          </a:xfrm>
          <a:custGeom>
            <a:avLst/>
            <a:gdLst>
              <a:gd name="textAreaLeft" fmla="*/ 61200 w 1008000"/>
              <a:gd name="textAreaRight" fmla="*/ 946800 w 100800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048" h="21600">
                <a:moveTo>
                  <a:pt x="0" y="0"/>
                </a:moveTo>
                <a:lnTo>
                  <a:pt x="23048" y="0"/>
                </a:lnTo>
                <a:lnTo>
                  <a:pt x="23048" y="21600"/>
                </a:lnTo>
                <a:lnTo>
                  <a:pt x="0" y="21600"/>
                </a:lnTo>
                <a:close/>
              </a:path>
              <a:path fill="lightenLess" w="23048" h="21600">
                <a:moveTo>
                  <a:pt x="0" y="0"/>
                </a:moveTo>
                <a:lnTo>
                  <a:pt x="23048" y="0"/>
                </a:lnTo>
                <a:lnTo>
                  <a:pt x="21648" y="1400"/>
                </a:lnTo>
                <a:lnTo>
                  <a:pt x="1400" y="1400"/>
                </a:lnTo>
                <a:close/>
              </a:path>
              <a:path fill="darken" w="23048" h="21600">
                <a:moveTo>
                  <a:pt x="23048" y="0"/>
                </a:moveTo>
                <a:lnTo>
                  <a:pt x="23048" y="21600"/>
                </a:lnTo>
                <a:lnTo>
                  <a:pt x="21648" y="20200"/>
                </a:lnTo>
                <a:lnTo>
                  <a:pt x="21648" y="1400"/>
                </a:lnTo>
                <a:close/>
              </a:path>
              <a:path fill="darkenLess" w="23048" h="21600">
                <a:moveTo>
                  <a:pt x="23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8" y="20200"/>
                </a:lnTo>
                <a:close/>
              </a:path>
              <a:path fill="lighten" w="23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66920" y="6093000"/>
            <a:ext cx="2449800" cy="765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Подробн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000" y="36468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 НЕШТАТНЫХ СИТУАЦИЯ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 нештатных ситуациях, при нагревании  устройств, появлении постороннего запаха, звука необходимо немедленно поставить в известность преподавателя и в случае необходимости организованно покинуть поме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еры по ликвидации ситуации (отключать напряжение, вызывать пожарную команду по телефону 01) должно принимать лицо, ответственное за пожарную безопас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чук</cp:lastModifiedBy>
  <dcterms:modified xsi:type="dcterms:W3CDTF">2005-09-04T18:47:50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