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B03F-7ABB-4FAC-AE2E-3A38237321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04AA-6FFC-4E52-83E0-2EE09A4584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1AD1-915D-4BD0-818D-EA0D8AF6A6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8E2-D3E8-4761-91D2-6875ED8B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EE9-EC7F-4AC0-B59F-FFEFEA40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39A8D7-D651-46E7-96A2-FA2E9CE9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474162-9FEF-4928-B5B8-D3E43CA7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17B6A2-9300-4789-BC6A-2F454650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E6B3B6-5502-4B01-8483-1FDE4958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93D859-6177-44B1-941D-FC625D1F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40DD06-31B6-4A87-A08B-58AC1163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B88635-F2F0-49E3-A9FF-3D3529CC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D61B0D-C5C3-45B7-86D7-D64B9F66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74D563-6F36-4EA0-A37A-F7151016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904-3394-4666-873A-CF9B4AC9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500-96D5-48CD-ADEE-FEAEF4C1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EF453-BA74-40EE-A928-BF136D2A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5C077-690C-4F8E-88D5-BDC61A08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9A983-50B4-41A7-99EC-DE5ADCD6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99B7D-8995-4C65-8138-EF064AAB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56806-0292-4CDA-9CC3-5FF4DDA4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5CFC7-4C54-47F0-B87B-8262D500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BA9B9-A6BE-476E-9D3F-B0DD1FCD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CCB-0F99-42AE-A021-D82B93AC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4245C-A6D2-413A-856C-5973983D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40199-FA8D-444B-A5EB-1951D0B9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11735-7D32-426C-87C6-D934B4C7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8EED2-19A3-4798-BB9D-F5C947EA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61543-D1BC-44D6-A449-01DD6172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0ABD5-B913-4FE9-9595-12768287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1E83A-3AB8-4D41-9D12-A3D952A1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A6C9-5A48-4409-B618-05C45619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2AF6A-5667-40D4-8E12-CA80AA71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B57B1-C86C-406C-A474-AA1AC406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732-55BC-4A11-A214-7EC8CEE6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47D1B-0A54-4E4C-AA7C-4843BFFE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87F93-FFA6-48F3-AE04-81289E55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FDBAF-7507-478B-A300-5E8485E6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E8C3A-9FC3-42E3-876F-3DAE8C72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84D51-1713-4979-A6C7-CCE49947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7CE7C-255F-4997-945E-38F4704B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65893-F534-4332-8E14-EAA08856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1CE4EC-A220-4FB2-AC8C-7AA4A34B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F127A6-2BB5-464A-9F61-3664BAAF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9B22AB-27E9-4F71-AC3D-2B358CE1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87F9-E2AD-4E6E-9795-BA583B02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E39BF-9243-4900-99FB-FB511DAC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6B35C-C6D0-4E12-801E-2E33DF67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12CCE-619C-4609-9401-A695EFDD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3DCEE-BCA4-4392-9993-7A817EE2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96616-8877-4EB6-9AA8-60758E26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A51BA4-3BA8-4D2A-89AC-B6F0BE20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157084-3AD0-463B-AD3E-0106791D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4AC3A-4266-4300-8118-6B63B634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1CB011-FCA5-4943-AA0D-8ADB9AB9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E6EB1-29B2-4CE6-BF4F-2260033D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D53-6ABC-4427-82FE-3611E762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AAAB6-64BF-4199-9A98-B3F07B72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B2076-9566-4D75-88C4-2907B6EA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FE3FB-E7F0-4F1A-8185-33302670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F08F8-F56A-4027-93EE-CF723CAA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0B7A0-F1DA-4A48-B188-88B7CC36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9AC84-F339-4A11-B2C7-84776D53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A90AA-09AC-432A-8F36-826F4F8F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38E38-3B07-4743-A093-9FE6AE5F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DD709-9A5D-4357-8A7A-8C14B20E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24056-5F11-4547-9B88-41BD37F6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922F-9BF6-467E-9219-47A16B72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98076-66A7-40D3-ADEE-6495AD02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D5097-CBEF-4C34-8391-E3ECDB53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8DF21-C805-43CC-AB5F-F6B4ED66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20D2B-C35B-4309-AB44-23259D29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32A42-D4E1-47EC-A36D-5EDF1463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9A3D7-6D8B-4A9E-A903-C8F55E42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F5491-77E3-4732-A006-E99A66EF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D1C88-94DC-4E20-ACC5-1B23D32E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0FECB-0F64-476A-A3F1-CE96E259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80550-5D86-4E88-9017-53012464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19F-6EDC-4F0A-8AE8-5407DAF9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74EB2-FDDE-4091-88EA-41DDFBF3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33DC2-E958-49C6-9C2C-B2E0FE92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813AF-4B8C-4325-AB9C-A9788E00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113F6-9508-41D6-9B7E-9D0589D4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CF9FC-5766-4CD4-8013-31EDB69D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9575D-F6EE-49CC-BF27-C020E3CD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58DBF-AE8C-48C3-A670-689CFBDD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B6AB2-B073-40DE-981A-A560B17C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E1770-334E-4183-BC54-E56116AC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14414-4E83-4F5D-A2A9-EB58F4E3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1D1-8E9A-4D9F-95C1-BB8DD2A5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C29E4-1F86-4A7C-A45C-A8E926C1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AB65B-02F3-4A03-9324-2E93587A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9CCFF-4C3D-4273-9D43-B14CAFE1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2E4A5-3A29-42BF-979E-DC7094DD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46DEA-F9D6-4079-811A-81AEB724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4C1436-FB3E-4B7C-BA7F-D750DBC4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8F4EF7-5387-4860-A809-D8A48FC6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6D7A8A-6349-4486-BCE2-867F3455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2CAD5E-3AC0-46F9-8B90-29642453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6B054F-81BB-4C07-912A-D3098294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EC6-AD17-4BA1-A9C9-853964FC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EC536B-E150-4BE2-9B09-D5C1C12C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FB0E4F-A22F-4182-B626-B0B920CE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8633CC-7B0F-4DDE-826B-22A7D6EB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D1DB5E-44D7-4F51-8DFD-5BA42041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5A0D57-C3E6-44C2-9389-E1324295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9310B8-74D4-4B92-B89F-330C2BE9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DCB09E-492A-4F0E-B5D7-ABFDD673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C5D470-5E50-4F84-A48F-204E957E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9A19E6-BDF7-4B39-A433-6FB9D550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50242C-3589-4401-8DD0-AF076DF6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125C-03A0-48FE-9E7B-4AA96DBD5CA5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3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3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38AB-1706-4751-B2E8-7BDDDD539FA0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3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E4A8-A913-4D25-A850-181A7C57583B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3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304C-AF7D-4236-BDBD-28262C182E49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4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B9A9-3573-494C-B4CC-4F4E8DCA1060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6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FAA8-ECA4-47DF-B48C-280A17FADF59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2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CDCB-856E-44B2-9438-E3883F31D12C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4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0308-075F-49A4-91D9-3901487F87A4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53E6-7425-4504-B128-0CC34FCD096C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642960" y="86508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75439"/>
                </a:solidFill>
                <a:latin typeface="Arial"/>
              </a:rPr>
              <a:t>ТРЕНАЖЁРЫ</a:t>
            </a:r>
            <a:br>
              <a:rPr sz="4000"/>
            </a:br>
            <a:r>
              <a:rPr b="1" i="1" lang="ru-RU" sz="4000" spc="-1" strike="noStrike">
                <a:solidFill>
                  <a:srgbClr val="375439"/>
                </a:solidFill>
                <a:latin typeface="Arial"/>
              </a:rPr>
              <a:t>ПО ТЕМЕ: ПОДОБНЫЕ ТРЕУГОЛЬН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Рисунок 2" descr="3c4.gif"/>
          <p:cNvPicPr/>
          <p:nvPr/>
        </p:nvPicPr>
        <p:blipFill>
          <a:blip r:embed="rId2"/>
          <a:stretch/>
        </p:blipFill>
        <p:spPr>
          <a:xfrm>
            <a:off x="3286080" y="3286080"/>
            <a:ext cx="2928960" cy="1928880"/>
          </a:xfrm>
          <a:prstGeom prst="rect">
            <a:avLst/>
          </a:prstGeom>
          <a:ln w="0">
            <a:noFill/>
          </a:ln>
        </p:spPr>
      </p:pic>
      <p:sp>
        <p:nvSpPr>
          <p:cNvPr id="403" name="TextBox 4"/>
          <p:cNvSpPr/>
          <p:nvPr/>
        </p:nvSpPr>
        <p:spPr>
          <a:xfrm>
            <a:off x="1875600" y="5786280"/>
            <a:ext cx="55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439"/>
                </a:solidFill>
                <a:latin typeface="Arial"/>
              </a:rPr>
              <a:t>учитель математики МОУ Новолядинской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439"/>
                </a:solidFill>
                <a:latin typeface="Arial"/>
              </a:rPr>
              <a:t>Шпилёва  Елена  Вита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72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5"/>
          <p:cNvSpPr/>
          <p:nvPr/>
        </p:nvSpPr>
        <p:spPr>
          <a:xfrm>
            <a:off x="285840" y="1214280"/>
            <a:ext cx="92844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Задача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6"/>
          <p:cNvSpPr/>
          <p:nvPr/>
        </p:nvSpPr>
        <p:spPr>
          <a:xfrm>
            <a:off x="285840" y="1571760"/>
            <a:ext cx="92844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Задача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7"/>
          <p:cNvSpPr/>
          <p:nvPr/>
        </p:nvSpPr>
        <p:spPr>
          <a:xfrm>
            <a:off x="285840" y="1928880"/>
            <a:ext cx="92844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Задача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8"/>
          <p:cNvSpPr/>
          <p:nvPr/>
        </p:nvSpPr>
        <p:spPr>
          <a:xfrm>
            <a:off x="285840" y="2286000"/>
            <a:ext cx="92844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Задача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9"/>
          <p:cNvSpPr/>
          <p:nvPr/>
        </p:nvSpPr>
        <p:spPr>
          <a:xfrm>
            <a:off x="285840" y="2643120"/>
            <a:ext cx="92844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Задача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10"/>
          <p:cNvSpPr/>
          <p:nvPr/>
        </p:nvSpPr>
        <p:spPr>
          <a:xfrm>
            <a:off x="214200" y="1214280"/>
            <a:ext cx="100008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mbria"/>
              </a:rPr>
              <a:t>Верно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11"/>
          <p:cNvSpPr/>
          <p:nvPr/>
        </p:nvSpPr>
        <p:spPr>
          <a:xfrm>
            <a:off x="214200" y="1571760"/>
            <a:ext cx="100008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mbria"/>
              </a:rPr>
              <a:t>Верно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12"/>
          <p:cNvSpPr/>
          <p:nvPr/>
        </p:nvSpPr>
        <p:spPr>
          <a:xfrm>
            <a:off x="214200" y="1928880"/>
            <a:ext cx="100008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mbria"/>
              </a:rPr>
              <a:t>Верно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13"/>
          <p:cNvSpPr/>
          <p:nvPr/>
        </p:nvSpPr>
        <p:spPr>
          <a:xfrm>
            <a:off x="214200" y="2286000"/>
            <a:ext cx="100008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mbria"/>
              </a:rPr>
              <a:t>Верно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14"/>
          <p:cNvSpPr/>
          <p:nvPr/>
        </p:nvSpPr>
        <p:spPr>
          <a:xfrm>
            <a:off x="214200" y="2643120"/>
            <a:ext cx="100008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mbria"/>
              </a:rPr>
              <a:t>Верно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15"/>
          <p:cNvSpPr/>
          <p:nvPr/>
        </p:nvSpPr>
        <p:spPr>
          <a:xfrm>
            <a:off x="214200" y="1214280"/>
            <a:ext cx="10000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mbria"/>
              </a:rPr>
              <a:t>Неверно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16"/>
          <p:cNvSpPr/>
          <p:nvPr/>
        </p:nvSpPr>
        <p:spPr>
          <a:xfrm>
            <a:off x="214200" y="1571760"/>
            <a:ext cx="10000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mbria"/>
              </a:rPr>
              <a:t>Неверно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214200" y="1928880"/>
            <a:ext cx="10000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mbria"/>
              </a:rPr>
              <a:t>Неверно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18"/>
          <p:cNvSpPr/>
          <p:nvPr/>
        </p:nvSpPr>
        <p:spPr>
          <a:xfrm>
            <a:off x="214200" y="2286000"/>
            <a:ext cx="10000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mbria"/>
              </a:rPr>
              <a:t>Неверно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19"/>
          <p:cNvSpPr/>
          <p:nvPr/>
        </p:nvSpPr>
        <p:spPr>
          <a:xfrm>
            <a:off x="214200" y="2643120"/>
            <a:ext cx="10000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mbria"/>
              </a:rPr>
              <a:t>Неверно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857160" y="301680"/>
            <a:ext cx="807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5439"/>
                </a:solidFill>
                <a:latin typeface="Arial"/>
              </a:rPr>
              <a:t>Какому из данных треугольников подобен новый треугольник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Группа 79"/>
          <p:cNvGrpSpPr/>
          <p:nvPr/>
        </p:nvGrpSpPr>
        <p:grpSpPr>
          <a:xfrm>
            <a:off x="-2500200" y="6858000"/>
            <a:ext cx="3263400" cy="2174760"/>
            <a:chOff x="-2500200" y="6858000"/>
            <a:chExt cx="3263400" cy="2174760"/>
          </a:xfrm>
        </p:grpSpPr>
        <p:grpSp>
          <p:nvGrpSpPr>
            <p:cNvPr id="422" name="Группа 81"/>
            <p:cNvGrpSpPr/>
            <p:nvPr/>
          </p:nvGrpSpPr>
          <p:grpSpPr>
            <a:xfrm>
              <a:off x="-1787040" y="7356960"/>
              <a:ext cx="2550240" cy="1675800"/>
              <a:chOff x="-1787040" y="7356960"/>
              <a:chExt cx="2550240" cy="1675800"/>
            </a:xfrm>
          </p:grpSpPr>
          <p:grpSp>
            <p:nvGrpSpPr>
              <p:cNvPr id="423" name="Group 39"/>
              <p:cNvGrpSpPr/>
              <p:nvPr/>
            </p:nvGrpSpPr>
            <p:grpSpPr>
              <a:xfrm>
                <a:off x="-1787040" y="7356960"/>
                <a:ext cx="2550240" cy="1675800"/>
                <a:chOff x="-1787040" y="7356960"/>
                <a:chExt cx="2550240" cy="1675800"/>
              </a:xfrm>
            </p:grpSpPr>
            <p:sp>
              <p:nvSpPr>
                <p:cNvPr id="424" name="AutoShape 40"/>
                <p:cNvSpPr/>
                <p:nvPr/>
              </p:nvSpPr>
              <p:spPr>
                <a:xfrm rot="5861400">
                  <a:off x="-1195920" y="7000200"/>
                  <a:ext cx="1368360" cy="238860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c00000"/>
                    </a:gs>
                    <a:gs pos="100000">
                      <a:srgbClr val="cc3399"/>
                    </a:gs>
                  </a:gsLst>
                  <a:path path="rect">
                    <a:fillToRect l="50000" t="50000" r="50000" b="50000"/>
                  </a:path>
                </a:gra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41"/>
                <p:cNvSpPr/>
                <p:nvPr/>
              </p:nvSpPr>
              <p:spPr>
                <a:xfrm rot="5757600">
                  <a:off x="-1633320" y="7368480"/>
                  <a:ext cx="208800" cy="20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cc3399"/>
                    </a:gs>
                  </a:gsLst>
                  <a:path path="rect">
                    <a:fillToRect l="50000" t="50000" r="50000" b="50000"/>
                  </a:path>
                </a:gra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TextBox 76"/>
              <p:cNvSpPr/>
              <p:nvPr/>
            </p:nvSpPr>
            <p:spPr>
              <a:xfrm rot="20248200">
                <a:off x="-1736280" y="7871400"/>
                <a:ext cx="2026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c0beaf"/>
                    </a:solidFill>
                    <a:latin typeface="Arial"/>
                  </a:rPr>
                  <a:t>Новый треугольник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Rectangle 43"/>
            <p:cNvSpPr/>
            <p:nvPr/>
          </p:nvSpPr>
          <p:spPr>
            <a:xfrm>
              <a:off x="-999720" y="6858000"/>
              <a:ext cx="4381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4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Rectangle 42"/>
            <p:cNvSpPr/>
            <p:nvPr/>
          </p:nvSpPr>
          <p:spPr>
            <a:xfrm>
              <a:off x="-928440" y="8501040"/>
              <a:ext cx="51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5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44"/>
            <p:cNvSpPr/>
            <p:nvPr/>
          </p:nvSpPr>
          <p:spPr>
            <a:xfrm>
              <a:off x="-2500200" y="7858080"/>
              <a:ext cx="4381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Группа 94"/>
          <p:cNvGrpSpPr/>
          <p:nvPr/>
        </p:nvGrpSpPr>
        <p:grpSpPr>
          <a:xfrm>
            <a:off x="3500280" y="1130760"/>
            <a:ext cx="1529640" cy="2012400"/>
            <a:chOff x="3500280" y="1130760"/>
            <a:chExt cx="1529640" cy="2012400"/>
          </a:xfrm>
        </p:grpSpPr>
        <p:grpSp>
          <p:nvGrpSpPr>
            <p:cNvPr id="431" name="Group 4"/>
            <p:cNvGrpSpPr/>
            <p:nvPr/>
          </p:nvGrpSpPr>
          <p:grpSpPr>
            <a:xfrm>
              <a:off x="3850200" y="1130760"/>
              <a:ext cx="1179720" cy="1594440"/>
              <a:chOff x="3850200" y="1130760"/>
              <a:chExt cx="1179720" cy="1594440"/>
            </a:xfrm>
          </p:grpSpPr>
          <p:sp>
            <p:nvSpPr>
              <p:cNvPr id="432" name="AutoShape 5"/>
              <p:cNvSpPr/>
              <p:nvPr/>
            </p:nvSpPr>
            <p:spPr>
              <a:xfrm rot="873600">
                <a:off x="4016160" y="1214280"/>
                <a:ext cx="847800" cy="1427040"/>
              </a:xfrm>
              <a:prstGeom prst="rtTriangle">
                <a:avLst/>
              </a:prstGeom>
              <a:gradFill rotWithShape="0">
                <a:gsLst>
                  <a:gs pos="0">
                    <a:srgbClr val="ff9429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Rectangle 6"/>
              <p:cNvSpPr/>
              <p:nvPr/>
            </p:nvSpPr>
            <p:spPr>
              <a:xfrm rot="873600">
                <a:off x="3869280" y="2364480"/>
                <a:ext cx="158760" cy="171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Rectangle 7"/>
            <p:cNvSpPr/>
            <p:nvPr/>
          </p:nvSpPr>
          <p:spPr>
            <a:xfrm>
              <a:off x="3500280" y="1574640"/>
              <a:ext cx="431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8"/>
            <p:cNvSpPr/>
            <p:nvPr/>
          </p:nvSpPr>
          <p:spPr>
            <a:xfrm>
              <a:off x="3857400" y="2617920"/>
              <a:ext cx="43164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9"/>
            <p:cNvSpPr/>
            <p:nvPr/>
          </p:nvSpPr>
          <p:spPr>
            <a:xfrm>
              <a:off x="4500720" y="1574640"/>
              <a:ext cx="431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Text Box 64"/>
          <p:cNvSpPr/>
          <p:nvPr/>
        </p:nvSpPr>
        <p:spPr>
          <a:xfrm>
            <a:off x="4786200" y="2214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=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Группа 95"/>
          <p:cNvGrpSpPr/>
          <p:nvPr/>
        </p:nvGrpSpPr>
        <p:grpSpPr>
          <a:xfrm>
            <a:off x="5418360" y="1071720"/>
            <a:ext cx="3004920" cy="2266920"/>
            <a:chOff x="5418360" y="1071720"/>
            <a:chExt cx="3004920" cy="2266920"/>
          </a:xfrm>
        </p:grpSpPr>
        <p:sp>
          <p:nvSpPr>
            <p:cNvPr id="439" name="AutoShape 12"/>
            <p:cNvSpPr/>
            <p:nvPr/>
          </p:nvSpPr>
          <p:spPr>
            <a:xfrm rot="10841400">
              <a:off x="5428800" y="1572840"/>
              <a:ext cx="2429280" cy="1751040"/>
            </a:xfrm>
            <a:prstGeom prst="rtTriangle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adf1b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13"/>
            <p:cNvSpPr/>
            <p:nvPr/>
          </p:nvSpPr>
          <p:spPr>
            <a:xfrm rot="10841400">
              <a:off x="7633800" y="1571400"/>
              <a:ext cx="212760" cy="205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adf1b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Rectangle 14"/>
            <p:cNvSpPr/>
            <p:nvPr/>
          </p:nvSpPr>
          <p:spPr>
            <a:xfrm>
              <a:off x="8001000" y="2071800"/>
              <a:ext cx="4222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Rectangle 15"/>
            <p:cNvSpPr/>
            <p:nvPr/>
          </p:nvSpPr>
          <p:spPr>
            <a:xfrm>
              <a:off x="6786360" y="1071720"/>
              <a:ext cx="423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Rectangle 34"/>
            <p:cNvSpPr/>
            <p:nvPr/>
          </p:nvSpPr>
          <p:spPr>
            <a:xfrm>
              <a:off x="6286320" y="2357640"/>
              <a:ext cx="4222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Text Box 67"/>
          <p:cNvSpPr/>
          <p:nvPr/>
        </p:nvSpPr>
        <p:spPr>
          <a:xfrm>
            <a:off x="7429680" y="10000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= 0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Группа 96"/>
          <p:cNvGrpSpPr/>
          <p:nvPr/>
        </p:nvGrpSpPr>
        <p:grpSpPr>
          <a:xfrm>
            <a:off x="6858000" y="3357720"/>
            <a:ext cx="1890720" cy="1898640"/>
            <a:chOff x="6858000" y="3357720"/>
            <a:chExt cx="1890720" cy="1898640"/>
          </a:xfrm>
        </p:grpSpPr>
        <p:pic>
          <p:nvPicPr>
            <p:cNvPr id="446" name="Group 29" descr=""/>
            <p:cNvPicPr/>
            <p:nvPr/>
          </p:nvPicPr>
          <p:blipFill>
            <a:blip r:embed="rId2"/>
            <a:stretch/>
          </p:blipFill>
          <p:spPr>
            <a:xfrm>
              <a:off x="7051680" y="3521880"/>
              <a:ext cx="1597680" cy="17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Rectangle 32"/>
            <p:cNvSpPr/>
            <p:nvPr/>
          </p:nvSpPr>
          <p:spPr>
            <a:xfrm>
              <a:off x="8011440" y="4632120"/>
              <a:ext cx="4690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Rectangle 33"/>
            <p:cNvSpPr/>
            <p:nvPr/>
          </p:nvSpPr>
          <p:spPr>
            <a:xfrm>
              <a:off x="8277480" y="3357720"/>
              <a:ext cx="471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Rectangle 35"/>
            <p:cNvSpPr/>
            <p:nvPr/>
          </p:nvSpPr>
          <p:spPr>
            <a:xfrm>
              <a:off x="6858000" y="3931200"/>
              <a:ext cx="4712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Text Box 64"/>
          <p:cNvSpPr/>
          <p:nvPr/>
        </p:nvSpPr>
        <p:spPr>
          <a:xfrm>
            <a:off x="7786800" y="54291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Группа 93"/>
          <p:cNvGrpSpPr/>
          <p:nvPr/>
        </p:nvGrpSpPr>
        <p:grpSpPr>
          <a:xfrm>
            <a:off x="1714680" y="1657080"/>
            <a:ext cx="1768680" cy="2953800"/>
            <a:chOff x="1714680" y="1657080"/>
            <a:chExt cx="1768680" cy="2953800"/>
          </a:xfrm>
        </p:grpSpPr>
        <p:sp>
          <p:nvSpPr>
            <p:cNvPr id="452" name="AutoShape 24"/>
            <p:cNvSpPr/>
            <p:nvPr/>
          </p:nvSpPr>
          <p:spPr>
            <a:xfrm rot="21174000">
              <a:off x="2259000" y="1714320"/>
              <a:ext cx="1081080" cy="2386800"/>
            </a:xfrm>
            <a:prstGeom prst="rtTriangl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9933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Rectangle 25"/>
            <p:cNvSpPr/>
            <p:nvPr/>
          </p:nvSpPr>
          <p:spPr>
            <a:xfrm rot="21174000">
              <a:off x="2391840" y="3863520"/>
              <a:ext cx="202320" cy="286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33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6"/>
            <p:cNvSpPr/>
            <p:nvPr/>
          </p:nvSpPr>
          <p:spPr>
            <a:xfrm rot="172800">
              <a:off x="2772000" y="4097520"/>
              <a:ext cx="431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Rectangle 27"/>
            <p:cNvSpPr/>
            <p:nvPr/>
          </p:nvSpPr>
          <p:spPr>
            <a:xfrm>
              <a:off x="1714680" y="2892600"/>
              <a:ext cx="4348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1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Rectangle 38"/>
            <p:cNvSpPr/>
            <p:nvPr/>
          </p:nvSpPr>
          <p:spPr>
            <a:xfrm>
              <a:off x="2846520" y="2460600"/>
              <a:ext cx="5364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Text Box 66"/>
          <p:cNvSpPr/>
          <p:nvPr/>
        </p:nvSpPr>
        <p:spPr>
          <a:xfrm>
            <a:off x="2428920" y="16430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8" name="Группа 92"/>
          <p:cNvGrpSpPr/>
          <p:nvPr/>
        </p:nvGrpSpPr>
        <p:grpSpPr>
          <a:xfrm>
            <a:off x="327960" y="3705840"/>
            <a:ext cx="2382840" cy="3152160"/>
            <a:chOff x="327960" y="3705840"/>
            <a:chExt cx="2382840" cy="3152160"/>
          </a:xfrm>
        </p:grpSpPr>
        <p:grpSp>
          <p:nvGrpSpPr>
            <p:cNvPr id="459" name="Group 17"/>
            <p:cNvGrpSpPr/>
            <p:nvPr/>
          </p:nvGrpSpPr>
          <p:grpSpPr>
            <a:xfrm>
              <a:off x="327960" y="3705840"/>
              <a:ext cx="2382840" cy="2850840"/>
              <a:chOff x="327960" y="3705840"/>
              <a:chExt cx="2382840" cy="2850840"/>
            </a:xfrm>
          </p:grpSpPr>
          <p:sp>
            <p:nvSpPr>
              <p:cNvPr id="460" name="AutoShape 18"/>
              <p:cNvSpPr/>
              <p:nvPr/>
            </p:nvSpPr>
            <p:spPr>
              <a:xfrm flipH="1" rot="19554000">
                <a:off x="1014120" y="3751560"/>
                <a:ext cx="1009800" cy="2759040"/>
              </a:xfrm>
              <a:prstGeom prst="rtTriangle">
                <a:avLst/>
              </a:prstGeom>
              <a:gradFill rotWithShape="0">
                <a:gsLst>
                  <a:gs pos="0">
                    <a:srgbClr val="ffc000">
                      <a:alpha val="43137"/>
                    </a:srgbClr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Rectangle 19"/>
              <p:cNvSpPr/>
              <p:nvPr/>
            </p:nvSpPr>
            <p:spPr>
              <a:xfrm flipH="1" rot="19554000">
                <a:off x="2439720" y="5827680"/>
                <a:ext cx="219240" cy="2476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2" name="Rectangle 20"/>
            <p:cNvSpPr/>
            <p:nvPr/>
          </p:nvSpPr>
          <p:spPr>
            <a:xfrm flipH="1">
              <a:off x="2214000" y="6215040"/>
              <a:ext cx="431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21"/>
            <p:cNvSpPr/>
            <p:nvPr/>
          </p:nvSpPr>
          <p:spPr>
            <a:xfrm flipH="1">
              <a:off x="2071080" y="4572000"/>
              <a:ext cx="500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36"/>
            <p:cNvSpPr/>
            <p:nvPr/>
          </p:nvSpPr>
          <p:spPr>
            <a:xfrm>
              <a:off x="928800" y="5000760"/>
              <a:ext cx="431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5" name="Group 17"/>
            <p:cNvGrpSpPr/>
            <p:nvPr/>
          </p:nvGrpSpPr>
          <p:grpSpPr>
            <a:xfrm>
              <a:off x="327960" y="3705840"/>
              <a:ext cx="2382840" cy="2850840"/>
              <a:chOff x="327960" y="3705840"/>
              <a:chExt cx="2382840" cy="2850840"/>
            </a:xfrm>
          </p:grpSpPr>
          <p:sp>
            <p:nvSpPr>
              <p:cNvPr id="466" name="AutoShape 18"/>
              <p:cNvSpPr/>
              <p:nvPr/>
            </p:nvSpPr>
            <p:spPr>
              <a:xfrm flipH="1" rot="19554000">
                <a:off x="1014120" y="3751560"/>
                <a:ext cx="1009800" cy="2759040"/>
              </a:xfrm>
              <a:prstGeom prst="rtTriangle">
                <a:avLst/>
              </a:prstGeom>
              <a:gradFill rotWithShape="0">
                <a:gsLst>
                  <a:gs pos="0">
                    <a:srgbClr val="ffc000">
                      <a:alpha val="43137"/>
                    </a:srgbClr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Rectangle 19"/>
              <p:cNvSpPr/>
              <p:nvPr/>
            </p:nvSpPr>
            <p:spPr>
              <a:xfrm flipH="1" rot="19554000">
                <a:off x="2439720" y="5827680"/>
                <a:ext cx="219240" cy="2476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8" name="Rectangle 20"/>
            <p:cNvSpPr/>
            <p:nvPr/>
          </p:nvSpPr>
          <p:spPr>
            <a:xfrm flipH="1">
              <a:off x="2214000" y="6215040"/>
              <a:ext cx="431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21"/>
            <p:cNvSpPr/>
            <p:nvPr/>
          </p:nvSpPr>
          <p:spPr>
            <a:xfrm flipH="1">
              <a:off x="2071080" y="4572000"/>
              <a:ext cx="500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36"/>
            <p:cNvSpPr/>
            <p:nvPr/>
          </p:nvSpPr>
          <p:spPr>
            <a:xfrm>
              <a:off x="928800" y="5000760"/>
              <a:ext cx="431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" name="Text Box 65"/>
          <p:cNvSpPr/>
          <p:nvPr/>
        </p:nvSpPr>
        <p:spPr>
          <a:xfrm>
            <a:off x="357120" y="60008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= 0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37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Группа 95"/>
          <p:cNvGrpSpPr/>
          <p:nvPr/>
        </p:nvGrpSpPr>
        <p:grpSpPr>
          <a:xfrm>
            <a:off x="142920" y="6858000"/>
            <a:ext cx="3173760" cy="2183400"/>
            <a:chOff x="142920" y="6858000"/>
            <a:chExt cx="3173760" cy="2183400"/>
          </a:xfrm>
        </p:grpSpPr>
        <p:grpSp>
          <p:nvGrpSpPr>
            <p:cNvPr id="474" name="Group 39"/>
            <p:cNvGrpSpPr/>
            <p:nvPr/>
          </p:nvGrpSpPr>
          <p:grpSpPr>
            <a:xfrm>
              <a:off x="768600" y="7366320"/>
              <a:ext cx="2548080" cy="1675080"/>
              <a:chOff x="768600" y="7366320"/>
              <a:chExt cx="2548080" cy="1675080"/>
            </a:xfrm>
          </p:grpSpPr>
          <p:sp>
            <p:nvSpPr>
              <p:cNvPr id="475" name="AutoShape 40"/>
              <p:cNvSpPr/>
              <p:nvPr/>
            </p:nvSpPr>
            <p:spPr>
              <a:xfrm rot="5861400">
                <a:off x="1358280" y="7010280"/>
                <a:ext cx="1368360" cy="2386800"/>
              </a:xfrm>
              <a:prstGeom prst="rtTriangle">
                <a:avLst/>
              </a:prstGeom>
              <a:gradFill rotWithShape="0">
                <a:gsLst>
                  <a:gs pos="0">
                    <a:srgbClr val="c00000"/>
                  </a:gs>
                  <a:gs pos="100000">
                    <a:srgbClr val="cc33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Rectangle 41"/>
              <p:cNvSpPr/>
              <p:nvPr/>
            </p:nvSpPr>
            <p:spPr>
              <a:xfrm rot="5757600">
                <a:off x="930960" y="7395480"/>
                <a:ext cx="208800" cy="208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c33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7" name="Rectangle 42"/>
            <p:cNvSpPr/>
            <p:nvPr/>
          </p:nvSpPr>
          <p:spPr>
            <a:xfrm>
              <a:off x="1643040" y="8501040"/>
              <a:ext cx="4284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571760" y="6858000"/>
              <a:ext cx="3664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42920" y="7858080"/>
              <a:ext cx="3664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Box 102"/>
            <p:cNvSpPr/>
            <p:nvPr/>
          </p:nvSpPr>
          <p:spPr>
            <a:xfrm rot="20247600">
              <a:off x="763560" y="7969320"/>
              <a:ext cx="213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c0beaf"/>
                  </a:solidFill>
                  <a:latin typeface="Arial"/>
                </a:rPr>
                <a:t>Новый треугольник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1" name="Группа 86"/>
          <p:cNvGrpSpPr/>
          <p:nvPr/>
        </p:nvGrpSpPr>
        <p:grpSpPr>
          <a:xfrm>
            <a:off x="327960" y="3705840"/>
            <a:ext cx="2382840" cy="3152160"/>
            <a:chOff x="327960" y="3705840"/>
            <a:chExt cx="2382840" cy="3152160"/>
          </a:xfrm>
        </p:grpSpPr>
        <p:grpSp>
          <p:nvGrpSpPr>
            <p:cNvPr id="482" name="Group 17"/>
            <p:cNvGrpSpPr/>
            <p:nvPr/>
          </p:nvGrpSpPr>
          <p:grpSpPr>
            <a:xfrm>
              <a:off x="327960" y="3705840"/>
              <a:ext cx="2382840" cy="2850840"/>
              <a:chOff x="327960" y="3705840"/>
              <a:chExt cx="2382840" cy="2850840"/>
            </a:xfrm>
          </p:grpSpPr>
          <p:sp>
            <p:nvSpPr>
              <p:cNvPr id="483" name="AutoShape 18"/>
              <p:cNvSpPr/>
              <p:nvPr/>
            </p:nvSpPr>
            <p:spPr>
              <a:xfrm flipH="1" rot="19554000">
                <a:off x="1014120" y="3751560"/>
                <a:ext cx="1009800" cy="2759040"/>
              </a:xfrm>
              <a:prstGeom prst="rtTriangle">
                <a:avLst/>
              </a:prstGeom>
              <a:gradFill rotWithShape="0">
                <a:gsLst>
                  <a:gs pos="0">
                    <a:srgbClr val="ffc000">
                      <a:alpha val="43137"/>
                    </a:srgbClr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Rectangle 19"/>
              <p:cNvSpPr/>
              <p:nvPr/>
            </p:nvSpPr>
            <p:spPr>
              <a:xfrm flipH="1" rot="19554000">
                <a:off x="2439720" y="5827680"/>
                <a:ext cx="219240" cy="2476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Rectangle 20"/>
            <p:cNvSpPr/>
            <p:nvPr/>
          </p:nvSpPr>
          <p:spPr>
            <a:xfrm flipH="1">
              <a:off x="2214000" y="6215040"/>
              <a:ext cx="431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Rectangle 21"/>
            <p:cNvSpPr/>
            <p:nvPr/>
          </p:nvSpPr>
          <p:spPr>
            <a:xfrm flipH="1">
              <a:off x="2071080" y="4572000"/>
              <a:ext cx="500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Rectangle 36"/>
            <p:cNvSpPr/>
            <p:nvPr/>
          </p:nvSpPr>
          <p:spPr>
            <a:xfrm>
              <a:off x="928800" y="5000760"/>
              <a:ext cx="431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8" name="Group 17"/>
            <p:cNvGrpSpPr/>
            <p:nvPr/>
          </p:nvGrpSpPr>
          <p:grpSpPr>
            <a:xfrm>
              <a:off x="327960" y="3705840"/>
              <a:ext cx="2382840" cy="2850840"/>
              <a:chOff x="327960" y="3705840"/>
              <a:chExt cx="2382840" cy="2850840"/>
            </a:xfrm>
          </p:grpSpPr>
          <p:sp>
            <p:nvSpPr>
              <p:cNvPr id="489" name="AutoShape 18"/>
              <p:cNvSpPr/>
              <p:nvPr/>
            </p:nvSpPr>
            <p:spPr>
              <a:xfrm flipH="1" rot="19554000">
                <a:off x="1014120" y="3751560"/>
                <a:ext cx="1009800" cy="2759040"/>
              </a:xfrm>
              <a:prstGeom prst="rtTriangle">
                <a:avLst/>
              </a:prstGeom>
              <a:gradFill rotWithShape="0">
                <a:gsLst>
                  <a:gs pos="0">
                    <a:srgbClr val="ffc000">
                      <a:alpha val="43137"/>
                    </a:srgbClr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Rectangle 19"/>
              <p:cNvSpPr/>
              <p:nvPr/>
            </p:nvSpPr>
            <p:spPr>
              <a:xfrm flipH="1" rot="19554000">
                <a:off x="2439720" y="5827680"/>
                <a:ext cx="219240" cy="2476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" name="Rectangle 20"/>
            <p:cNvSpPr/>
            <p:nvPr/>
          </p:nvSpPr>
          <p:spPr>
            <a:xfrm flipH="1">
              <a:off x="2214000" y="6215040"/>
              <a:ext cx="431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21"/>
            <p:cNvSpPr/>
            <p:nvPr/>
          </p:nvSpPr>
          <p:spPr>
            <a:xfrm flipH="1">
              <a:off x="2071080" y="4572000"/>
              <a:ext cx="500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36"/>
            <p:cNvSpPr/>
            <p:nvPr/>
          </p:nvSpPr>
          <p:spPr>
            <a:xfrm>
              <a:off x="928800" y="5000760"/>
              <a:ext cx="431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Группа 103"/>
          <p:cNvGrpSpPr/>
          <p:nvPr/>
        </p:nvGrpSpPr>
        <p:grpSpPr>
          <a:xfrm>
            <a:off x="1714680" y="1657080"/>
            <a:ext cx="1768680" cy="2953800"/>
            <a:chOff x="1714680" y="1657080"/>
            <a:chExt cx="1768680" cy="2953800"/>
          </a:xfrm>
        </p:grpSpPr>
        <p:sp>
          <p:nvSpPr>
            <p:cNvPr id="495" name="AutoShape 24"/>
            <p:cNvSpPr/>
            <p:nvPr/>
          </p:nvSpPr>
          <p:spPr>
            <a:xfrm rot="21174000">
              <a:off x="2259000" y="1714320"/>
              <a:ext cx="1081080" cy="2386800"/>
            </a:xfrm>
            <a:prstGeom prst="rtTriangl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9933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25"/>
            <p:cNvSpPr/>
            <p:nvPr/>
          </p:nvSpPr>
          <p:spPr>
            <a:xfrm rot="21174000">
              <a:off x="2391840" y="3863520"/>
              <a:ext cx="202320" cy="286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33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26"/>
            <p:cNvSpPr/>
            <p:nvPr/>
          </p:nvSpPr>
          <p:spPr>
            <a:xfrm rot="172800">
              <a:off x="2772000" y="4097520"/>
              <a:ext cx="431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Rectangle 27"/>
            <p:cNvSpPr/>
            <p:nvPr/>
          </p:nvSpPr>
          <p:spPr>
            <a:xfrm>
              <a:off x="1714680" y="2892600"/>
              <a:ext cx="4348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1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38"/>
            <p:cNvSpPr/>
            <p:nvPr/>
          </p:nvSpPr>
          <p:spPr>
            <a:xfrm>
              <a:off x="2846520" y="2460600"/>
              <a:ext cx="5364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Группа 109"/>
          <p:cNvGrpSpPr/>
          <p:nvPr/>
        </p:nvGrpSpPr>
        <p:grpSpPr>
          <a:xfrm>
            <a:off x="3500280" y="1130760"/>
            <a:ext cx="1529640" cy="2012400"/>
            <a:chOff x="3500280" y="1130760"/>
            <a:chExt cx="1529640" cy="2012400"/>
          </a:xfrm>
        </p:grpSpPr>
        <p:grpSp>
          <p:nvGrpSpPr>
            <p:cNvPr id="501" name="Group 4"/>
            <p:cNvGrpSpPr/>
            <p:nvPr/>
          </p:nvGrpSpPr>
          <p:grpSpPr>
            <a:xfrm>
              <a:off x="3850200" y="1130760"/>
              <a:ext cx="1179720" cy="1594440"/>
              <a:chOff x="3850200" y="1130760"/>
              <a:chExt cx="1179720" cy="1594440"/>
            </a:xfrm>
          </p:grpSpPr>
          <p:sp>
            <p:nvSpPr>
              <p:cNvPr id="502" name="AutoShape 5"/>
              <p:cNvSpPr/>
              <p:nvPr/>
            </p:nvSpPr>
            <p:spPr>
              <a:xfrm rot="873600">
                <a:off x="4016160" y="1214280"/>
                <a:ext cx="847800" cy="1427040"/>
              </a:xfrm>
              <a:prstGeom prst="rtTriangle">
                <a:avLst/>
              </a:prstGeom>
              <a:gradFill rotWithShape="0">
                <a:gsLst>
                  <a:gs pos="0">
                    <a:srgbClr val="ff9429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Rectangle 6"/>
              <p:cNvSpPr/>
              <p:nvPr/>
            </p:nvSpPr>
            <p:spPr>
              <a:xfrm rot="873600">
                <a:off x="3869280" y="2364480"/>
                <a:ext cx="158760" cy="171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Rectangle 7"/>
            <p:cNvSpPr/>
            <p:nvPr/>
          </p:nvSpPr>
          <p:spPr>
            <a:xfrm>
              <a:off x="3500280" y="1574640"/>
              <a:ext cx="431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8"/>
            <p:cNvSpPr/>
            <p:nvPr/>
          </p:nvSpPr>
          <p:spPr>
            <a:xfrm>
              <a:off x="3857400" y="2617920"/>
              <a:ext cx="43164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9"/>
            <p:cNvSpPr/>
            <p:nvPr/>
          </p:nvSpPr>
          <p:spPr>
            <a:xfrm>
              <a:off x="4500720" y="1574640"/>
              <a:ext cx="431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Группа 116"/>
          <p:cNvGrpSpPr/>
          <p:nvPr/>
        </p:nvGrpSpPr>
        <p:grpSpPr>
          <a:xfrm>
            <a:off x="5418360" y="1071720"/>
            <a:ext cx="3004920" cy="2266920"/>
            <a:chOff x="5418360" y="1071720"/>
            <a:chExt cx="3004920" cy="2266920"/>
          </a:xfrm>
        </p:grpSpPr>
        <p:sp>
          <p:nvSpPr>
            <p:cNvPr id="508" name="AutoShape 12"/>
            <p:cNvSpPr/>
            <p:nvPr/>
          </p:nvSpPr>
          <p:spPr>
            <a:xfrm rot="10841400">
              <a:off x="5428800" y="1572840"/>
              <a:ext cx="2429280" cy="1751040"/>
            </a:xfrm>
            <a:prstGeom prst="rtTriangle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adf1b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13"/>
            <p:cNvSpPr/>
            <p:nvPr/>
          </p:nvSpPr>
          <p:spPr>
            <a:xfrm rot="10841400">
              <a:off x="7633800" y="1571400"/>
              <a:ext cx="212760" cy="205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adf1b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14"/>
            <p:cNvSpPr/>
            <p:nvPr/>
          </p:nvSpPr>
          <p:spPr>
            <a:xfrm>
              <a:off x="8001000" y="2071800"/>
              <a:ext cx="4222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Rectangle 15"/>
            <p:cNvSpPr/>
            <p:nvPr/>
          </p:nvSpPr>
          <p:spPr>
            <a:xfrm>
              <a:off x="6786360" y="1071720"/>
              <a:ext cx="423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34"/>
            <p:cNvSpPr/>
            <p:nvPr/>
          </p:nvSpPr>
          <p:spPr>
            <a:xfrm>
              <a:off x="6286320" y="2357640"/>
              <a:ext cx="4222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3" name="Группа 122"/>
          <p:cNvGrpSpPr/>
          <p:nvPr/>
        </p:nvGrpSpPr>
        <p:grpSpPr>
          <a:xfrm>
            <a:off x="6858000" y="3357720"/>
            <a:ext cx="1890720" cy="1898640"/>
            <a:chOff x="6858000" y="3357720"/>
            <a:chExt cx="1890720" cy="1898640"/>
          </a:xfrm>
        </p:grpSpPr>
        <p:pic>
          <p:nvPicPr>
            <p:cNvPr id="514" name="Group 29" descr=""/>
            <p:cNvPicPr/>
            <p:nvPr/>
          </p:nvPicPr>
          <p:blipFill>
            <a:blip r:embed="rId3"/>
            <a:stretch/>
          </p:blipFill>
          <p:spPr>
            <a:xfrm>
              <a:off x="7051680" y="3521880"/>
              <a:ext cx="1597680" cy="17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32"/>
            <p:cNvSpPr/>
            <p:nvPr/>
          </p:nvSpPr>
          <p:spPr>
            <a:xfrm>
              <a:off x="8011440" y="4632120"/>
              <a:ext cx="4690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33"/>
            <p:cNvSpPr/>
            <p:nvPr/>
          </p:nvSpPr>
          <p:spPr>
            <a:xfrm>
              <a:off x="8277480" y="3357720"/>
              <a:ext cx="471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35"/>
            <p:cNvSpPr/>
            <p:nvPr/>
          </p:nvSpPr>
          <p:spPr>
            <a:xfrm>
              <a:off x="6858000" y="3931200"/>
              <a:ext cx="4712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Группа 153"/>
          <p:cNvGrpSpPr/>
          <p:nvPr/>
        </p:nvGrpSpPr>
        <p:grpSpPr>
          <a:xfrm>
            <a:off x="2643120" y="6858000"/>
            <a:ext cx="3245040" cy="2183400"/>
            <a:chOff x="2643120" y="6858000"/>
            <a:chExt cx="3245040" cy="2183400"/>
          </a:xfrm>
        </p:grpSpPr>
        <p:grpSp>
          <p:nvGrpSpPr>
            <p:cNvPr id="519" name="Group 39"/>
            <p:cNvGrpSpPr/>
            <p:nvPr/>
          </p:nvGrpSpPr>
          <p:grpSpPr>
            <a:xfrm>
              <a:off x="3340080" y="7366320"/>
              <a:ext cx="2548080" cy="1675080"/>
              <a:chOff x="3340080" y="7366320"/>
              <a:chExt cx="2548080" cy="1675080"/>
            </a:xfrm>
          </p:grpSpPr>
          <p:sp>
            <p:nvSpPr>
              <p:cNvPr id="520" name="AutoShape 40"/>
              <p:cNvSpPr/>
              <p:nvPr/>
            </p:nvSpPr>
            <p:spPr>
              <a:xfrm rot="5861400">
                <a:off x="3929760" y="7010280"/>
                <a:ext cx="1368360" cy="2386800"/>
              </a:xfrm>
              <a:prstGeom prst="rtTriangle">
                <a:avLst/>
              </a:prstGeom>
              <a:gradFill rotWithShape="0">
                <a:gsLst>
                  <a:gs pos="0">
                    <a:srgbClr val="c00000"/>
                  </a:gs>
                  <a:gs pos="100000">
                    <a:srgbClr val="cc33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Rectangle 41"/>
              <p:cNvSpPr/>
              <p:nvPr/>
            </p:nvSpPr>
            <p:spPr>
              <a:xfrm rot="5757600">
                <a:off x="3502440" y="7395480"/>
                <a:ext cx="208800" cy="208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c33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2" name="Rectangle 48"/>
            <p:cNvSpPr/>
            <p:nvPr/>
          </p:nvSpPr>
          <p:spPr>
            <a:xfrm>
              <a:off x="4214520" y="8501040"/>
              <a:ext cx="504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6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49"/>
            <p:cNvSpPr/>
            <p:nvPr/>
          </p:nvSpPr>
          <p:spPr>
            <a:xfrm>
              <a:off x="4143240" y="6858000"/>
              <a:ext cx="431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6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50"/>
            <p:cNvSpPr/>
            <p:nvPr/>
          </p:nvSpPr>
          <p:spPr>
            <a:xfrm>
              <a:off x="2643120" y="7858080"/>
              <a:ext cx="431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3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Box 134"/>
            <p:cNvSpPr/>
            <p:nvPr/>
          </p:nvSpPr>
          <p:spPr>
            <a:xfrm rot="20247600">
              <a:off x="3335040" y="7969320"/>
              <a:ext cx="213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c0beaf"/>
                  </a:solidFill>
                  <a:latin typeface="Arial"/>
                </a:rPr>
                <a:t>Новый треугольник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6" name="Группа 173"/>
          <p:cNvGrpSpPr/>
          <p:nvPr/>
        </p:nvGrpSpPr>
        <p:grpSpPr>
          <a:xfrm>
            <a:off x="5286240" y="6858000"/>
            <a:ext cx="3173760" cy="2183400"/>
            <a:chOff x="5286240" y="6858000"/>
            <a:chExt cx="3173760" cy="2183400"/>
          </a:xfrm>
        </p:grpSpPr>
        <p:grpSp>
          <p:nvGrpSpPr>
            <p:cNvPr id="527" name="Group 39"/>
            <p:cNvGrpSpPr/>
            <p:nvPr/>
          </p:nvGrpSpPr>
          <p:grpSpPr>
            <a:xfrm>
              <a:off x="5911920" y="7366320"/>
              <a:ext cx="2548080" cy="1675080"/>
              <a:chOff x="5911920" y="7366320"/>
              <a:chExt cx="2548080" cy="1675080"/>
            </a:xfrm>
          </p:grpSpPr>
          <p:sp>
            <p:nvSpPr>
              <p:cNvPr id="528" name="AutoShape 40"/>
              <p:cNvSpPr/>
              <p:nvPr/>
            </p:nvSpPr>
            <p:spPr>
              <a:xfrm rot="5861400">
                <a:off x="6501600" y="7010280"/>
                <a:ext cx="1368360" cy="2386800"/>
              </a:xfrm>
              <a:prstGeom prst="rtTriangle">
                <a:avLst/>
              </a:prstGeom>
              <a:gradFill rotWithShape="0">
                <a:gsLst>
                  <a:gs pos="0">
                    <a:srgbClr val="c00000"/>
                  </a:gs>
                  <a:gs pos="100000">
                    <a:srgbClr val="cc33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41"/>
              <p:cNvSpPr/>
              <p:nvPr/>
            </p:nvSpPr>
            <p:spPr>
              <a:xfrm rot="5757600">
                <a:off x="6074280" y="7395480"/>
                <a:ext cx="208800" cy="208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c33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0" name="Rectangle 45"/>
            <p:cNvSpPr/>
            <p:nvPr/>
          </p:nvSpPr>
          <p:spPr>
            <a:xfrm>
              <a:off x="6858000" y="8501040"/>
              <a:ext cx="504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,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Rectangle 46"/>
            <p:cNvSpPr/>
            <p:nvPr/>
          </p:nvSpPr>
          <p:spPr>
            <a:xfrm>
              <a:off x="6786360" y="6858000"/>
              <a:ext cx="431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,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47"/>
            <p:cNvSpPr/>
            <p:nvPr/>
          </p:nvSpPr>
          <p:spPr>
            <a:xfrm>
              <a:off x="5286240" y="7858080"/>
              <a:ext cx="431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0,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TextBox 142"/>
            <p:cNvSpPr/>
            <p:nvPr/>
          </p:nvSpPr>
          <p:spPr>
            <a:xfrm rot="20247600">
              <a:off x="5906880" y="7969320"/>
              <a:ext cx="213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c0beaf"/>
                  </a:solidFill>
                  <a:latin typeface="Arial"/>
                </a:rPr>
                <a:t>Новый треугольник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Группа 250"/>
          <p:cNvGrpSpPr/>
          <p:nvPr/>
        </p:nvGrpSpPr>
        <p:grpSpPr>
          <a:xfrm>
            <a:off x="7858080" y="6858000"/>
            <a:ext cx="3173760" cy="2183400"/>
            <a:chOff x="7858080" y="6858000"/>
            <a:chExt cx="3173760" cy="2183400"/>
          </a:xfrm>
        </p:grpSpPr>
        <p:grpSp>
          <p:nvGrpSpPr>
            <p:cNvPr id="535" name="Group 39"/>
            <p:cNvGrpSpPr/>
            <p:nvPr/>
          </p:nvGrpSpPr>
          <p:grpSpPr>
            <a:xfrm>
              <a:off x="8483760" y="7366320"/>
              <a:ext cx="2548080" cy="1675080"/>
              <a:chOff x="8483760" y="7366320"/>
              <a:chExt cx="2548080" cy="1675080"/>
            </a:xfrm>
          </p:grpSpPr>
          <p:sp>
            <p:nvSpPr>
              <p:cNvPr id="536" name="AutoShape 40"/>
              <p:cNvSpPr/>
              <p:nvPr/>
            </p:nvSpPr>
            <p:spPr>
              <a:xfrm rot="5861400">
                <a:off x="9073440" y="7010280"/>
                <a:ext cx="1368360" cy="2386800"/>
              </a:xfrm>
              <a:prstGeom prst="rtTriangle">
                <a:avLst/>
              </a:prstGeom>
              <a:gradFill rotWithShape="0">
                <a:gsLst>
                  <a:gs pos="0">
                    <a:srgbClr val="c00000"/>
                  </a:gs>
                  <a:gs pos="100000">
                    <a:srgbClr val="cc33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41"/>
              <p:cNvSpPr/>
              <p:nvPr/>
            </p:nvSpPr>
            <p:spPr>
              <a:xfrm rot="5757600">
                <a:off x="8646120" y="7395480"/>
                <a:ext cx="208800" cy="208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c33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8" name="Rectangle 52"/>
            <p:cNvSpPr/>
            <p:nvPr/>
          </p:nvSpPr>
          <p:spPr>
            <a:xfrm>
              <a:off x="9286920" y="6858000"/>
              <a:ext cx="576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10,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Rectangle 53"/>
            <p:cNvSpPr/>
            <p:nvPr/>
          </p:nvSpPr>
          <p:spPr>
            <a:xfrm>
              <a:off x="7858080" y="7929720"/>
              <a:ext cx="431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Rectangle 51"/>
            <p:cNvSpPr/>
            <p:nvPr/>
          </p:nvSpPr>
          <p:spPr>
            <a:xfrm>
              <a:off x="9358200" y="8501040"/>
              <a:ext cx="647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4,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Box 150"/>
            <p:cNvSpPr/>
            <p:nvPr/>
          </p:nvSpPr>
          <p:spPr>
            <a:xfrm rot="20247600">
              <a:off x="8478720" y="7969320"/>
              <a:ext cx="213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c0beaf"/>
                  </a:solidFill>
                  <a:latin typeface="Arial"/>
                </a:rPr>
                <a:t>Новый треугольник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Группа 143"/>
          <p:cNvGrpSpPr/>
          <p:nvPr/>
        </p:nvGrpSpPr>
        <p:grpSpPr>
          <a:xfrm>
            <a:off x="3500280" y="1130760"/>
            <a:ext cx="1529640" cy="2012400"/>
            <a:chOff x="3500280" y="1130760"/>
            <a:chExt cx="1529640" cy="2012400"/>
          </a:xfrm>
        </p:grpSpPr>
        <p:grpSp>
          <p:nvGrpSpPr>
            <p:cNvPr id="543" name="Group 4"/>
            <p:cNvGrpSpPr/>
            <p:nvPr/>
          </p:nvGrpSpPr>
          <p:grpSpPr>
            <a:xfrm>
              <a:off x="3850200" y="1130760"/>
              <a:ext cx="1179720" cy="1594440"/>
              <a:chOff x="3850200" y="1130760"/>
              <a:chExt cx="1179720" cy="1594440"/>
            </a:xfrm>
          </p:grpSpPr>
          <p:sp>
            <p:nvSpPr>
              <p:cNvPr id="544" name="AutoShape 5"/>
              <p:cNvSpPr/>
              <p:nvPr/>
            </p:nvSpPr>
            <p:spPr>
              <a:xfrm rot="873600">
                <a:off x="4016160" y="1214280"/>
                <a:ext cx="847800" cy="1427040"/>
              </a:xfrm>
              <a:prstGeom prst="rtTriangle">
                <a:avLst/>
              </a:prstGeom>
              <a:gradFill rotWithShape="0">
                <a:gsLst>
                  <a:gs pos="0">
                    <a:srgbClr val="ff9429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Rectangle 6"/>
              <p:cNvSpPr/>
              <p:nvPr/>
            </p:nvSpPr>
            <p:spPr>
              <a:xfrm rot="873600">
                <a:off x="3869280" y="2364480"/>
                <a:ext cx="158760" cy="171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6" name="Rectangle 7"/>
            <p:cNvSpPr/>
            <p:nvPr/>
          </p:nvSpPr>
          <p:spPr>
            <a:xfrm>
              <a:off x="3500280" y="1574640"/>
              <a:ext cx="431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Rectangle 8"/>
            <p:cNvSpPr/>
            <p:nvPr/>
          </p:nvSpPr>
          <p:spPr>
            <a:xfrm>
              <a:off x="3857400" y="2617920"/>
              <a:ext cx="43164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Rectangle 9"/>
            <p:cNvSpPr/>
            <p:nvPr/>
          </p:nvSpPr>
          <p:spPr>
            <a:xfrm>
              <a:off x="4500720" y="1574640"/>
              <a:ext cx="431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9" name="Группа 154"/>
          <p:cNvGrpSpPr/>
          <p:nvPr/>
        </p:nvGrpSpPr>
        <p:grpSpPr>
          <a:xfrm>
            <a:off x="5418360" y="1071720"/>
            <a:ext cx="3004920" cy="2266920"/>
            <a:chOff x="5418360" y="1071720"/>
            <a:chExt cx="3004920" cy="2266920"/>
          </a:xfrm>
        </p:grpSpPr>
        <p:sp>
          <p:nvSpPr>
            <p:cNvPr id="550" name="AutoShape 12"/>
            <p:cNvSpPr/>
            <p:nvPr/>
          </p:nvSpPr>
          <p:spPr>
            <a:xfrm rot="10841400">
              <a:off x="5428800" y="1572840"/>
              <a:ext cx="2429280" cy="1751040"/>
            </a:xfrm>
            <a:prstGeom prst="rtTriangle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adf1b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Rectangle 13"/>
            <p:cNvSpPr/>
            <p:nvPr/>
          </p:nvSpPr>
          <p:spPr>
            <a:xfrm rot="10841400">
              <a:off x="7633800" y="1571400"/>
              <a:ext cx="212760" cy="205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adf1b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Rectangle 14"/>
            <p:cNvSpPr/>
            <p:nvPr/>
          </p:nvSpPr>
          <p:spPr>
            <a:xfrm>
              <a:off x="8001000" y="2071800"/>
              <a:ext cx="4222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Rectangle 15"/>
            <p:cNvSpPr/>
            <p:nvPr/>
          </p:nvSpPr>
          <p:spPr>
            <a:xfrm>
              <a:off x="6786360" y="1071720"/>
              <a:ext cx="423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Rectangle 34"/>
            <p:cNvSpPr/>
            <p:nvPr/>
          </p:nvSpPr>
          <p:spPr>
            <a:xfrm>
              <a:off x="6286320" y="2357640"/>
              <a:ext cx="4222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Группа 160"/>
          <p:cNvGrpSpPr/>
          <p:nvPr/>
        </p:nvGrpSpPr>
        <p:grpSpPr>
          <a:xfrm>
            <a:off x="6858000" y="3357720"/>
            <a:ext cx="1890720" cy="1898640"/>
            <a:chOff x="6858000" y="3357720"/>
            <a:chExt cx="1890720" cy="1898640"/>
          </a:xfrm>
        </p:grpSpPr>
        <p:pic>
          <p:nvPicPr>
            <p:cNvPr id="556" name="Group 29" descr=""/>
            <p:cNvPicPr/>
            <p:nvPr/>
          </p:nvPicPr>
          <p:blipFill>
            <a:blip r:embed="rId4"/>
            <a:stretch/>
          </p:blipFill>
          <p:spPr>
            <a:xfrm>
              <a:off x="7051680" y="3521880"/>
              <a:ext cx="1597680" cy="17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Rectangle 32"/>
            <p:cNvSpPr/>
            <p:nvPr/>
          </p:nvSpPr>
          <p:spPr>
            <a:xfrm>
              <a:off x="8011440" y="4632120"/>
              <a:ext cx="4690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33"/>
            <p:cNvSpPr/>
            <p:nvPr/>
          </p:nvSpPr>
          <p:spPr>
            <a:xfrm>
              <a:off x="8277480" y="3357720"/>
              <a:ext cx="471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35"/>
            <p:cNvSpPr/>
            <p:nvPr/>
          </p:nvSpPr>
          <p:spPr>
            <a:xfrm>
              <a:off x="6858000" y="3931200"/>
              <a:ext cx="4712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0" name="Группа 167"/>
          <p:cNvGrpSpPr/>
          <p:nvPr/>
        </p:nvGrpSpPr>
        <p:grpSpPr>
          <a:xfrm>
            <a:off x="1714680" y="1657080"/>
            <a:ext cx="1768680" cy="2953800"/>
            <a:chOff x="1714680" y="1657080"/>
            <a:chExt cx="1768680" cy="2953800"/>
          </a:xfrm>
        </p:grpSpPr>
        <p:sp>
          <p:nvSpPr>
            <p:cNvPr id="561" name="AutoShape 24"/>
            <p:cNvSpPr/>
            <p:nvPr/>
          </p:nvSpPr>
          <p:spPr>
            <a:xfrm rot="21174000">
              <a:off x="2259000" y="1714320"/>
              <a:ext cx="1081080" cy="2386800"/>
            </a:xfrm>
            <a:prstGeom prst="rtTriangl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9933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Rectangle 25"/>
            <p:cNvSpPr/>
            <p:nvPr/>
          </p:nvSpPr>
          <p:spPr>
            <a:xfrm rot="21174000">
              <a:off x="2391840" y="3863520"/>
              <a:ext cx="202320" cy="286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33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Rectangle 26"/>
            <p:cNvSpPr/>
            <p:nvPr/>
          </p:nvSpPr>
          <p:spPr>
            <a:xfrm rot="172800">
              <a:off x="2772000" y="4097520"/>
              <a:ext cx="431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27"/>
            <p:cNvSpPr/>
            <p:nvPr/>
          </p:nvSpPr>
          <p:spPr>
            <a:xfrm>
              <a:off x="1714680" y="2892600"/>
              <a:ext cx="4348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1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Rectangle 38"/>
            <p:cNvSpPr/>
            <p:nvPr/>
          </p:nvSpPr>
          <p:spPr>
            <a:xfrm>
              <a:off x="2846520" y="2460600"/>
              <a:ext cx="5364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6" name="Группа 173"/>
          <p:cNvGrpSpPr/>
          <p:nvPr/>
        </p:nvGrpSpPr>
        <p:grpSpPr>
          <a:xfrm>
            <a:off x="327960" y="3705840"/>
            <a:ext cx="2382840" cy="3152160"/>
            <a:chOff x="327960" y="3705840"/>
            <a:chExt cx="2382840" cy="3152160"/>
          </a:xfrm>
        </p:grpSpPr>
        <p:grpSp>
          <p:nvGrpSpPr>
            <p:cNvPr id="567" name="Group 17"/>
            <p:cNvGrpSpPr/>
            <p:nvPr/>
          </p:nvGrpSpPr>
          <p:grpSpPr>
            <a:xfrm>
              <a:off x="327960" y="3705840"/>
              <a:ext cx="2382840" cy="2850840"/>
              <a:chOff x="327960" y="3705840"/>
              <a:chExt cx="2382840" cy="2850840"/>
            </a:xfrm>
          </p:grpSpPr>
          <p:sp>
            <p:nvSpPr>
              <p:cNvPr id="568" name="AutoShape 18"/>
              <p:cNvSpPr/>
              <p:nvPr/>
            </p:nvSpPr>
            <p:spPr>
              <a:xfrm flipH="1" rot="19554000">
                <a:off x="1014120" y="3751560"/>
                <a:ext cx="1009800" cy="2759040"/>
              </a:xfrm>
              <a:prstGeom prst="rtTriangle">
                <a:avLst/>
              </a:prstGeom>
              <a:gradFill rotWithShape="0">
                <a:gsLst>
                  <a:gs pos="0">
                    <a:srgbClr val="ffc000">
                      <a:alpha val="43137"/>
                    </a:srgbClr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19"/>
              <p:cNvSpPr/>
              <p:nvPr/>
            </p:nvSpPr>
            <p:spPr>
              <a:xfrm flipH="1" rot="19554000">
                <a:off x="2439720" y="5827680"/>
                <a:ext cx="219240" cy="2476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0" name="Rectangle 20"/>
            <p:cNvSpPr/>
            <p:nvPr/>
          </p:nvSpPr>
          <p:spPr>
            <a:xfrm flipH="1">
              <a:off x="2214000" y="6215040"/>
              <a:ext cx="431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Rectangle 21"/>
            <p:cNvSpPr/>
            <p:nvPr/>
          </p:nvSpPr>
          <p:spPr>
            <a:xfrm flipH="1">
              <a:off x="2071080" y="4572000"/>
              <a:ext cx="500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Rectangle 36"/>
            <p:cNvSpPr/>
            <p:nvPr/>
          </p:nvSpPr>
          <p:spPr>
            <a:xfrm>
              <a:off x="928800" y="5000760"/>
              <a:ext cx="431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3" name="Group 17"/>
            <p:cNvGrpSpPr/>
            <p:nvPr/>
          </p:nvGrpSpPr>
          <p:grpSpPr>
            <a:xfrm>
              <a:off x="327960" y="3705840"/>
              <a:ext cx="2382840" cy="2850840"/>
              <a:chOff x="327960" y="3705840"/>
              <a:chExt cx="2382840" cy="2850840"/>
            </a:xfrm>
          </p:grpSpPr>
          <p:sp>
            <p:nvSpPr>
              <p:cNvPr id="574" name="AutoShape 18"/>
              <p:cNvSpPr/>
              <p:nvPr/>
            </p:nvSpPr>
            <p:spPr>
              <a:xfrm flipH="1" rot="19554000">
                <a:off x="1014120" y="3751560"/>
                <a:ext cx="1009800" cy="2759040"/>
              </a:xfrm>
              <a:prstGeom prst="rtTriangle">
                <a:avLst/>
              </a:prstGeom>
              <a:gradFill rotWithShape="0">
                <a:gsLst>
                  <a:gs pos="0">
                    <a:srgbClr val="ffc000">
                      <a:alpha val="43137"/>
                    </a:srgbClr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19"/>
              <p:cNvSpPr/>
              <p:nvPr/>
            </p:nvSpPr>
            <p:spPr>
              <a:xfrm flipH="1" rot="19554000">
                <a:off x="2439720" y="5827680"/>
                <a:ext cx="219240" cy="2476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6" name="Rectangle 20"/>
            <p:cNvSpPr/>
            <p:nvPr/>
          </p:nvSpPr>
          <p:spPr>
            <a:xfrm flipH="1">
              <a:off x="2214000" y="6215040"/>
              <a:ext cx="431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Rectangle 21"/>
            <p:cNvSpPr/>
            <p:nvPr/>
          </p:nvSpPr>
          <p:spPr>
            <a:xfrm flipH="1">
              <a:off x="2071080" y="4572000"/>
              <a:ext cx="500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Rectangle 36"/>
            <p:cNvSpPr/>
            <p:nvPr/>
          </p:nvSpPr>
          <p:spPr>
            <a:xfrm>
              <a:off x="928800" y="5000760"/>
              <a:ext cx="431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Группа 182"/>
          <p:cNvGrpSpPr/>
          <p:nvPr/>
        </p:nvGrpSpPr>
        <p:grpSpPr>
          <a:xfrm>
            <a:off x="3500280" y="1130760"/>
            <a:ext cx="1529640" cy="2012400"/>
            <a:chOff x="3500280" y="1130760"/>
            <a:chExt cx="1529640" cy="2012400"/>
          </a:xfrm>
        </p:grpSpPr>
        <p:grpSp>
          <p:nvGrpSpPr>
            <p:cNvPr id="580" name="Group 4"/>
            <p:cNvGrpSpPr/>
            <p:nvPr/>
          </p:nvGrpSpPr>
          <p:grpSpPr>
            <a:xfrm>
              <a:off x="3850200" y="1130760"/>
              <a:ext cx="1179720" cy="1594440"/>
              <a:chOff x="3850200" y="1130760"/>
              <a:chExt cx="1179720" cy="1594440"/>
            </a:xfrm>
          </p:grpSpPr>
          <p:sp>
            <p:nvSpPr>
              <p:cNvPr id="581" name="AutoShape 5"/>
              <p:cNvSpPr/>
              <p:nvPr/>
            </p:nvSpPr>
            <p:spPr>
              <a:xfrm rot="873600">
                <a:off x="4016160" y="1214280"/>
                <a:ext cx="847800" cy="1427040"/>
              </a:xfrm>
              <a:prstGeom prst="rtTriangle">
                <a:avLst/>
              </a:prstGeom>
              <a:gradFill rotWithShape="0">
                <a:gsLst>
                  <a:gs pos="0">
                    <a:srgbClr val="ff9429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6"/>
              <p:cNvSpPr/>
              <p:nvPr/>
            </p:nvSpPr>
            <p:spPr>
              <a:xfrm rot="873600">
                <a:off x="3869280" y="2364480"/>
                <a:ext cx="158760" cy="171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3" name="Rectangle 7"/>
            <p:cNvSpPr/>
            <p:nvPr/>
          </p:nvSpPr>
          <p:spPr>
            <a:xfrm>
              <a:off x="3500280" y="1574640"/>
              <a:ext cx="431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Rectangle 8"/>
            <p:cNvSpPr/>
            <p:nvPr/>
          </p:nvSpPr>
          <p:spPr>
            <a:xfrm>
              <a:off x="3857400" y="2617920"/>
              <a:ext cx="43164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Rectangle 9"/>
            <p:cNvSpPr/>
            <p:nvPr/>
          </p:nvSpPr>
          <p:spPr>
            <a:xfrm>
              <a:off x="4500720" y="1574640"/>
              <a:ext cx="431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Группа 189"/>
          <p:cNvGrpSpPr/>
          <p:nvPr/>
        </p:nvGrpSpPr>
        <p:grpSpPr>
          <a:xfrm>
            <a:off x="5418360" y="1071720"/>
            <a:ext cx="3004920" cy="2266920"/>
            <a:chOff x="5418360" y="1071720"/>
            <a:chExt cx="3004920" cy="2266920"/>
          </a:xfrm>
        </p:grpSpPr>
        <p:sp>
          <p:nvSpPr>
            <p:cNvPr id="587" name="AutoShape 12"/>
            <p:cNvSpPr/>
            <p:nvPr/>
          </p:nvSpPr>
          <p:spPr>
            <a:xfrm rot="10841400">
              <a:off x="5428800" y="1572840"/>
              <a:ext cx="2429280" cy="1751040"/>
            </a:xfrm>
            <a:prstGeom prst="rtTriangle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adf1b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Rectangle 13"/>
            <p:cNvSpPr/>
            <p:nvPr/>
          </p:nvSpPr>
          <p:spPr>
            <a:xfrm rot="10841400">
              <a:off x="7633800" y="1571400"/>
              <a:ext cx="212760" cy="205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adf1b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Rectangle 14"/>
            <p:cNvSpPr/>
            <p:nvPr/>
          </p:nvSpPr>
          <p:spPr>
            <a:xfrm>
              <a:off x="8001000" y="2071800"/>
              <a:ext cx="4222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Rectangle 15"/>
            <p:cNvSpPr/>
            <p:nvPr/>
          </p:nvSpPr>
          <p:spPr>
            <a:xfrm>
              <a:off x="6786360" y="1071720"/>
              <a:ext cx="423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34"/>
            <p:cNvSpPr/>
            <p:nvPr/>
          </p:nvSpPr>
          <p:spPr>
            <a:xfrm>
              <a:off x="6286320" y="2357640"/>
              <a:ext cx="4222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Группа 195"/>
          <p:cNvGrpSpPr/>
          <p:nvPr/>
        </p:nvGrpSpPr>
        <p:grpSpPr>
          <a:xfrm>
            <a:off x="6858000" y="3357720"/>
            <a:ext cx="1890720" cy="1898640"/>
            <a:chOff x="6858000" y="3357720"/>
            <a:chExt cx="1890720" cy="1898640"/>
          </a:xfrm>
        </p:grpSpPr>
        <p:pic>
          <p:nvPicPr>
            <p:cNvPr id="593" name="Group 29" descr=""/>
            <p:cNvPicPr/>
            <p:nvPr/>
          </p:nvPicPr>
          <p:blipFill>
            <a:blip r:embed="rId5"/>
            <a:stretch/>
          </p:blipFill>
          <p:spPr>
            <a:xfrm>
              <a:off x="7051680" y="3521880"/>
              <a:ext cx="1597680" cy="17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Rectangle 32"/>
            <p:cNvSpPr/>
            <p:nvPr/>
          </p:nvSpPr>
          <p:spPr>
            <a:xfrm>
              <a:off x="8011440" y="4632120"/>
              <a:ext cx="4690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33"/>
            <p:cNvSpPr/>
            <p:nvPr/>
          </p:nvSpPr>
          <p:spPr>
            <a:xfrm>
              <a:off x="8277480" y="3357720"/>
              <a:ext cx="471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35"/>
            <p:cNvSpPr/>
            <p:nvPr/>
          </p:nvSpPr>
          <p:spPr>
            <a:xfrm>
              <a:off x="6858000" y="3931200"/>
              <a:ext cx="4712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7" name="Группа 202"/>
          <p:cNvGrpSpPr/>
          <p:nvPr/>
        </p:nvGrpSpPr>
        <p:grpSpPr>
          <a:xfrm>
            <a:off x="1714680" y="1657080"/>
            <a:ext cx="1768680" cy="2953800"/>
            <a:chOff x="1714680" y="1657080"/>
            <a:chExt cx="1768680" cy="2953800"/>
          </a:xfrm>
        </p:grpSpPr>
        <p:sp>
          <p:nvSpPr>
            <p:cNvPr id="598" name="AutoShape 24"/>
            <p:cNvSpPr/>
            <p:nvPr/>
          </p:nvSpPr>
          <p:spPr>
            <a:xfrm rot="21174000">
              <a:off x="2259000" y="1714320"/>
              <a:ext cx="1081080" cy="2386800"/>
            </a:xfrm>
            <a:prstGeom prst="rtTriangl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9933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25"/>
            <p:cNvSpPr/>
            <p:nvPr/>
          </p:nvSpPr>
          <p:spPr>
            <a:xfrm rot="21174000">
              <a:off x="2391840" y="3863520"/>
              <a:ext cx="202320" cy="286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33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26"/>
            <p:cNvSpPr/>
            <p:nvPr/>
          </p:nvSpPr>
          <p:spPr>
            <a:xfrm rot="172800">
              <a:off x="2772000" y="4097520"/>
              <a:ext cx="431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27"/>
            <p:cNvSpPr/>
            <p:nvPr/>
          </p:nvSpPr>
          <p:spPr>
            <a:xfrm>
              <a:off x="1714680" y="2892600"/>
              <a:ext cx="4348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1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Rectangle 38"/>
            <p:cNvSpPr/>
            <p:nvPr/>
          </p:nvSpPr>
          <p:spPr>
            <a:xfrm>
              <a:off x="2846520" y="2460600"/>
              <a:ext cx="5364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3" name="Группа 208"/>
          <p:cNvGrpSpPr/>
          <p:nvPr/>
        </p:nvGrpSpPr>
        <p:grpSpPr>
          <a:xfrm>
            <a:off x="327960" y="3705840"/>
            <a:ext cx="2382840" cy="3152160"/>
            <a:chOff x="327960" y="3705840"/>
            <a:chExt cx="2382840" cy="3152160"/>
          </a:xfrm>
        </p:grpSpPr>
        <p:grpSp>
          <p:nvGrpSpPr>
            <p:cNvPr id="604" name="Group 17"/>
            <p:cNvGrpSpPr/>
            <p:nvPr/>
          </p:nvGrpSpPr>
          <p:grpSpPr>
            <a:xfrm>
              <a:off x="327960" y="3705840"/>
              <a:ext cx="2382840" cy="2850840"/>
              <a:chOff x="327960" y="3705840"/>
              <a:chExt cx="2382840" cy="2850840"/>
            </a:xfrm>
          </p:grpSpPr>
          <p:sp>
            <p:nvSpPr>
              <p:cNvPr id="605" name="AutoShape 18"/>
              <p:cNvSpPr/>
              <p:nvPr/>
            </p:nvSpPr>
            <p:spPr>
              <a:xfrm flipH="1" rot="19554000">
                <a:off x="1014120" y="3751560"/>
                <a:ext cx="1009800" cy="2759040"/>
              </a:xfrm>
              <a:prstGeom prst="rtTriangle">
                <a:avLst/>
              </a:prstGeom>
              <a:gradFill rotWithShape="0">
                <a:gsLst>
                  <a:gs pos="0">
                    <a:srgbClr val="ffc000">
                      <a:alpha val="43137"/>
                    </a:srgbClr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19"/>
              <p:cNvSpPr/>
              <p:nvPr/>
            </p:nvSpPr>
            <p:spPr>
              <a:xfrm flipH="1" rot="19554000">
                <a:off x="2439720" y="5827680"/>
                <a:ext cx="219240" cy="2476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0"/>
            <p:cNvSpPr/>
            <p:nvPr/>
          </p:nvSpPr>
          <p:spPr>
            <a:xfrm flipH="1">
              <a:off x="2214000" y="6215040"/>
              <a:ext cx="431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Rectangle 21"/>
            <p:cNvSpPr/>
            <p:nvPr/>
          </p:nvSpPr>
          <p:spPr>
            <a:xfrm flipH="1">
              <a:off x="2071080" y="4572000"/>
              <a:ext cx="500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Rectangle 36"/>
            <p:cNvSpPr/>
            <p:nvPr/>
          </p:nvSpPr>
          <p:spPr>
            <a:xfrm>
              <a:off x="928800" y="5000760"/>
              <a:ext cx="431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Group 17"/>
            <p:cNvGrpSpPr/>
            <p:nvPr/>
          </p:nvGrpSpPr>
          <p:grpSpPr>
            <a:xfrm>
              <a:off x="327960" y="3705840"/>
              <a:ext cx="2382840" cy="2850840"/>
              <a:chOff x="327960" y="3705840"/>
              <a:chExt cx="2382840" cy="2850840"/>
            </a:xfrm>
          </p:grpSpPr>
          <p:sp>
            <p:nvSpPr>
              <p:cNvPr id="611" name="AutoShape 18"/>
              <p:cNvSpPr/>
              <p:nvPr/>
            </p:nvSpPr>
            <p:spPr>
              <a:xfrm flipH="1" rot="19554000">
                <a:off x="1014120" y="3751560"/>
                <a:ext cx="1009800" cy="2759040"/>
              </a:xfrm>
              <a:prstGeom prst="rtTriangle">
                <a:avLst/>
              </a:prstGeom>
              <a:gradFill rotWithShape="0">
                <a:gsLst>
                  <a:gs pos="0">
                    <a:srgbClr val="ffc000">
                      <a:alpha val="43137"/>
                    </a:srgbClr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19"/>
              <p:cNvSpPr/>
              <p:nvPr/>
            </p:nvSpPr>
            <p:spPr>
              <a:xfrm flipH="1" rot="19554000">
                <a:off x="2439720" y="5827680"/>
                <a:ext cx="219240" cy="2476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3" name="Rectangle 20"/>
            <p:cNvSpPr/>
            <p:nvPr/>
          </p:nvSpPr>
          <p:spPr>
            <a:xfrm flipH="1">
              <a:off x="2214000" y="6215040"/>
              <a:ext cx="431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 flipH="1">
              <a:off x="2071080" y="4572000"/>
              <a:ext cx="500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Rectangle 36"/>
            <p:cNvSpPr/>
            <p:nvPr/>
          </p:nvSpPr>
          <p:spPr>
            <a:xfrm>
              <a:off x="928800" y="5000760"/>
              <a:ext cx="431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6" name="Группа 221"/>
          <p:cNvGrpSpPr/>
          <p:nvPr/>
        </p:nvGrpSpPr>
        <p:grpSpPr>
          <a:xfrm>
            <a:off x="3500280" y="1130760"/>
            <a:ext cx="1529640" cy="2012400"/>
            <a:chOff x="3500280" y="1130760"/>
            <a:chExt cx="1529640" cy="2012400"/>
          </a:xfrm>
        </p:grpSpPr>
        <p:grpSp>
          <p:nvGrpSpPr>
            <p:cNvPr id="617" name="Group 4"/>
            <p:cNvGrpSpPr/>
            <p:nvPr/>
          </p:nvGrpSpPr>
          <p:grpSpPr>
            <a:xfrm>
              <a:off x="3850200" y="1130760"/>
              <a:ext cx="1179720" cy="1594440"/>
              <a:chOff x="3850200" y="1130760"/>
              <a:chExt cx="1179720" cy="1594440"/>
            </a:xfrm>
          </p:grpSpPr>
          <p:sp>
            <p:nvSpPr>
              <p:cNvPr id="618" name="AutoShape 5"/>
              <p:cNvSpPr/>
              <p:nvPr/>
            </p:nvSpPr>
            <p:spPr>
              <a:xfrm rot="873600">
                <a:off x="4016160" y="1214280"/>
                <a:ext cx="847800" cy="1427040"/>
              </a:xfrm>
              <a:prstGeom prst="rtTriangle">
                <a:avLst/>
              </a:prstGeom>
              <a:gradFill rotWithShape="0">
                <a:gsLst>
                  <a:gs pos="0">
                    <a:srgbClr val="ff9429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6"/>
              <p:cNvSpPr/>
              <p:nvPr/>
            </p:nvSpPr>
            <p:spPr>
              <a:xfrm rot="873600">
                <a:off x="3869280" y="2364480"/>
                <a:ext cx="158760" cy="171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0" name="Rectangle 7"/>
            <p:cNvSpPr/>
            <p:nvPr/>
          </p:nvSpPr>
          <p:spPr>
            <a:xfrm>
              <a:off x="3500280" y="1574640"/>
              <a:ext cx="431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8"/>
            <p:cNvSpPr/>
            <p:nvPr/>
          </p:nvSpPr>
          <p:spPr>
            <a:xfrm>
              <a:off x="3857400" y="2617920"/>
              <a:ext cx="43164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9"/>
            <p:cNvSpPr/>
            <p:nvPr/>
          </p:nvSpPr>
          <p:spPr>
            <a:xfrm>
              <a:off x="4500720" y="1574640"/>
              <a:ext cx="431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" name="Группа 228"/>
          <p:cNvGrpSpPr/>
          <p:nvPr/>
        </p:nvGrpSpPr>
        <p:grpSpPr>
          <a:xfrm>
            <a:off x="5418360" y="1071720"/>
            <a:ext cx="3004920" cy="2266920"/>
            <a:chOff x="5418360" y="1071720"/>
            <a:chExt cx="3004920" cy="2266920"/>
          </a:xfrm>
        </p:grpSpPr>
        <p:sp>
          <p:nvSpPr>
            <p:cNvPr id="624" name="AutoShape 12"/>
            <p:cNvSpPr/>
            <p:nvPr/>
          </p:nvSpPr>
          <p:spPr>
            <a:xfrm rot="10841400">
              <a:off x="5428800" y="1572840"/>
              <a:ext cx="2429280" cy="1751040"/>
            </a:xfrm>
            <a:prstGeom prst="rtTriangle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adf1b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Rectangle 13"/>
            <p:cNvSpPr/>
            <p:nvPr/>
          </p:nvSpPr>
          <p:spPr>
            <a:xfrm rot="10841400">
              <a:off x="7633800" y="1571400"/>
              <a:ext cx="212760" cy="205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adf1b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Rectangle 14"/>
            <p:cNvSpPr/>
            <p:nvPr/>
          </p:nvSpPr>
          <p:spPr>
            <a:xfrm>
              <a:off x="8001000" y="2071800"/>
              <a:ext cx="4222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Rectangle 15"/>
            <p:cNvSpPr/>
            <p:nvPr/>
          </p:nvSpPr>
          <p:spPr>
            <a:xfrm>
              <a:off x="6786360" y="1071720"/>
              <a:ext cx="423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34"/>
            <p:cNvSpPr/>
            <p:nvPr/>
          </p:nvSpPr>
          <p:spPr>
            <a:xfrm>
              <a:off x="6286320" y="2357640"/>
              <a:ext cx="4222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Группа 234"/>
          <p:cNvGrpSpPr/>
          <p:nvPr/>
        </p:nvGrpSpPr>
        <p:grpSpPr>
          <a:xfrm>
            <a:off x="6858000" y="3357720"/>
            <a:ext cx="1890720" cy="1898640"/>
            <a:chOff x="6858000" y="3357720"/>
            <a:chExt cx="1890720" cy="1898640"/>
          </a:xfrm>
        </p:grpSpPr>
        <p:pic>
          <p:nvPicPr>
            <p:cNvPr id="630" name="Group 29" descr=""/>
            <p:cNvPicPr/>
            <p:nvPr/>
          </p:nvPicPr>
          <p:blipFill>
            <a:blip r:embed="rId6"/>
            <a:stretch/>
          </p:blipFill>
          <p:spPr>
            <a:xfrm>
              <a:off x="7051680" y="3521880"/>
              <a:ext cx="1597680" cy="17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Rectangle 32"/>
            <p:cNvSpPr/>
            <p:nvPr/>
          </p:nvSpPr>
          <p:spPr>
            <a:xfrm>
              <a:off x="8011440" y="4632120"/>
              <a:ext cx="4690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33"/>
            <p:cNvSpPr/>
            <p:nvPr/>
          </p:nvSpPr>
          <p:spPr>
            <a:xfrm>
              <a:off x="8277480" y="3357720"/>
              <a:ext cx="471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35"/>
            <p:cNvSpPr/>
            <p:nvPr/>
          </p:nvSpPr>
          <p:spPr>
            <a:xfrm>
              <a:off x="6858000" y="3931200"/>
              <a:ext cx="4712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Группа 241"/>
          <p:cNvGrpSpPr/>
          <p:nvPr/>
        </p:nvGrpSpPr>
        <p:grpSpPr>
          <a:xfrm>
            <a:off x="1714680" y="1657080"/>
            <a:ext cx="1768680" cy="2953800"/>
            <a:chOff x="1714680" y="1657080"/>
            <a:chExt cx="1768680" cy="2953800"/>
          </a:xfrm>
        </p:grpSpPr>
        <p:sp>
          <p:nvSpPr>
            <p:cNvPr id="635" name="AutoShape 24"/>
            <p:cNvSpPr/>
            <p:nvPr/>
          </p:nvSpPr>
          <p:spPr>
            <a:xfrm rot="21174000">
              <a:off x="2259000" y="1714320"/>
              <a:ext cx="1081080" cy="2386800"/>
            </a:xfrm>
            <a:prstGeom prst="rtTriangl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9933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Rectangle 25"/>
            <p:cNvSpPr/>
            <p:nvPr/>
          </p:nvSpPr>
          <p:spPr>
            <a:xfrm rot="21174000">
              <a:off x="2391840" y="3863520"/>
              <a:ext cx="202320" cy="286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33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Rectangle 26"/>
            <p:cNvSpPr/>
            <p:nvPr/>
          </p:nvSpPr>
          <p:spPr>
            <a:xfrm rot="172800">
              <a:off x="2772000" y="4097520"/>
              <a:ext cx="431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Rectangle 27"/>
            <p:cNvSpPr/>
            <p:nvPr/>
          </p:nvSpPr>
          <p:spPr>
            <a:xfrm>
              <a:off x="1714680" y="2892600"/>
              <a:ext cx="4348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1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Rectangle 38"/>
            <p:cNvSpPr/>
            <p:nvPr/>
          </p:nvSpPr>
          <p:spPr>
            <a:xfrm>
              <a:off x="2846520" y="2460600"/>
              <a:ext cx="5364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0" name="Группа 247"/>
          <p:cNvGrpSpPr/>
          <p:nvPr/>
        </p:nvGrpSpPr>
        <p:grpSpPr>
          <a:xfrm>
            <a:off x="327960" y="3705840"/>
            <a:ext cx="2382840" cy="3152160"/>
            <a:chOff x="327960" y="3705840"/>
            <a:chExt cx="2382840" cy="3152160"/>
          </a:xfrm>
        </p:grpSpPr>
        <p:grpSp>
          <p:nvGrpSpPr>
            <p:cNvPr id="641" name="Group 17"/>
            <p:cNvGrpSpPr/>
            <p:nvPr/>
          </p:nvGrpSpPr>
          <p:grpSpPr>
            <a:xfrm>
              <a:off x="327960" y="3705840"/>
              <a:ext cx="2382840" cy="2850840"/>
              <a:chOff x="327960" y="3705840"/>
              <a:chExt cx="2382840" cy="2850840"/>
            </a:xfrm>
          </p:grpSpPr>
          <p:sp>
            <p:nvSpPr>
              <p:cNvPr id="642" name="AutoShape 18"/>
              <p:cNvSpPr/>
              <p:nvPr/>
            </p:nvSpPr>
            <p:spPr>
              <a:xfrm flipH="1" rot="19554000">
                <a:off x="1014120" y="3751560"/>
                <a:ext cx="1009800" cy="2759040"/>
              </a:xfrm>
              <a:prstGeom prst="rtTriangle">
                <a:avLst/>
              </a:prstGeom>
              <a:gradFill rotWithShape="0">
                <a:gsLst>
                  <a:gs pos="0">
                    <a:srgbClr val="ffc000">
                      <a:alpha val="43137"/>
                    </a:srgbClr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19"/>
              <p:cNvSpPr/>
              <p:nvPr/>
            </p:nvSpPr>
            <p:spPr>
              <a:xfrm flipH="1" rot="19554000">
                <a:off x="2439720" y="5827680"/>
                <a:ext cx="219240" cy="2476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4" name="Rectangle 20"/>
            <p:cNvSpPr/>
            <p:nvPr/>
          </p:nvSpPr>
          <p:spPr>
            <a:xfrm flipH="1">
              <a:off x="2214000" y="6215040"/>
              <a:ext cx="431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21"/>
            <p:cNvSpPr/>
            <p:nvPr/>
          </p:nvSpPr>
          <p:spPr>
            <a:xfrm flipH="1">
              <a:off x="2071080" y="4572000"/>
              <a:ext cx="500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36"/>
            <p:cNvSpPr/>
            <p:nvPr/>
          </p:nvSpPr>
          <p:spPr>
            <a:xfrm>
              <a:off x="928800" y="5000760"/>
              <a:ext cx="431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7" name="Group 17"/>
            <p:cNvGrpSpPr/>
            <p:nvPr/>
          </p:nvGrpSpPr>
          <p:grpSpPr>
            <a:xfrm>
              <a:off x="327960" y="3705840"/>
              <a:ext cx="2382840" cy="2850840"/>
              <a:chOff x="327960" y="3705840"/>
              <a:chExt cx="2382840" cy="2850840"/>
            </a:xfrm>
          </p:grpSpPr>
          <p:sp>
            <p:nvSpPr>
              <p:cNvPr id="648" name="AutoShape 18"/>
              <p:cNvSpPr/>
              <p:nvPr/>
            </p:nvSpPr>
            <p:spPr>
              <a:xfrm flipH="1" rot="19554000">
                <a:off x="1014120" y="3751560"/>
                <a:ext cx="1009800" cy="2759040"/>
              </a:xfrm>
              <a:prstGeom prst="rtTriangle">
                <a:avLst/>
              </a:prstGeom>
              <a:gradFill rotWithShape="0">
                <a:gsLst>
                  <a:gs pos="0">
                    <a:srgbClr val="ffc000">
                      <a:alpha val="43137"/>
                    </a:srgbClr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19"/>
              <p:cNvSpPr/>
              <p:nvPr/>
            </p:nvSpPr>
            <p:spPr>
              <a:xfrm flipH="1" rot="19554000">
                <a:off x="2439720" y="5827680"/>
                <a:ext cx="219240" cy="2476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0" name="Rectangle 20"/>
            <p:cNvSpPr/>
            <p:nvPr/>
          </p:nvSpPr>
          <p:spPr>
            <a:xfrm flipH="1">
              <a:off x="2214000" y="6215040"/>
              <a:ext cx="431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21"/>
            <p:cNvSpPr/>
            <p:nvPr/>
          </p:nvSpPr>
          <p:spPr>
            <a:xfrm flipH="1">
              <a:off x="2071080" y="4572000"/>
              <a:ext cx="500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36"/>
            <p:cNvSpPr/>
            <p:nvPr/>
          </p:nvSpPr>
          <p:spPr>
            <a:xfrm>
              <a:off x="928800" y="5000760"/>
              <a:ext cx="431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TextBox 260"/>
          <p:cNvSpPr/>
          <p:nvPr/>
        </p:nvSpPr>
        <p:spPr>
          <a:xfrm>
            <a:off x="2522160" y="2143080"/>
            <a:ext cx="3855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Оцен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« 5 » - Верно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« 4 » - Верно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« 3 » - Верно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« 2 » - менее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Box 261"/>
          <p:cNvSpPr/>
          <p:nvPr/>
        </p:nvSpPr>
        <p:spPr>
          <a:xfrm>
            <a:off x="4542480" y="10644120"/>
            <a:ext cx="1610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mbria"/>
              </a:rPr>
              <a:t>Снач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Прямоугольник 263"/>
          <p:cNvSpPr/>
          <p:nvPr/>
        </p:nvSpPr>
        <p:spPr>
          <a:xfrm>
            <a:off x="4082760" y="628668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нажёр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045E-016 L 0.67152 -0.4463 E">
                                      <p:cBhvr>
                                        <p:cTn id="38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22045E-016 L 0.38732 -0.4463 E">
                                      <p:cBhvr>
                                        <p:cTn id="101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0.10989 -0.44653 E">
                                      <p:cBhvr>
                                        <p:cTn id="199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51503E-006 L -0.17518 -0.44591 E">
                                      <p:cBhvr>
                                        <p:cTn id="307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50867E-006 L -0.46424 -0.44601 E">
                                      <p:cBhvr>
                                        <p:cTn id="425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500"/>
                            </p:stCondLst>
                            <p:childTnLst>
                              <p:par>
                                <p:cTn id="79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Овал 1"/>
          <p:cNvSpPr/>
          <p:nvPr/>
        </p:nvSpPr>
        <p:spPr>
          <a:xfrm>
            <a:off x="357120" y="114300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о двум уг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Овал 2"/>
          <p:cNvSpPr/>
          <p:nvPr/>
        </p:nvSpPr>
        <p:spPr>
          <a:xfrm>
            <a:off x="357120" y="250020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по двум пропорциональным сторонам и углу между ни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Овал 3"/>
          <p:cNvSpPr/>
          <p:nvPr/>
        </p:nvSpPr>
        <p:spPr>
          <a:xfrm>
            <a:off x="357120" y="392904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по трём пропорциональным сторона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Овал 4"/>
          <p:cNvSpPr/>
          <p:nvPr/>
        </p:nvSpPr>
        <p:spPr>
          <a:xfrm>
            <a:off x="357120" y="528624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треугольники не подоб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745560" y="500040"/>
            <a:ext cx="71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5439"/>
                </a:solidFill>
                <a:latin typeface="Arial"/>
              </a:rPr>
              <a:t>По какому признаку подобны треугольн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18"/>
          <p:cNvSpPr/>
          <p:nvPr/>
        </p:nvSpPr>
        <p:spPr>
          <a:xfrm>
            <a:off x="5143680" y="6215040"/>
            <a:ext cx="3214440" cy="405000"/>
          </a:xfrm>
          <a:prstGeom prst="rect">
            <a:avLst/>
          </a:prstGeom>
          <a:solidFill>
            <a:srgbClr val="527e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овая  задача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2" name="Группа 44"/>
          <p:cNvGrpSpPr/>
          <p:nvPr/>
        </p:nvGrpSpPr>
        <p:grpSpPr>
          <a:xfrm>
            <a:off x="4071960" y="6286680"/>
            <a:ext cx="785880" cy="428400"/>
            <a:chOff x="4071960" y="6286680"/>
            <a:chExt cx="785880" cy="428400"/>
          </a:xfrm>
        </p:grpSpPr>
        <p:sp>
          <p:nvSpPr>
            <p:cNvPr id="663" name="Овал 45"/>
            <p:cNvSpPr/>
            <p:nvPr/>
          </p:nvSpPr>
          <p:spPr>
            <a:xfrm>
              <a:off x="4071960" y="6286680"/>
              <a:ext cx="785880" cy="428400"/>
            </a:xfrm>
            <a:prstGeom prst="ellipse">
              <a:avLst/>
            </a:prstGeom>
            <a:solidFill>
              <a:srgbClr val="0070c0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TextBox 46"/>
            <p:cNvSpPr/>
            <p:nvPr/>
          </p:nvSpPr>
          <p:spPr>
            <a:xfrm>
              <a:off x="4143240" y="6357960"/>
              <a:ext cx="71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ер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5" name="Группа 47"/>
          <p:cNvGrpSpPr/>
          <p:nvPr/>
        </p:nvGrpSpPr>
        <p:grpSpPr>
          <a:xfrm>
            <a:off x="3286080" y="6286680"/>
            <a:ext cx="785880" cy="428400"/>
            <a:chOff x="3286080" y="6286680"/>
            <a:chExt cx="785880" cy="428400"/>
          </a:xfrm>
        </p:grpSpPr>
        <p:sp>
          <p:nvSpPr>
            <p:cNvPr id="666" name="Овал 48"/>
            <p:cNvSpPr/>
            <p:nvPr/>
          </p:nvSpPr>
          <p:spPr>
            <a:xfrm>
              <a:off x="3286080" y="6286680"/>
              <a:ext cx="785880" cy="428400"/>
            </a:xfrm>
            <a:prstGeom prst="ellipse">
              <a:avLst/>
            </a:prstGeom>
            <a:solidFill>
              <a:srgbClr val="0070c0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TextBox 49"/>
            <p:cNvSpPr/>
            <p:nvPr/>
          </p:nvSpPr>
          <p:spPr>
            <a:xfrm>
              <a:off x="3357360" y="6357960"/>
              <a:ext cx="71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ер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8" name="Группа 50"/>
          <p:cNvGrpSpPr/>
          <p:nvPr/>
        </p:nvGrpSpPr>
        <p:grpSpPr>
          <a:xfrm>
            <a:off x="2500200" y="6286680"/>
            <a:ext cx="785880" cy="428400"/>
            <a:chOff x="2500200" y="6286680"/>
            <a:chExt cx="785880" cy="428400"/>
          </a:xfrm>
        </p:grpSpPr>
        <p:sp>
          <p:nvSpPr>
            <p:cNvPr id="669" name="Овал 51"/>
            <p:cNvSpPr/>
            <p:nvPr/>
          </p:nvSpPr>
          <p:spPr>
            <a:xfrm>
              <a:off x="2500200" y="6286680"/>
              <a:ext cx="785880" cy="428400"/>
            </a:xfrm>
            <a:prstGeom prst="ellipse">
              <a:avLst/>
            </a:prstGeom>
            <a:solidFill>
              <a:srgbClr val="0070c0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TextBox 52"/>
            <p:cNvSpPr/>
            <p:nvPr/>
          </p:nvSpPr>
          <p:spPr>
            <a:xfrm>
              <a:off x="2571480" y="6357960"/>
              <a:ext cx="71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ер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Группа 53"/>
          <p:cNvGrpSpPr/>
          <p:nvPr/>
        </p:nvGrpSpPr>
        <p:grpSpPr>
          <a:xfrm>
            <a:off x="1714680" y="6286680"/>
            <a:ext cx="785520" cy="428400"/>
            <a:chOff x="1714680" y="6286680"/>
            <a:chExt cx="785520" cy="428400"/>
          </a:xfrm>
        </p:grpSpPr>
        <p:sp>
          <p:nvSpPr>
            <p:cNvPr id="672" name="Овал 54"/>
            <p:cNvSpPr/>
            <p:nvPr/>
          </p:nvSpPr>
          <p:spPr>
            <a:xfrm>
              <a:off x="1714680" y="6286680"/>
              <a:ext cx="785520" cy="428400"/>
            </a:xfrm>
            <a:prstGeom prst="ellipse">
              <a:avLst/>
            </a:prstGeom>
            <a:solidFill>
              <a:srgbClr val="0070c0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Box 55"/>
            <p:cNvSpPr/>
            <p:nvPr/>
          </p:nvSpPr>
          <p:spPr>
            <a:xfrm>
              <a:off x="1785960" y="6357960"/>
              <a:ext cx="71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ер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4" name="Группа 56"/>
          <p:cNvGrpSpPr/>
          <p:nvPr/>
        </p:nvGrpSpPr>
        <p:grpSpPr>
          <a:xfrm>
            <a:off x="928800" y="6286680"/>
            <a:ext cx="785880" cy="428400"/>
            <a:chOff x="928800" y="6286680"/>
            <a:chExt cx="785880" cy="428400"/>
          </a:xfrm>
        </p:grpSpPr>
        <p:sp>
          <p:nvSpPr>
            <p:cNvPr id="675" name="Овал 57"/>
            <p:cNvSpPr/>
            <p:nvPr/>
          </p:nvSpPr>
          <p:spPr>
            <a:xfrm>
              <a:off x="928800" y="6286680"/>
              <a:ext cx="785880" cy="428400"/>
            </a:xfrm>
            <a:prstGeom prst="ellipse">
              <a:avLst/>
            </a:prstGeom>
            <a:solidFill>
              <a:srgbClr val="0070c0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TextBox 58"/>
            <p:cNvSpPr/>
            <p:nvPr/>
          </p:nvSpPr>
          <p:spPr>
            <a:xfrm>
              <a:off x="1000080" y="6357960"/>
              <a:ext cx="71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ер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7" name="Группа 59"/>
          <p:cNvGrpSpPr/>
          <p:nvPr/>
        </p:nvGrpSpPr>
        <p:grpSpPr>
          <a:xfrm>
            <a:off x="142920" y="6286680"/>
            <a:ext cx="785880" cy="428400"/>
            <a:chOff x="142920" y="6286680"/>
            <a:chExt cx="785880" cy="428400"/>
          </a:xfrm>
        </p:grpSpPr>
        <p:sp>
          <p:nvSpPr>
            <p:cNvPr id="678" name="Овал 60"/>
            <p:cNvSpPr/>
            <p:nvPr/>
          </p:nvSpPr>
          <p:spPr>
            <a:xfrm>
              <a:off x="142920" y="6286680"/>
              <a:ext cx="785880" cy="428400"/>
            </a:xfrm>
            <a:prstGeom prst="ellipse">
              <a:avLst/>
            </a:prstGeom>
            <a:solidFill>
              <a:srgbClr val="0070c0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TextBox 61"/>
            <p:cNvSpPr/>
            <p:nvPr/>
          </p:nvSpPr>
          <p:spPr>
            <a:xfrm>
              <a:off x="214200" y="6357960"/>
              <a:ext cx="71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ер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0" name="Группа 62"/>
          <p:cNvGrpSpPr/>
          <p:nvPr/>
        </p:nvGrpSpPr>
        <p:grpSpPr>
          <a:xfrm>
            <a:off x="4071960" y="6286680"/>
            <a:ext cx="857160" cy="428400"/>
            <a:chOff x="4071960" y="6286680"/>
            <a:chExt cx="857160" cy="428400"/>
          </a:xfrm>
        </p:grpSpPr>
        <p:sp>
          <p:nvSpPr>
            <p:cNvPr id="681" name="Овал 63"/>
            <p:cNvSpPr/>
            <p:nvPr/>
          </p:nvSpPr>
          <p:spPr>
            <a:xfrm>
              <a:off x="4071960" y="6286680"/>
              <a:ext cx="785880" cy="428400"/>
            </a:xfrm>
            <a:prstGeom prst="ellipse">
              <a:avLst/>
            </a:prstGeom>
            <a:solidFill>
              <a:srgbClr val="cf6868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TextBox 64"/>
            <p:cNvSpPr/>
            <p:nvPr/>
          </p:nvSpPr>
          <p:spPr>
            <a:xfrm>
              <a:off x="4071960" y="6357960"/>
              <a:ext cx="85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Невер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3" name="Группа 65"/>
          <p:cNvGrpSpPr/>
          <p:nvPr/>
        </p:nvGrpSpPr>
        <p:grpSpPr>
          <a:xfrm>
            <a:off x="3286080" y="6286680"/>
            <a:ext cx="857160" cy="428400"/>
            <a:chOff x="3286080" y="6286680"/>
            <a:chExt cx="857160" cy="428400"/>
          </a:xfrm>
        </p:grpSpPr>
        <p:sp>
          <p:nvSpPr>
            <p:cNvPr id="684" name="Овал 66"/>
            <p:cNvSpPr/>
            <p:nvPr/>
          </p:nvSpPr>
          <p:spPr>
            <a:xfrm>
              <a:off x="3286080" y="6286680"/>
              <a:ext cx="785880" cy="428400"/>
            </a:xfrm>
            <a:prstGeom prst="ellipse">
              <a:avLst/>
            </a:prstGeom>
            <a:solidFill>
              <a:srgbClr val="cf6868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Box 67"/>
            <p:cNvSpPr/>
            <p:nvPr/>
          </p:nvSpPr>
          <p:spPr>
            <a:xfrm>
              <a:off x="3286080" y="6357960"/>
              <a:ext cx="85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Невер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Группа 68"/>
          <p:cNvGrpSpPr/>
          <p:nvPr/>
        </p:nvGrpSpPr>
        <p:grpSpPr>
          <a:xfrm>
            <a:off x="2428920" y="6286680"/>
            <a:ext cx="857160" cy="428400"/>
            <a:chOff x="2428920" y="6286680"/>
            <a:chExt cx="857160" cy="428400"/>
          </a:xfrm>
        </p:grpSpPr>
        <p:sp>
          <p:nvSpPr>
            <p:cNvPr id="687" name="Овал 69"/>
            <p:cNvSpPr/>
            <p:nvPr/>
          </p:nvSpPr>
          <p:spPr>
            <a:xfrm>
              <a:off x="2500200" y="6286680"/>
              <a:ext cx="785880" cy="428400"/>
            </a:xfrm>
            <a:prstGeom prst="ellipse">
              <a:avLst/>
            </a:prstGeom>
            <a:solidFill>
              <a:srgbClr val="cf6868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Box 70"/>
            <p:cNvSpPr/>
            <p:nvPr/>
          </p:nvSpPr>
          <p:spPr>
            <a:xfrm>
              <a:off x="2428920" y="6357960"/>
              <a:ext cx="85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Невер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9" name="Группа 71"/>
          <p:cNvGrpSpPr/>
          <p:nvPr/>
        </p:nvGrpSpPr>
        <p:grpSpPr>
          <a:xfrm>
            <a:off x="1714680" y="6286680"/>
            <a:ext cx="857160" cy="428400"/>
            <a:chOff x="1714680" y="6286680"/>
            <a:chExt cx="857160" cy="428400"/>
          </a:xfrm>
        </p:grpSpPr>
        <p:sp>
          <p:nvSpPr>
            <p:cNvPr id="690" name="Овал 72"/>
            <p:cNvSpPr/>
            <p:nvPr/>
          </p:nvSpPr>
          <p:spPr>
            <a:xfrm>
              <a:off x="1714680" y="6286680"/>
              <a:ext cx="785880" cy="428400"/>
            </a:xfrm>
            <a:prstGeom prst="ellipse">
              <a:avLst/>
            </a:prstGeom>
            <a:solidFill>
              <a:srgbClr val="cf6868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TextBox 73"/>
            <p:cNvSpPr/>
            <p:nvPr/>
          </p:nvSpPr>
          <p:spPr>
            <a:xfrm>
              <a:off x="1714680" y="6357960"/>
              <a:ext cx="85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Невер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2" name="Группа 74"/>
          <p:cNvGrpSpPr/>
          <p:nvPr/>
        </p:nvGrpSpPr>
        <p:grpSpPr>
          <a:xfrm>
            <a:off x="928800" y="6286680"/>
            <a:ext cx="857160" cy="428400"/>
            <a:chOff x="928800" y="6286680"/>
            <a:chExt cx="857160" cy="428400"/>
          </a:xfrm>
        </p:grpSpPr>
        <p:sp>
          <p:nvSpPr>
            <p:cNvPr id="693" name="Овал 75"/>
            <p:cNvSpPr/>
            <p:nvPr/>
          </p:nvSpPr>
          <p:spPr>
            <a:xfrm>
              <a:off x="928800" y="6286680"/>
              <a:ext cx="785880" cy="428400"/>
            </a:xfrm>
            <a:prstGeom prst="ellipse">
              <a:avLst/>
            </a:prstGeom>
            <a:solidFill>
              <a:srgbClr val="cf6868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Box 76"/>
            <p:cNvSpPr/>
            <p:nvPr/>
          </p:nvSpPr>
          <p:spPr>
            <a:xfrm>
              <a:off x="928800" y="6357960"/>
              <a:ext cx="85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Невер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5" name="Группа 77"/>
          <p:cNvGrpSpPr/>
          <p:nvPr/>
        </p:nvGrpSpPr>
        <p:grpSpPr>
          <a:xfrm>
            <a:off x="142920" y="6286680"/>
            <a:ext cx="857160" cy="428400"/>
            <a:chOff x="142920" y="6286680"/>
            <a:chExt cx="857160" cy="428400"/>
          </a:xfrm>
        </p:grpSpPr>
        <p:sp>
          <p:nvSpPr>
            <p:cNvPr id="696" name="Овал 78"/>
            <p:cNvSpPr/>
            <p:nvPr/>
          </p:nvSpPr>
          <p:spPr>
            <a:xfrm>
              <a:off x="142920" y="6286680"/>
              <a:ext cx="785880" cy="428400"/>
            </a:xfrm>
            <a:prstGeom prst="ellipse">
              <a:avLst/>
            </a:prstGeom>
            <a:solidFill>
              <a:srgbClr val="cf6868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TextBox 79"/>
            <p:cNvSpPr/>
            <p:nvPr/>
          </p:nvSpPr>
          <p:spPr>
            <a:xfrm>
              <a:off x="142920" y="6357960"/>
              <a:ext cx="85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Невер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Группа 31"/>
          <p:cNvGrpSpPr/>
          <p:nvPr/>
        </p:nvGrpSpPr>
        <p:grpSpPr>
          <a:xfrm>
            <a:off x="4429080" y="786240"/>
            <a:ext cx="5330520" cy="4542480"/>
            <a:chOff x="4429080" y="786240"/>
            <a:chExt cx="5330520" cy="4542480"/>
          </a:xfrm>
        </p:grpSpPr>
        <p:sp>
          <p:nvSpPr>
            <p:cNvPr id="699" name="AutoShape 3"/>
            <p:cNvSpPr/>
            <p:nvPr/>
          </p:nvSpPr>
          <p:spPr>
            <a:xfrm rot="1951200">
              <a:off x="4662000" y="1914480"/>
              <a:ext cx="486432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Arc 5"/>
            <p:cNvSpPr/>
            <p:nvPr/>
          </p:nvSpPr>
          <p:spPr>
            <a:xfrm rot="1951200">
              <a:off x="7182360" y="2835720"/>
              <a:ext cx="407880" cy="433440"/>
            </a:xfrm>
            <a:prstGeom prst="pie">
              <a:avLst/>
            </a:pr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Arc 6"/>
            <p:cNvSpPr/>
            <p:nvPr/>
          </p:nvSpPr>
          <p:spPr>
            <a:xfrm rot="1951200">
              <a:off x="4791960" y="2462040"/>
              <a:ext cx="328320" cy="304560"/>
            </a:xfrm>
            <a:prstGeom prst="pie">
              <a:avLst/>
            </a:pr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7"/>
            <p:cNvSpPr/>
            <p:nvPr/>
          </p:nvSpPr>
          <p:spPr>
            <a:xfrm flipH="1">
              <a:off x="4668840" y="1834920"/>
              <a:ext cx="2359800" cy="7776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8"/>
            <p:cNvSpPr/>
            <p:nvPr/>
          </p:nvSpPr>
          <p:spPr>
            <a:xfrm>
              <a:off x="4668840" y="2612520"/>
              <a:ext cx="3813480" cy="249696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9"/>
            <p:cNvSpPr/>
            <p:nvPr/>
          </p:nvSpPr>
          <p:spPr>
            <a:xfrm>
              <a:off x="7028640" y="1834920"/>
              <a:ext cx="1453680" cy="327456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10"/>
            <p:cNvSpPr/>
            <p:nvPr/>
          </p:nvSpPr>
          <p:spPr>
            <a:xfrm flipH="1">
              <a:off x="6720480" y="2661840"/>
              <a:ext cx="680760" cy="12978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Oval 11"/>
            <p:cNvSpPr/>
            <p:nvPr/>
          </p:nvSpPr>
          <p:spPr>
            <a:xfrm rot="1951200">
              <a:off x="4641480" y="2590200"/>
              <a:ext cx="56880" cy="5688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val 12"/>
            <p:cNvSpPr/>
            <p:nvPr/>
          </p:nvSpPr>
          <p:spPr>
            <a:xfrm rot="1951200">
              <a:off x="8455680" y="5090040"/>
              <a:ext cx="56880" cy="5688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13"/>
            <p:cNvSpPr/>
            <p:nvPr/>
          </p:nvSpPr>
          <p:spPr>
            <a:xfrm rot="1951200">
              <a:off x="7002720" y="1813320"/>
              <a:ext cx="55440" cy="5688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14"/>
            <p:cNvSpPr/>
            <p:nvPr/>
          </p:nvSpPr>
          <p:spPr>
            <a:xfrm rot="1951200">
              <a:off x="7373520" y="2640960"/>
              <a:ext cx="56880" cy="5688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15"/>
            <p:cNvSpPr/>
            <p:nvPr/>
          </p:nvSpPr>
          <p:spPr>
            <a:xfrm rot="1951200">
              <a:off x="6694200" y="3939840"/>
              <a:ext cx="55440" cy="5544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Группа 1"/>
          <p:cNvGrpSpPr/>
          <p:nvPr/>
        </p:nvGrpSpPr>
        <p:grpSpPr>
          <a:xfrm>
            <a:off x="3999960" y="-360"/>
            <a:ext cx="6111360" cy="6170040"/>
            <a:chOff x="3999960" y="-360"/>
            <a:chExt cx="6111360" cy="6170040"/>
          </a:xfrm>
        </p:grpSpPr>
        <p:sp>
          <p:nvSpPr>
            <p:cNvPr id="712" name="AutoShape 6"/>
            <p:cNvSpPr/>
            <p:nvPr/>
          </p:nvSpPr>
          <p:spPr>
            <a:xfrm rot="2755200">
              <a:off x="4239360" y="1558080"/>
              <a:ext cx="5632560" cy="30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Arc 7"/>
            <p:cNvSpPr/>
            <p:nvPr/>
          </p:nvSpPr>
          <p:spPr>
            <a:xfrm rot="2755200">
              <a:off x="4641120" y="2238120"/>
              <a:ext cx="161640" cy="22680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Arc 8"/>
            <p:cNvSpPr/>
            <p:nvPr/>
          </p:nvSpPr>
          <p:spPr>
            <a:xfrm rot="2755200">
              <a:off x="5538600" y="1710000"/>
              <a:ext cx="125280" cy="28548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Line 9"/>
            <p:cNvSpPr/>
            <p:nvPr/>
          </p:nvSpPr>
          <p:spPr>
            <a:xfrm>
              <a:off x="5158440" y="1498320"/>
              <a:ext cx="3319560" cy="4019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10"/>
            <p:cNvSpPr/>
            <p:nvPr/>
          </p:nvSpPr>
          <p:spPr>
            <a:xfrm flipH="1" flipV="1">
              <a:off x="4289400" y="2140920"/>
              <a:ext cx="4077360" cy="9244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Line 11"/>
            <p:cNvSpPr/>
            <p:nvPr/>
          </p:nvSpPr>
          <p:spPr>
            <a:xfrm flipH="1" flipV="1">
              <a:off x="5158440" y="1497960"/>
              <a:ext cx="3208320" cy="15674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12"/>
            <p:cNvSpPr/>
            <p:nvPr/>
          </p:nvSpPr>
          <p:spPr>
            <a:xfrm flipH="1" flipV="1">
              <a:off x="4237920" y="2117880"/>
              <a:ext cx="4177080" cy="33274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val 13"/>
            <p:cNvSpPr/>
            <p:nvPr/>
          </p:nvSpPr>
          <p:spPr>
            <a:xfrm rot="2755200">
              <a:off x="5969160" y="2485080"/>
              <a:ext cx="63360" cy="6336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14"/>
            <p:cNvSpPr/>
            <p:nvPr/>
          </p:nvSpPr>
          <p:spPr>
            <a:xfrm flipH="1" rot="2755200">
              <a:off x="5134320" y="1507680"/>
              <a:ext cx="45720" cy="4572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Oval 15"/>
            <p:cNvSpPr/>
            <p:nvPr/>
          </p:nvSpPr>
          <p:spPr>
            <a:xfrm rot="2755200">
              <a:off x="8382600" y="5424120"/>
              <a:ext cx="63360" cy="6192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16"/>
            <p:cNvSpPr/>
            <p:nvPr/>
          </p:nvSpPr>
          <p:spPr>
            <a:xfrm rot="2755200">
              <a:off x="8284680" y="3026520"/>
              <a:ext cx="61560" cy="6336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17"/>
            <p:cNvSpPr/>
            <p:nvPr/>
          </p:nvSpPr>
          <p:spPr>
            <a:xfrm rot="2755200">
              <a:off x="4206960" y="2102760"/>
              <a:ext cx="63360" cy="6336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4" name="Группа 57"/>
          <p:cNvGrpSpPr/>
          <p:nvPr/>
        </p:nvGrpSpPr>
        <p:grpSpPr>
          <a:xfrm>
            <a:off x="4500720" y="2000160"/>
            <a:ext cx="3984480" cy="2653560"/>
            <a:chOff x="4500720" y="2000160"/>
            <a:chExt cx="3984480" cy="2653560"/>
          </a:xfrm>
        </p:grpSpPr>
        <p:sp>
          <p:nvSpPr>
            <p:cNvPr id="725" name="Line 54"/>
            <p:cNvSpPr/>
            <p:nvPr/>
          </p:nvSpPr>
          <p:spPr>
            <a:xfrm>
              <a:off x="4522680" y="2020680"/>
              <a:ext cx="3929040" cy="19620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Line 55"/>
            <p:cNvSpPr/>
            <p:nvPr/>
          </p:nvSpPr>
          <p:spPr>
            <a:xfrm>
              <a:off x="6080040" y="3983040"/>
              <a:ext cx="2371680" cy="1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Line 56"/>
            <p:cNvSpPr/>
            <p:nvPr/>
          </p:nvSpPr>
          <p:spPr>
            <a:xfrm>
              <a:off x="6080040" y="3983040"/>
              <a:ext cx="1028520" cy="5382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Line 57"/>
            <p:cNvSpPr/>
            <p:nvPr/>
          </p:nvSpPr>
          <p:spPr>
            <a:xfrm>
              <a:off x="4522680" y="2020680"/>
              <a:ext cx="1557360" cy="19620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58"/>
            <p:cNvSpPr/>
            <p:nvPr/>
          </p:nvSpPr>
          <p:spPr>
            <a:xfrm flipH="1">
              <a:off x="7108920" y="3983040"/>
              <a:ext cx="1342800" cy="5382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59"/>
            <p:cNvSpPr/>
            <p:nvPr/>
          </p:nvSpPr>
          <p:spPr>
            <a:xfrm>
              <a:off x="6783120" y="2628720"/>
              <a:ext cx="375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b0f0"/>
                  </a:solidFill>
                  <a:latin typeface="Calibri"/>
                </a:rPr>
                <a:t>18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Rectangle 60"/>
            <p:cNvSpPr/>
            <p:nvPr/>
          </p:nvSpPr>
          <p:spPr>
            <a:xfrm>
              <a:off x="6837840" y="3498840"/>
              <a:ext cx="1882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b0f0"/>
                  </a:solidFill>
                  <a:latin typeface="Calibri"/>
                </a:rPr>
                <a:t>9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Rectangle 61"/>
            <p:cNvSpPr/>
            <p:nvPr/>
          </p:nvSpPr>
          <p:spPr>
            <a:xfrm>
              <a:off x="7944480" y="4211640"/>
              <a:ext cx="1882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b0f0"/>
                  </a:solidFill>
                  <a:latin typeface="Calibri"/>
                </a:rPr>
                <a:t>5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ectangle 62"/>
            <p:cNvSpPr/>
            <p:nvPr/>
          </p:nvSpPr>
          <p:spPr>
            <a:xfrm>
              <a:off x="4996800" y="3057480"/>
              <a:ext cx="375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b0f0"/>
                  </a:solidFill>
                  <a:latin typeface="Calibri"/>
                </a:rPr>
                <a:t>1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Rectangle 63"/>
            <p:cNvSpPr/>
            <p:nvPr/>
          </p:nvSpPr>
          <p:spPr>
            <a:xfrm>
              <a:off x="6141240" y="4200480"/>
              <a:ext cx="4701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b0f0"/>
                  </a:solidFill>
                  <a:latin typeface="Calibri"/>
                </a:rPr>
                <a:t>4,5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64"/>
            <p:cNvSpPr/>
            <p:nvPr/>
          </p:nvSpPr>
          <p:spPr>
            <a:xfrm>
              <a:off x="4500720" y="2000160"/>
              <a:ext cx="55440" cy="5220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Oval 66"/>
            <p:cNvSpPr/>
            <p:nvPr/>
          </p:nvSpPr>
          <p:spPr>
            <a:xfrm>
              <a:off x="8429760" y="3962160"/>
              <a:ext cx="55440" cy="5220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Oval 68"/>
            <p:cNvSpPr/>
            <p:nvPr/>
          </p:nvSpPr>
          <p:spPr>
            <a:xfrm>
              <a:off x="6058080" y="3962160"/>
              <a:ext cx="56880" cy="5220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70"/>
            <p:cNvSpPr/>
            <p:nvPr/>
          </p:nvSpPr>
          <p:spPr>
            <a:xfrm>
              <a:off x="7085160" y="4500360"/>
              <a:ext cx="56880" cy="5076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9" name="Группа 56"/>
          <p:cNvGrpSpPr/>
          <p:nvPr/>
        </p:nvGrpSpPr>
        <p:grpSpPr>
          <a:xfrm>
            <a:off x="4482000" y="1775160"/>
            <a:ext cx="4220640" cy="3793680"/>
            <a:chOff x="4482000" y="1775160"/>
            <a:chExt cx="4220640" cy="3793680"/>
          </a:xfrm>
        </p:grpSpPr>
        <p:sp>
          <p:nvSpPr>
            <p:cNvPr id="740" name="Line 24"/>
            <p:cNvSpPr/>
            <p:nvPr/>
          </p:nvSpPr>
          <p:spPr>
            <a:xfrm flipH="1">
              <a:off x="4482000" y="1810080"/>
              <a:ext cx="2660400" cy="7804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4482000" y="2590560"/>
              <a:ext cx="4162680" cy="292536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Line 26"/>
            <p:cNvSpPr/>
            <p:nvPr/>
          </p:nvSpPr>
          <p:spPr>
            <a:xfrm>
              <a:off x="7142400" y="1810080"/>
              <a:ext cx="1502280" cy="37062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Line 27"/>
            <p:cNvSpPr/>
            <p:nvPr/>
          </p:nvSpPr>
          <p:spPr>
            <a:xfrm flipH="1" flipV="1">
              <a:off x="5558040" y="3342240"/>
              <a:ext cx="2427120" cy="5443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Rectangle 28"/>
            <p:cNvSpPr/>
            <p:nvPr/>
          </p:nvSpPr>
          <p:spPr>
            <a:xfrm rot="646800">
              <a:off x="4750920" y="2927880"/>
              <a:ext cx="18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b0f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Rectangle 29"/>
            <p:cNvSpPr/>
            <p:nvPr/>
          </p:nvSpPr>
          <p:spPr>
            <a:xfrm rot="646800">
              <a:off x="7672680" y="2616120"/>
              <a:ext cx="18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b0f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Rectangle 30"/>
            <p:cNvSpPr/>
            <p:nvPr/>
          </p:nvSpPr>
          <p:spPr>
            <a:xfrm rot="646800">
              <a:off x="6779160" y="4457880"/>
              <a:ext cx="237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b0f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Rectangle 31"/>
            <p:cNvSpPr/>
            <p:nvPr/>
          </p:nvSpPr>
          <p:spPr>
            <a:xfrm rot="646800">
              <a:off x="8483400" y="4426560"/>
              <a:ext cx="18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b0f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Oval 32"/>
            <p:cNvSpPr/>
            <p:nvPr/>
          </p:nvSpPr>
          <p:spPr>
            <a:xfrm rot="2063400">
              <a:off x="4495320" y="2511720"/>
              <a:ext cx="63000" cy="6300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33"/>
            <p:cNvSpPr/>
            <p:nvPr/>
          </p:nvSpPr>
          <p:spPr>
            <a:xfrm rot="2063400">
              <a:off x="8614800" y="5493600"/>
              <a:ext cx="63000" cy="6300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34"/>
            <p:cNvSpPr/>
            <p:nvPr/>
          </p:nvSpPr>
          <p:spPr>
            <a:xfrm rot="2063400">
              <a:off x="7112520" y="1787400"/>
              <a:ext cx="63000" cy="6300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35"/>
            <p:cNvSpPr/>
            <p:nvPr/>
          </p:nvSpPr>
          <p:spPr>
            <a:xfrm rot="2063400">
              <a:off x="7955640" y="3863880"/>
              <a:ext cx="63000" cy="6300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Oval 36"/>
            <p:cNvSpPr/>
            <p:nvPr/>
          </p:nvSpPr>
          <p:spPr>
            <a:xfrm rot="2063400">
              <a:off x="5528160" y="3319560"/>
              <a:ext cx="63000" cy="6300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3" name="Группа 18"/>
          <p:cNvGrpSpPr/>
          <p:nvPr/>
        </p:nvGrpSpPr>
        <p:grpSpPr>
          <a:xfrm>
            <a:off x="4286160" y="2071800"/>
            <a:ext cx="4343400" cy="2923920"/>
            <a:chOff x="4286160" y="2071800"/>
            <a:chExt cx="4343400" cy="2923920"/>
          </a:xfrm>
        </p:grpSpPr>
        <p:sp>
          <p:nvSpPr>
            <p:cNvPr id="754" name="AutoShape 38"/>
            <p:cNvSpPr/>
            <p:nvPr/>
          </p:nvSpPr>
          <p:spPr>
            <a:xfrm>
              <a:off x="4286160" y="2071800"/>
              <a:ext cx="4343400" cy="29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39"/>
            <p:cNvSpPr/>
            <p:nvPr/>
          </p:nvSpPr>
          <p:spPr>
            <a:xfrm flipH="1">
              <a:off x="5133600" y="4567320"/>
              <a:ext cx="3362400" cy="2952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40"/>
            <p:cNvSpPr/>
            <p:nvPr/>
          </p:nvSpPr>
          <p:spPr>
            <a:xfrm>
              <a:off x="4705200" y="2195280"/>
              <a:ext cx="428400" cy="26668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41"/>
            <p:cNvSpPr/>
            <p:nvPr/>
          </p:nvSpPr>
          <p:spPr>
            <a:xfrm>
              <a:off x="4705200" y="2195280"/>
              <a:ext cx="3791160" cy="23716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Line 42"/>
            <p:cNvSpPr/>
            <p:nvPr/>
          </p:nvSpPr>
          <p:spPr>
            <a:xfrm flipH="1">
              <a:off x="5019480" y="2871720"/>
              <a:ext cx="761760" cy="13046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Rectangle 43"/>
            <p:cNvSpPr/>
            <p:nvPr/>
          </p:nvSpPr>
          <p:spPr>
            <a:xfrm>
              <a:off x="7096320" y="3128760"/>
              <a:ext cx="34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b0f0"/>
                  </a:solidFill>
                  <a:latin typeface="Calibri"/>
                </a:rPr>
                <a:t>15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44"/>
            <p:cNvSpPr/>
            <p:nvPr/>
          </p:nvSpPr>
          <p:spPr>
            <a:xfrm>
              <a:off x="5448240" y="2214360"/>
              <a:ext cx="174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b0f0"/>
                  </a:solidFill>
                  <a:latin typeface="Calibri"/>
                </a:rPr>
                <a:t>6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45"/>
            <p:cNvSpPr/>
            <p:nvPr/>
          </p:nvSpPr>
          <p:spPr>
            <a:xfrm>
              <a:off x="4781160" y="4405320"/>
              <a:ext cx="174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b0f0"/>
                  </a:solidFill>
                  <a:latin typeface="Calibri"/>
                </a:rPr>
                <a:t>5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Rectangle 46"/>
            <p:cNvSpPr/>
            <p:nvPr/>
          </p:nvSpPr>
          <p:spPr>
            <a:xfrm>
              <a:off x="4419360" y="2766960"/>
              <a:ext cx="174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b0f0"/>
                  </a:solidFill>
                  <a:latin typeface="Calibri"/>
                </a:rPr>
                <a:t>9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Oval 47"/>
            <p:cNvSpPr/>
            <p:nvPr/>
          </p:nvSpPr>
          <p:spPr>
            <a:xfrm>
              <a:off x="5114880" y="4843440"/>
              <a:ext cx="47520" cy="4752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Oval 48"/>
            <p:cNvSpPr/>
            <p:nvPr/>
          </p:nvSpPr>
          <p:spPr>
            <a:xfrm>
              <a:off x="4686120" y="2176560"/>
              <a:ext cx="47520" cy="4752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Oval 49"/>
            <p:cNvSpPr/>
            <p:nvPr/>
          </p:nvSpPr>
          <p:spPr>
            <a:xfrm>
              <a:off x="8477280" y="4548240"/>
              <a:ext cx="47520" cy="4752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Oval 50"/>
            <p:cNvSpPr/>
            <p:nvPr/>
          </p:nvSpPr>
          <p:spPr>
            <a:xfrm>
              <a:off x="5762520" y="2852640"/>
              <a:ext cx="45720" cy="4572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51"/>
            <p:cNvSpPr/>
            <p:nvPr/>
          </p:nvSpPr>
          <p:spPr>
            <a:xfrm>
              <a:off x="5000400" y="4157640"/>
              <a:ext cx="47520" cy="4752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8" name="Группа 150"/>
          <p:cNvGrpSpPr/>
          <p:nvPr/>
        </p:nvGrpSpPr>
        <p:grpSpPr>
          <a:xfrm>
            <a:off x="5357880" y="2714400"/>
            <a:ext cx="2286000" cy="1428840"/>
            <a:chOff x="5357880" y="2714400"/>
            <a:chExt cx="2286000" cy="1428840"/>
          </a:xfrm>
        </p:grpSpPr>
        <p:sp>
          <p:nvSpPr>
            <p:cNvPr id="769" name="Line 39"/>
            <p:cNvSpPr/>
            <p:nvPr/>
          </p:nvSpPr>
          <p:spPr>
            <a:xfrm flipH="1" flipV="1">
              <a:off x="5357880" y="3285720"/>
              <a:ext cx="1571760" cy="85716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39"/>
            <p:cNvSpPr/>
            <p:nvPr/>
          </p:nvSpPr>
          <p:spPr>
            <a:xfrm flipH="1">
              <a:off x="5357880" y="2714760"/>
              <a:ext cx="2286000" cy="5810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39"/>
            <p:cNvSpPr/>
            <p:nvPr/>
          </p:nvSpPr>
          <p:spPr>
            <a:xfrm flipH="1">
              <a:off x="6929640" y="2714760"/>
              <a:ext cx="714240" cy="14284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39"/>
            <p:cNvSpPr/>
            <p:nvPr/>
          </p:nvSpPr>
          <p:spPr>
            <a:xfrm flipH="1" flipV="1">
              <a:off x="6500520" y="3000240"/>
              <a:ext cx="785880" cy="4284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3" name="Группа 34"/>
            <p:cNvGrpSpPr/>
            <p:nvPr/>
          </p:nvGrpSpPr>
          <p:grpSpPr>
            <a:xfrm>
              <a:off x="7143840" y="3214800"/>
              <a:ext cx="213840" cy="142560"/>
              <a:chOff x="7143840" y="3214800"/>
              <a:chExt cx="213840" cy="142560"/>
            </a:xfrm>
          </p:grpSpPr>
          <p:sp>
            <p:nvSpPr>
              <p:cNvPr id="774" name="Line 39"/>
              <p:cNvSpPr/>
              <p:nvPr/>
            </p:nvSpPr>
            <p:spPr>
              <a:xfrm flipH="1" flipV="1">
                <a:off x="7214760" y="3214800"/>
                <a:ext cx="142920" cy="712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39"/>
              <p:cNvSpPr/>
              <p:nvPr/>
            </p:nvSpPr>
            <p:spPr>
              <a:xfrm flipV="1">
                <a:off x="7143840" y="3214800"/>
                <a:ext cx="71280" cy="14256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Группа 35"/>
            <p:cNvGrpSpPr/>
            <p:nvPr/>
          </p:nvGrpSpPr>
          <p:grpSpPr>
            <a:xfrm>
              <a:off x="6786720" y="3929040"/>
              <a:ext cx="213840" cy="142560"/>
              <a:chOff x="6786720" y="3929040"/>
              <a:chExt cx="213840" cy="142560"/>
            </a:xfrm>
          </p:grpSpPr>
          <p:sp>
            <p:nvSpPr>
              <p:cNvPr id="777" name="Line 39"/>
              <p:cNvSpPr/>
              <p:nvPr/>
            </p:nvSpPr>
            <p:spPr>
              <a:xfrm flipH="1" flipV="1">
                <a:off x="6857640" y="3929040"/>
                <a:ext cx="142920" cy="712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39"/>
              <p:cNvSpPr/>
              <p:nvPr/>
            </p:nvSpPr>
            <p:spPr>
              <a:xfrm flipV="1">
                <a:off x="6786720" y="3929040"/>
                <a:ext cx="71280" cy="14256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9" name="Oval 50"/>
            <p:cNvSpPr/>
            <p:nvPr/>
          </p:nvSpPr>
          <p:spPr>
            <a:xfrm rot="17868600">
              <a:off x="7580520" y="2721960"/>
              <a:ext cx="45720" cy="4572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Oval 50"/>
            <p:cNvSpPr/>
            <p:nvPr/>
          </p:nvSpPr>
          <p:spPr>
            <a:xfrm rot="17868600">
              <a:off x="6508800" y="3007440"/>
              <a:ext cx="45720" cy="4572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Oval 50"/>
            <p:cNvSpPr/>
            <p:nvPr/>
          </p:nvSpPr>
          <p:spPr>
            <a:xfrm rot="17868600">
              <a:off x="7223400" y="3364920"/>
              <a:ext cx="45720" cy="4572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Oval 50"/>
            <p:cNvSpPr/>
            <p:nvPr/>
          </p:nvSpPr>
          <p:spPr>
            <a:xfrm rot="17868600">
              <a:off x="5365800" y="3293280"/>
              <a:ext cx="45720" cy="45720"/>
            </a:xfrm>
            <a:prstGeom prst="ellipse">
              <a:avLst/>
            </a:prstGeom>
            <a:solidFill>
              <a:srgbClr val="00b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3" name="Овал 130"/>
          <p:cNvSpPr/>
          <p:nvPr/>
        </p:nvSpPr>
        <p:spPr>
          <a:xfrm>
            <a:off x="357120" y="114300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по двум уг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Овал 131"/>
          <p:cNvSpPr/>
          <p:nvPr/>
        </p:nvSpPr>
        <p:spPr>
          <a:xfrm>
            <a:off x="357120" y="250020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по двум пропорциональным сторонам и углу между ни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Овал 132"/>
          <p:cNvSpPr/>
          <p:nvPr/>
        </p:nvSpPr>
        <p:spPr>
          <a:xfrm>
            <a:off x="357120" y="392904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по трём пропорциональным сторона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Овал 133"/>
          <p:cNvSpPr/>
          <p:nvPr/>
        </p:nvSpPr>
        <p:spPr>
          <a:xfrm>
            <a:off x="357120" y="528624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треугольники не подоб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Овал 134"/>
          <p:cNvSpPr/>
          <p:nvPr/>
        </p:nvSpPr>
        <p:spPr>
          <a:xfrm>
            <a:off x="357120" y="528624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Cambria"/>
              </a:rPr>
              <a:t>треугольники не подоб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Овал 135"/>
          <p:cNvSpPr/>
          <p:nvPr/>
        </p:nvSpPr>
        <p:spPr>
          <a:xfrm>
            <a:off x="357120" y="392904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Cambria"/>
              </a:rPr>
              <a:t>по трём пропорциональным сторона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Овал 136"/>
          <p:cNvSpPr/>
          <p:nvPr/>
        </p:nvSpPr>
        <p:spPr>
          <a:xfrm>
            <a:off x="357120" y="114300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6600cc"/>
                </a:solidFill>
                <a:latin typeface="Cambria"/>
              </a:rPr>
              <a:t>по двум уг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Овал 137"/>
          <p:cNvSpPr/>
          <p:nvPr/>
        </p:nvSpPr>
        <p:spPr>
          <a:xfrm>
            <a:off x="357120" y="250020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Cambria"/>
              </a:rPr>
              <a:t>по двум пропорциональным сторонам и углу между ни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Овал 138"/>
          <p:cNvSpPr/>
          <p:nvPr/>
        </p:nvSpPr>
        <p:spPr>
          <a:xfrm>
            <a:off x="357120" y="250020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по двум пропорциональным сторонам и углу между ни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Овал 139"/>
          <p:cNvSpPr/>
          <p:nvPr/>
        </p:nvSpPr>
        <p:spPr>
          <a:xfrm>
            <a:off x="357120" y="114300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по двум уг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Овал 140"/>
          <p:cNvSpPr/>
          <p:nvPr/>
        </p:nvSpPr>
        <p:spPr>
          <a:xfrm>
            <a:off x="357120" y="392904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по трём пропорциональным сторона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Овал 141"/>
          <p:cNvSpPr/>
          <p:nvPr/>
        </p:nvSpPr>
        <p:spPr>
          <a:xfrm>
            <a:off x="357120" y="528624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треугольники не подоб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Овал 142"/>
          <p:cNvSpPr/>
          <p:nvPr/>
        </p:nvSpPr>
        <p:spPr>
          <a:xfrm>
            <a:off x="357120" y="250020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Cambria"/>
              </a:rPr>
              <a:t>по двум пропорциональным сторонам и углу между ни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Овал 143"/>
          <p:cNvSpPr/>
          <p:nvPr/>
        </p:nvSpPr>
        <p:spPr>
          <a:xfrm>
            <a:off x="357120" y="114300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Cambria"/>
              </a:rPr>
              <a:t>по двум уг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Овал 144"/>
          <p:cNvSpPr/>
          <p:nvPr/>
        </p:nvSpPr>
        <p:spPr>
          <a:xfrm>
            <a:off x="357120" y="392904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Cambria"/>
              </a:rPr>
              <a:t>по трём пропорциональным сторона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Овал 145"/>
          <p:cNvSpPr/>
          <p:nvPr/>
        </p:nvSpPr>
        <p:spPr>
          <a:xfrm>
            <a:off x="357120" y="528624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ambria"/>
              </a:rPr>
              <a:t>треугольники не подоб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Овал 146"/>
          <p:cNvSpPr/>
          <p:nvPr/>
        </p:nvSpPr>
        <p:spPr>
          <a:xfrm>
            <a:off x="357120" y="528624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b4bff"/>
                </a:solidFill>
                <a:latin typeface="Cambria"/>
              </a:rPr>
              <a:t>треугольники не подоб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Овал 147"/>
          <p:cNvSpPr/>
          <p:nvPr/>
        </p:nvSpPr>
        <p:spPr>
          <a:xfrm>
            <a:off x="357120" y="392904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4bff"/>
                </a:solidFill>
                <a:latin typeface="Cambria"/>
              </a:rPr>
              <a:t>по трём пропорциональным сторона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Овал 148"/>
          <p:cNvSpPr/>
          <p:nvPr/>
        </p:nvSpPr>
        <p:spPr>
          <a:xfrm>
            <a:off x="357120" y="114300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4b4bff"/>
                </a:solidFill>
                <a:latin typeface="Cambria"/>
              </a:rPr>
              <a:t>по двум уг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Овал 149"/>
          <p:cNvSpPr/>
          <p:nvPr/>
        </p:nvSpPr>
        <p:spPr>
          <a:xfrm>
            <a:off x="357120" y="2500200"/>
            <a:ext cx="3857760" cy="91440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4bff"/>
                </a:solidFill>
                <a:latin typeface="Cambria"/>
              </a:rPr>
              <a:t>по двум пропорциональным сторонам и углу между ни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TextBox 150"/>
          <p:cNvSpPr/>
          <p:nvPr/>
        </p:nvSpPr>
        <p:spPr>
          <a:xfrm>
            <a:off x="1357200" y="1785960"/>
            <a:ext cx="5857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Оцен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« 5 » - Верно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« 4 » - Верно 4-5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« 3 » - Верно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« 2 » - менее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Овал 151"/>
          <p:cNvSpPr/>
          <p:nvPr/>
        </p:nvSpPr>
        <p:spPr>
          <a:xfrm>
            <a:off x="5572080" y="6143760"/>
            <a:ext cx="2357640" cy="5000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воя оц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Box 152"/>
          <p:cNvSpPr/>
          <p:nvPr/>
        </p:nvSpPr>
        <p:spPr>
          <a:xfrm>
            <a:off x="3153960" y="21420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нажёр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9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990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9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1000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9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010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9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1020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7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1028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785"/>
                    </p:tgtEl>
                  </p:cond>
                </p:stCondLst>
                <p:childTnLst>
                  <p:par>
                    <p:cTn id="1038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7" restart="whenNotActive" nodeType="interactiveSeq" fill="hold">
                <p:stCondLst>
                  <p:cond evt="onClick">
                    <p:tgtEl>
                      <p:spTgt spid="786"/>
                    </p:tgtEl>
                  </p:cond>
                </p:stCondLst>
                <p:childTnLst>
                  <p:par>
                    <p:cTn id="1048" fill="hold">
                      <p:stCondLst>
                        <p:cond evt="onClick">
                          <p:tgtEl>
                            <p:spTgt spid="786"/>
                          </p:tgtEl>
                        </p:cond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7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1058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5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1066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5" restart="whenNotActive" nodeType="interactiveSeq" fill="hold">
                <p:stCondLst>
                  <p:cond evt="onClick">
                    <p:tgtEl>
                      <p:spTgt spid="788"/>
                    </p:tgtEl>
                  </p:cond>
                </p:stCondLst>
                <p:childTnLst>
                  <p:par>
                    <p:cTn id="1076" fill="hold">
                      <p:stCondLst>
                        <p:cond evt="onClick">
                          <p:tgtEl>
                            <p:spTgt spid="788"/>
                          </p:tgtEl>
                        </p:cond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5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1086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5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1096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1104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3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114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1124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1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1162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796"/>
                    </p:tgtEl>
                  </p:cond>
                </p:stCondLst>
                <p:childTnLst>
                  <p:par>
                    <p:cTn id="1172" fill="hold">
                      <p:stCondLst>
                        <p:cond evt="onClick">
                          <p:tgtEl>
                            <p:spTgt spid="796"/>
                          </p:tgtEl>
                        </p:cond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9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4" restart="whenNotActive" nodeType="interactiveSeq" fill="hold">
                <p:stCondLst>
                  <p:cond evt="onClick">
                    <p:tgtEl>
                      <p:spTgt spid="801"/>
                    </p:tgtEl>
                  </p:cond>
                </p:stCondLst>
                <p:childTnLst>
                  <p:par>
                    <p:cTn id="1195" fill="hold">
                      <p:stCondLst>
                        <p:cond evt="onClick">
                          <p:tgtEl>
                            <p:spTgt spid="801"/>
                          </p:tgtEl>
                        </p:cond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9" restart="whenNotActive" nodeType="interactiveSeq" fill="hold">
                <p:stCondLst>
                  <p:cond evt="onClick">
                    <p:tgtEl>
                      <p:spTgt spid="802"/>
                    </p:tgtEl>
                  </p:cond>
                </p:stCondLst>
                <p:childTnLst>
                  <p:par>
                    <p:cTn id="1210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1225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7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1238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8:19:41Z</dcterms:created>
  <dc:creator>Sennikova</dc:creator>
  <dc:description/>
  <dc:language>en-US</dc:language>
  <cp:lastModifiedBy>Fedorova</cp:lastModifiedBy>
  <dcterms:modified xsi:type="dcterms:W3CDTF">2010-05-05T07:15:43Z</dcterms:modified>
  <cp:revision>437</cp:revision>
  <dc:subject/>
  <dc:title>Слайд 1</dc:title>
</cp:coreProperties>
</file>