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88EC-9686-44F4-BC24-A454A7AAEC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2223-6B7B-461C-9F6F-B34FF2E492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D49F-A70E-44A2-BCC4-C18389F9C10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8D2-4A4A-487D-A919-9FB52541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58F-C735-4DCA-9672-42EA8D54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A55-DCC5-4271-956E-0A920FB8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D92-1034-430B-B9FA-A4FDEAB2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49916-1456-4E4A-9C22-C82448A8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A18A9-36F4-406D-82B2-EFB5CFCE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B0AAF-B60E-4038-9925-11DD4C46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C3B8A-78BF-4DA0-BE24-8C0BC026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4E24D-BAF7-476F-B941-31D646F6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3CB6D-02BD-4E9A-9A6C-A5ACAA77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59381-765C-498C-9051-EABC6A61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941-899E-44FF-A26C-7F735F8D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E0A87-5757-4DC9-9240-8EB0FE0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BD2A0-2186-4CE4-87B9-AB63DA30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B7CEC-0B65-4653-878F-FF6A93BC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73488-A1DB-4983-A952-3D4D0A97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722E1-0C7C-438A-8B86-D923CF9F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6A62-E0FD-4A45-91AF-D4E7D9E3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3585-F774-4422-8B48-1903B4DD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3127-0CE9-4F23-AE57-45DF1EE3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2973-414F-46FF-A50D-37A3C924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59F4-8D8B-4F8D-BA51-9E72308D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EB2-8F1E-47EE-A0C2-1B193B67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3397-8092-4789-BC51-D897B286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CBC7-AC43-49ED-ABEC-7E35419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0708-CCAA-41F7-9E6F-4FB21D84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1CF2-983F-4A55-B7A6-CC0D72C3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F706-EF1F-48D2-91C3-DB31972F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3DF0-E9C0-44BB-A0E3-FA80081F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F63B-5255-49F0-B94D-3DC0B428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9F6921-59C1-4107-8E4F-FB12E9EA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7DD39-7F5B-4139-90BC-5C231394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BBCB6-9991-4996-B305-B1CC6AD5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C20-FF24-422D-BBCC-DBBE17CC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2002E-40FD-42C9-99B2-4B7BAC08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262E1-7029-4F11-8B98-B4D7187E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ED6CC-305E-4D61-ABF9-9878EA37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6DFE69-38D3-4936-B10C-04C3DFB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0F9D8-1F01-4991-9DFF-1B88939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7952D-84C3-475E-8503-7CA70298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05E0A-ECAF-49A6-9991-E785507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758E3-8A54-492D-984B-27E6DBC6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78A48-EE27-4124-ACA9-E9255656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B4A19-3A16-4EBB-A1CF-9E02FB28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389-6064-45F5-9F83-FF80B95E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39818-6D17-4B2D-9254-38FFEDDA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62FEA-DF11-4A1B-8F9B-24CDE494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8588A-39CD-42F3-9643-B050A6D0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A9442-0CDC-470C-A41B-81AF4518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3B203-EAC1-4EE1-A1CC-2DEB646A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B7851-1BDB-4628-BDAE-F40988CF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61370-3CCA-46E7-8B66-79526D0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E9445-D01E-4332-8474-06FF9F02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E1409-9AC0-4A2F-A242-FA8E5A8D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DCE58-35ED-4C90-945F-CF47448C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750-2F43-482A-8DCA-70EBD600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02B6C-7CD5-422D-927D-E16CD20F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00B82-511D-4816-B3C0-514E56A2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83DFA-19AF-496B-9A0D-D969D57C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4CEBE6-55F8-4EC9-A13D-67020ABE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DF8BC-2978-4A62-BE9B-5DB512BD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2A25A-E05B-4909-9AF3-CA74BF18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5B923-27B1-40B3-A81F-B013BE58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85335-ECF4-4F84-8021-22A94BF6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BF90F-1F61-4F0C-A823-CE35484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6EA93-F692-46A9-A9B0-438FBD4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1E0-7E2D-4535-82E0-43121CD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96CBF-3DC1-4B1F-8428-C2B488E2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D6D2B-C3D0-43F4-A517-66835262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83008-E27F-4DD6-89E1-2D1743EE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891-7431-4836-979C-E2E2CDED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680-600E-4EAC-8BFA-7AEA1B66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2311-1519-4DAD-AE91-F1A1BD28413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0639-65F3-4087-BE51-119DE5265AC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DA39-34E5-4C7E-BA85-BBC69813CC2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660D-789C-48C8-B503-9E3BC519ABA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9EAF-BCF6-4029-8DEB-18015BE68B5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187A-22F5-4D44-A917-09B0E31E3B4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gif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0040" y="471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8 КЛАСС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ГЕОМЕТРИЯ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УЧИТЕЛЬ ШПИЛЁВА Е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244440" y="1494000"/>
            <a:ext cx="8534520" cy="19922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2642040" y="28584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МОУ НОВОЛЯДИНСКАЯ СОШ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5"/>
          <p:cNvSpPr txBox="1"/>
          <p:nvPr/>
        </p:nvSpPr>
        <p:spPr>
          <a:xfrm>
            <a:off x="857160" y="285840"/>
            <a:ext cx="7715520" cy="27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cc"/>
                    </a:gs>
                    <a:gs pos="50000">
                      <a:srgbClr val="00475e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М ДАЛЬНЕЙШ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cc"/>
                  </a:gs>
                  <a:gs pos="50000">
                    <a:srgbClr val="00475e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cc"/>
                    </a:gs>
                    <a:gs pos="50000">
                      <a:srgbClr val="00475e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ВОРЧЕСКИХ УСПЕХОВ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cc"/>
                  </a:gs>
                  <a:gs pos="50000">
                    <a:srgbClr val="00475e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6" name="WordArt 6"/>
          <p:cNvSpPr txBox="1"/>
          <p:nvPr/>
        </p:nvSpPr>
        <p:spPr>
          <a:xfrm>
            <a:off x="1714680" y="4643280"/>
            <a:ext cx="60609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 ЗА  УРОК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7" name="Picture 6" descr="baby18"/>
          <p:cNvPicPr/>
          <p:nvPr/>
        </p:nvPicPr>
        <p:blipFill>
          <a:blip r:embed="rId2"/>
          <a:stretch/>
        </p:blipFill>
        <p:spPr>
          <a:xfrm>
            <a:off x="3643200" y="2428920"/>
            <a:ext cx="15541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Содержимое 3" descr="img019.jpg"/>
          <p:cNvPicPr/>
          <p:nvPr/>
        </p:nvPicPr>
        <p:blipFill>
          <a:blip r:embed="rId2"/>
          <a:stretch/>
        </p:blipFill>
        <p:spPr>
          <a:xfrm>
            <a:off x="428760" y="1643040"/>
            <a:ext cx="8286480" cy="2928960"/>
          </a:xfrm>
          <a:prstGeom prst="rect">
            <a:avLst/>
          </a:prstGeom>
          <a:ln w="25560">
            <a:solidFill>
              <a:srgbClr val="333333"/>
            </a:solidFill>
            <a:miter/>
          </a:ln>
        </p:spPr>
      </p:pic>
      <p:pic>
        <p:nvPicPr>
          <p:cNvPr id="263" name="Picture 9" descr="M03"/>
          <p:cNvPicPr/>
          <p:nvPr/>
        </p:nvPicPr>
        <p:blipFill>
          <a:blip r:embed="rId3"/>
          <a:stretch/>
        </p:blipFill>
        <p:spPr>
          <a:xfrm>
            <a:off x="428760" y="4643280"/>
            <a:ext cx="1258920" cy="1700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4"/>
          <p:cNvSpPr/>
          <p:nvPr/>
        </p:nvSpPr>
        <p:spPr>
          <a:xfrm>
            <a:off x="2071800" y="507204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Constantia"/>
              </a:rPr>
              <a:t>И</a:t>
            </a:r>
            <a:r>
              <a:rPr b="0" i="1" lang="en-US" sz="2400" spc="-1" strike="noStrike">
                <a:solidFill>
                  <a:srgbClr val="ffff00"/>
                </a:solidFill>
                <a:latin typeface="Constantia"/>
              </a:rPr>
              <a:t>дея измерения высоты египетских пирамид с помощью палки</a:t>
            </a:r>
            <a:r>
              <a:rPr b="0" i="1" lang="ru-RU" sz="24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nstantia"/>
              </a:rPr>
              <a:t>принадлежит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nstantia"/>
              </a:rPr>
              <a:t>Фалес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WordArt 7" descr=""/>
          <p:cNvPicPr/>
          <p:nvPr/>
        </p:nvPicPr>
        <p:blipFill>
          <a:blip r:embed="rId4"/>
          <a:stretch/>
        </p:blipFill>
        <p:spPr>
          <a:xfrm>
            <a:off x="487440" y="201600"/>
            <a:ext cx="825480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Содержимое 3" descr="img019.jpg"/>
          <p:cNvPicPr/>
          <p:nvPr/>
        </p:nvPicPr>
        <p:blipFill>
          <a:blip r:embed="rId2"/>
          <a:stretch/>
        </p:blipFill>
        <p:spPr>
          <a:xfrm>
            <a:off x="857160" y="500040"/>
            <a:ext cx="7344000" cy="2538360"/>
          </a:xfrm>
          <a:prstGeom prst="rect">
            <a:avLst/>
          </a:prstGeom>
          <a:ln w="25560">
            <a:solidFill>
              <a:srgbClr val="333333"/>
            </a:solidFill>
            <a:miter/>
          </a:ln>
        </p:spPr>
      </p:pic>
      <p:sp>
        <p:nvSpPr>
          <p:cNvPr id="267" name="Rectangle 6"/>
          <p:cNvSpPr/>
          <p:nvPr/>
        </p:nvSpPr>
        <p:spPr>
          <a:xfrm>
            <a:off x="785880" y="3080880"/>
            <a:ext cx="7715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АВС подобен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о двум углам)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ВА=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В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D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=90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АСВ =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 как соответственные углы при АС|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 секущей С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добных треугольниках сходственные стороны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порциональны: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68" name="Группа 15"/>
          <p:cNvGrpSpPr/>
          <p:nvPr/>
        </p:nvGrpSpPr>
        <p:grpSpPr>
          <a:xfrm>
            <a:off x="3214800" y="4500720"/>
            <a:ext cx="2571480" cy="1091880"/>
            <a:chOff x="3214800" y="4500720"/>
            <a:chExt cx="2571480" cy="1091880"/>
          </a:xfrm>
        </p:grpSpPr>
        <p:grpSp>
          <p:nvGrpSpPr>
            <p:cNvPr id="269" name="Группа 84"/>
            <p:cNvGrpSpPr/>
            <p:nvPr/>
          </p:nvGrpSpPr>
          <p:grpSpPr>
            <a:xfrm>
              <a:off x="3214800" y="4500720"/>
              <a:ext cx="942840" cy="1055160"/>
              <a:chOff x="3214800" y="4500720"/>
              <a:chExt cx="942840" cy="1055160"/>
            </a:xfrm>
          </p:grpSpPr>
          <p:sp>
            <p:nvSpPr>
              <p:cNvPr id="270" name="TextBox 56"/>
              <p:cNvSpPr/>
              <p:nvPr/>
            </p:nvSpPr>
            <p:spPr>
              <a:xfrm>
                <a:off x="3214800" y="5035320"/>
                <a:ext cx="94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AB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271" name="Прямая соединительная линия 7"/>
              <p:cNvSpPr/>
              <p:nvPr/>
            </p:nvSpPr>
            <p:spPr>
              <a:xfrm>
                <a:off x="3300480" y="5034960"/>
                <a:ext cx="60012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272" name="TextBox 63"/>
              <p:cNvSpPr/>
              <p:nvPr/>
            </p:nvSpPr>
            <p:spPr>
              <a:xfrm>
                <a:off x="3283200" y="4500720"/>
                <a:ext cx="68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DE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273" name="Группа 102"/>
            <p:cNvGrpSpPr/>
            <p:nvPr/>
          </p:nvGrpSpPr>
          <p:grpSpPr>
            <a:xfrm>
              <a:off x="4586400" y="4500720"/>
              <a:ext cx="1199880" cy="1091880"/>
              <a:chOff x="4586400" y="4500720"/>
              <a:chExt cx="1199880" cy="1091880"/>
            </a:xfrm>
          </p:grpSpPr>
          <p:sp>
            <p:nvSpPr>
              <p:cNvPr id="274" name="Прямая соединительная линия 11"/>
              <p:cNvSpPr/>
              <p:nvPr/>
            </p:nvSpPr>
            <p:spPr>
              <a:xfrm>
                <a:off x="4672080" y="5072040"/>
                <a:ext cx="514080" cy="1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275" name="Прямоугольник 70"/>
              <p:cNvSpPr/>
              <p:nvPr/>
            </p:nvSpPr>
            <p:spPr>
              <a:xfrm>
                <a:off x="4586400" y="4500720"/>
                <a:ext cx="94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BE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276" name="Прямоугольник 71"/>
              <p:cNvSpPr/>
              <p:nvPr/>
            </p:nvSpPr>
            <p:spPr>
              <a:xfrm>
                <a:off x="4586400" y="5072040"/>
                <a:ext cx="1199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CB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277" name="TextBox 14"/>
            <p:cNvSpPr/>
            <p:nvPr/>
          </p:nvSpPr>
          <p:spPr>
            <a:xfrm>
              <a:off x="4112640" y="4805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78" name="Object 41" descr=""/>
          <p:cNvPicPr/>
          <p:nvPr/>
        </p:nvPicPr>
        <p:blipFill>
          <a:blip r:embed="rId3"/>
          <a:stretch/>
        </p:blipFill>
        <p:spPr>
          <a:xfrm>
            <a:off x="5286240" y="4857840"/>
            <a:ext cx="712800" cy="571320"/>
          </a:xfrm>
          <a:prstGeom prst="rect">
            <a:avLst/>
          </a:prstGeom>
          <a:ln w="0">
            <a:noFill/>
          </a:ln>
        </p:spPr>
      </p:pic>
      <p:grpSp>
        <p:nvGrpSpPr>
          <p:cNvPr id="279" name="Группа 59"/>
          <p:cNvGrpSpPr/>
          <p:nvPr/>
        </p:nvGrpSpPr>
        <p:grpSpPr>
          <a:xfrm>
            <a:off x="6072120" y="4572000"/>
            <a:ext cx="2343240" cy="1091880"/>
            <a:chOff x="6072120" y="4572000"/>
            <a:chExt cx="2343240" cy="1091880"/>
          </a:xfrm>
        </p:grpSpPr>
        <p:grpSp>
          <p:nvGrpSpPr>
            <p:cNvPr id="280" name="Группа 58"/>
            <p:cNvGrpSpPr/>
            <p:nvPr/>
          </p:nvGrpSpPr>
          <p:grpSpPr>
            <a:xfrm>
              <a:off x="6827040" y="4572000"/>
              <a:ext cx="1588320" cy="1091880"/>
              <a:chOff x="6827040" y="4572000"/>
              <a:chExt cx="1588320" cy="1091880"/>
            </a:xfrm>
          </p:grpSpPr>
          <p:grpSp>
            <p:nvGrpSpPr>
              <p:cNvPr id="281" name="Группа 102"/>
              <p:cNvGrpSpPr/>
              <p:nvPr/>
            </p:nvGrpSpPr>
            <p:grpSpPr>
              <a:xfrm>
                <a:off x="7215120" y="4572000"/>
                <a:ext cx="1200240" cy="1091880"/>
                <a:chOff x="7215120" y="4572000"/>
                <a:chExt cx="1200240" cy="1091880"/>
              </a:xfrm>
            </p:grpSpPr>
            <p:sp>
              <p:nvSpPr>
                <p:cNvPr id="282" name="Прямая соединительная линия 22"/>
                <p:cNvSpPr/>
                <p:nvPr/>
              </p:nvSpPr>
              <p:spPr>
                <a:xfrm>
                  <a:off x="7300800" y="5143320"/>
                  <a:ext cx="514440" cy="1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  <p:sp>
              <p:nvSpPr>
                <p:cNvPr id="283" name="Прямоугольник 70"/>
                <p:cNvSpPr/>
                <p:nvPr/>
              </p:nvSpPr>
              <p:spPr>
                <a:xfrm>
                  <a:off x="7215120" y="4572000"/>
                  <a:ext cx="94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Constantia"/>
                    </a:rPr>
                    <a:t>BE</a:t>
                  </a:r>
                  <a:endParaRPr b="0" lang="en-US" sz="2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  <p:sp>
              <p:nvSpPr>
                <p:cNvPr id="284" name="Прямоугольник 71"/>
                <p:cNvSpPr/>
                <p:nvPr/>
              </p:nvSpPr>
              <p:spPr>
                <a:xfrm>
                  <a:off x="7215120" y="5143320"/>
                  <a:ext cx="1200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Constantia"/>
                    </a:rPr>
                    <a:t>CB</a:t>
                  </a:r>
                  <a:endParaRPr b="0" lang="en-US" sz="2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85" name="TextBox 20"/>
              <p:cNvSpPr/>
              <p:nvPr/>
            </p:nvSpPr>
            <p:spPr>
              <a:xfrm>
                <a:off x="6827040" y="48578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=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286" name="TextBox 28"/>
            <p:cNvSpPr/>
            <p:nvPr/>
          </p:nvSpPr>
          <p:spPr>
            <a:xfrm>
              <a:off x="6072120" y="48578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DE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87" name="Прямая соединительная линия 30"/>
          <p:cNvSpPr/>
          <p:nvPr/>
        </p:nvSpPr>
        <p:spPr>
          <a:xfrm flipH="1">
            <a:off x="6571800" y="928800"/>
            <a:ext cx="1800" cy="142848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Прямая соединительная линия 42"/>
          <p:cNvSpPr/>
          <p:nvPr/>
        </p:nvSpPr>
        <p:spPr>
          <a:xfrm>
            <a:off x="2214720" y="2714760"/>
            <a:ext cx="71424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Прямая соединительная линия 44"/>
          <p:cNvSpPr/>
          <p:nvPr/>
        </p:nvSpPr>
        <p:spPr>
          <a:xfrm flipV="1">
            <a:off x="2927520" y="2428920"/>
            <a:ext cx="144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Прямая соединительная линия 46"/>
          <p:cNvSpPr/>
          <p:nvPr/>
        </p:nvSpPr>
        <p:spPr>
          <a:xfrm flipV="1">
            <a:off x="2214720" y="2428920"/>
            <a:ext cx="71424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Прямая соединительная линия 48"/>
          <p:cNvSpPr/>
          <p:nvPr/>
        </p:nvSpPr>
        <p:spPr>
          <a:xfrm flipV="1">
            <a:off x="3000240" y="856800"/>
            <a:ext cx="3500640" cy="1785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Прямая соединительная линия 50"/>
          <p:cNvSpPr/>
          <p:nvPr/>
        </p:nvSpPr>
        <p:spPr>
          <a:xfrm flipH="1">
            <a:off x="6500880" y="857160"/>
            <a:ext cx="1440" cy="1500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Прямая соединительная линия 52"/>
          <p:cNvSpPr/>
          <p:nvPr/>
        </p:nvSpPr>
        <p:spPr>
          <a:xfrm flipV="1">
            <a:off x="3000240" y="2357280"/>
            <a:ext cx="3500640" cy="285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Половина рамки 54"/>
          <p:cNvSpPr/>
          <p:nvPr/>
        </p:nvSpPr>
        <p:spPr>
          <a:xfrm flipH="1" rot="16200000">
            <a:off x="2784960" y="2571840"/>
            <a:ext cx="142920" cy="142920"/>
          </a:xfrm>
          <a:prstGeom prst="pie">
            <a:avLst/>
          </a:prstGeom>
          <a:solidFill>
            <a:srgbClr val="a5b59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Половина рамки 55"/>
          <p:cNvSpPr/>
          <p:nvPr/>
        </p:nvSpPr>
        <p:spPr>
          <a:xfrm flipH="1" rot="16200000">
            <a:off x="6108120" y="1964520"/>
            <a:ext cx="428400" cy="357120"/>
          </a:xfrm>
          <a:prstGeom prst="pie">
            <a:avLst/>
          </a:prstGeom>
          <a:solidFill>
            <a:srgbClr val="a5b59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Дуга 56"/>
          <p:cNvSpPr/>
          <p:nvPr/>
        </p:nvSpPr>
        <p:spPr>
          <a:xfrm>
            <a:off x="2286000" y="2571840"/>
            <a:ext cx="285840" cy="285840"/>
          </a:xfrm>
          <a:prstGeom prst="pi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Дуга 57"/>
          <p:cNvSpPr/>
          <p:nvPr/>
        </p:nvSpPr>
        <p:spPr>
          <a:xfrm>
            <a:off x="3500280" y="2214720"/>
            <a:ext cx="714600" cy="714240"/>
          </a:xfrm>
          <a:prstGeom prst="pi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857240" y="142920"/>
            <a:ext cx="6286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f059"/>
                </a:solidFill>
                <a:latin typeface="Arial"/>
              </a:rPr>
              <a:t>Определение высоты предм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cf05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f059"/>
                </a:solidFill>
                <a:latin typeface="Arial"/>
              </a:rPr>
              <a:t>по длине его те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cf059"/>
              </a:solidFill>
              <a:latin typeface="Arial"/>
              <a:ea typeface="Arial"/>
            </a:endParaRPr>
          </a:p>
        </p:txBody>
      </p:sp>
      <p:grpSp>
        <p:nvGrpSpPr>
          <p:cNvPr id="299" name="Группа 12"/>
          <p:cNvGrpSpPr/>
          <p:nvPr/>
        </p:nvGrpSpPr>
        <p:grpSpPr>
          <a:xfrm>
            <a:off x="345960" y="1214280"/>
            <a:ext cx="5369040" cy="4807800"/>
            <a:chOff x="345960" y="1214280"/>
            <a:chExt cx="5369040" cy="4807800"/>
          </a:xfrm>
        </p:grpSpPr>
        <p:pic>
          <p:nvPicPr>
            <p:cNvPr id="300" name="Picture 2" descr="01609"/>
            <p:cNvPicPr/>
            <p:nvPr/>
          </p:nvPicPr>
          <p:blipFill>
            <a:blip r:embed="rId2"/>
            <a:stretch/>
          </p:blipFill>
          <p:spPr>
            <a:xfrm>
              <a:off x="499680" y="1214280"/>
              <a:ext cx="4969080" cy="4242600"/>
            </a:xfrm>
            <a:prstGeom prst="rect">
              <a:avLst/>
            </a:prstGeom>
            <a:ln w="15840">
              <a:solidFill>
                <a:srgbClr val="333333"/>
              </a:solidFill>
              <a:miter/>
            </a:ln>
          </p:spPr>
        </p:pic>
        <p:sp>
          <p:nvSpPr>
            <p:cNvPr id="301" name="Line 5"/>
            <p:cNvSpPr/>
            <p:nvPr/>
          </p:nvSpPr>
          <p:spPr>
            <a:xfrm flipH="1">
              <a:off x="499680" y="1214280"/>
              <a:ext cx="2016000" cy="424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2" name="Line 6"/>
            <p:cNvSpPr/>
            <p:nvPr/>
          </p:nvSpPr>
          <p:spPr>
            <a:xfrm flipH="1">
              <a:off x="4214880" y="2928960"/>
              <a:ext cx="720720" cy="144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3" name="TextBox 6"/>
            <p:cNvSpPr/>
            <p:nvPr/>
          </p:nvSpPr>
          <p:spPr>
            <a:xfrm>
              <a:off x="345960" y="55015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nstantia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4" name="TextBox 8"/>
            <p:cNvSpPr/>
            <p:nvPr/>
          </p:nvSpPr>
          <p:spPr>
            <a:xfrm>
              <a:off x="3666240" y="4286520"/>
              <a:ext cx="85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А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А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5" name="TextBox 9"/>
            <p:cNvSpPr/>
            <p:nvPr/>
          </p:nvSpPr>
          <p:spPr>
            <a:xfrm>
              <a:off x="4548600" y="2357280"/>
              <a:ext cx="5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В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6" name="TextBox 10"/>
            <p:cNvSpPr/>
            <p:nvPr/>
          </p:nvSpPr>
          <p:spPr>
            <a:xfrm>
              <a:off x="4929480" y="342936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7" name="TextBox 11"/>
            <p:cNvSpPr/>
            <p:nvPr/>
          </p:nvSpPr>
          <p:spPr>
            <a:xfrm>
              <a:off x="2644920" y="3357720"/>
              <a:ext cx="41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nstantia"/>
                </a:rPr>
                <a:t>С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308" name="TextBox 14"/>
          <p:cNvSpPr/>
          <p:nvPr/>
        </p:nvSpPr>
        <p:spPr>
          <a:xfrm>
            <a:off x="2715840" y="1214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09" name="Группа 15"/>
          <p:cNvGrpSpPr/>
          <p:nvPr/>
        </p:nvGrpSpPr>
        <p:grpSpPr>
          <a:xfrm>
            <a:off x="5984280" y="1500120"/>
            <a:ext cx="2588400" cy="1481760"/>
            <a:chOff x="5984280" y="1500120"/>
            <a:chExt cx="2588400" cy="1481760"/>
          </a:xfrm>
        </p:grpSpPr>
        <p:grpSp>
          <p:nvGrpSpPr>
            <p:cNvPr id="310" name="Группа 84"/>
            <p:cNvGrpSpPr/>
            <p:nvPr/>
          </p:nvGrpSpPr>
          <p:grpSpPr>
            <a:xfrm>
              <a:off x="5984280" y="1500120"/>
              <a:ext cx="959400" cy="1481760"/>
              <a:chOff x="5984280" y="1500120"/>
              <a:chExt cx="959400" cy="1481760"/>
            </a:xfrm>
          </p:grpSpPr>
          <p:sp>
            <p:nvSpPr>
              <p:cNvPr id="311" name="TextBox 56"/>
              <p:cNvSpPr/>
              <p:nvPr/>
            </p:nvSpPr>
            <p:spPr>
              <a:xfrm>
                <a:off x="6000840" y="2034720"/>
                <a:ext cx="942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A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Constantia"/>
                  </a:rPr>
                  <a:t>1С1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312" name="Прямая соединительная линия 23"/>
              <p:cNvSpPr/>
              <p:nvPr/>
            </p:nvSpPr>
            <p:spPr>
              <a:xfrm>
                <a:off x="6086520" y="2034360"/>
                <a:ext cx="60012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313" name="TextBox 63"/>
              <p:cNvSpPr/>
              <p:nvPr/>
            </p:nvSpPr>
            <p:spPr>
              <a:xfrm>
                <a:off x="5984280" y="1500120"/>
                <a:ext cx="68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С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314" name="Группа 102"/>
            <p:cNvGrpSpPr/>
            <p:nvPr/>
          </p:nvGrpSpPr>
          <p:grpSpPr>
            <a:xfrm>
              <a:off x="7372440" y="1500480"/>
              <a:ext cx="1200240" cy="1092240"/>
              <a:chOff x="7372440" y="1500480"/>
              <a:chExt cx="1200240" cy="1092240"/>
            </a:xfrm>
          </p:grpSpPr>
          <p:sp>
            <p:nvSpPr>
              <p:cNvPr id="315" name="Прямая соединительная линия 19"/>
              <p:cNvSpPr/>
              <p:nvPr/>
            </p:nvSpPr>
            <p:spPr>
              <a:xfrm>
                <a:off x="7458120" y="2072160"/>
                <a:ext cx="514440" cy="1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316" name="Прямоугольник 70"/>
              <p:cNvSpPr/>
              <p:nvPr/>
            </p:nvSpPr>
            <p:spPr>
              <a:xfrm>
                <a:off x="7372440" y="1500480"/>
                <a:ext cx="94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B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Constantia"/>
                  </a:rPr>
                  <a:t>С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317" name="Прямоугольник 71"/>
              <p:cNvSpPr/>
              <p:nvPr/>
            </p:nvSpPr>
            <p:spPr>
              <a:xfrm>
                <a:off x="7372440" y="2072160"/>
                <a:ext cx="1200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B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Constantia"/>
                  </a:rPr>
                  <a:t>1С1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318" name="TextBox 18"/>
            <p:cNvSpPr/>
            <p:nvPr/>
          </p:nvSpPr>
          <p:spPr>
            <a:xfrm>
              <a:off x="6898680" y="1805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319" name="TextBox 25" descr=""/>
          <p:cNvPicPr/>
          <p:nvPr/>
        </p:nvPicPr>
        <p:blipFill>
          <a:blip r:embed="rId3"/>
          <a:stretch/>
        </p:blipFill>
        <p:spPr>
          <a:xfrm>
            <a:off x="4925880" y="1847880"/>
            <a:ext cx="579600" cy="1657440"/>
          </a:xfrm>
          <a:prstGeom prst="rect">
            <a:avLst/>
          </a:prstGeom>
          <a:ln w="0">
            <a:noFill/>
          </a:ln>
        </p:spPr>
      </p:pic>
      <p:grpSp>
        <p:nvGrpSpPr>
          <p:cNvPr id="320" name="Группа 43"/>
          <p:cNvGrpSpPr/>
          <p:nvPr/>
        </p:nvGrpSpPr>
        <p:grpSpPr>
          <a:xfrm>
            <a:off x="8358120" y="2000160"/>
            <a:ext cx="642960" cy="144720"/>
            <a:chOff x="8358120" y="2000160"/>
            <a:chExt cx="642960" cy="144720"/>
          </a:xfrm>
        </p:grpSpPr>
        <p:sp>
          <p:nvSpPr>
            <p:cNvPr id="321" name="Прямая соединительная линия 31"/>
            <p:cNvSpPr/>
            <p:nvPr/>
          </p:nvSpPr>
          <p:spPr>
            <a:xfrm>
              <a:off x="8358120" y="2143440"/>
              <a:ext cx="50076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22" name="Прямая соединительная линия 33"/>
            <p:cNvSpPr/>
            <p:nvPr/>
          </p:nvSpPr>
          <p:spPr>
            <a:xfrm>
              <a:off x="8358120" y="2000160"/>
              <a:ext cx="50076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cxnSp>
          <p:nvCxnSpPr>
            <p:cNvPr id="323" name="Прямая со стрелкой 37"/>
            <p:cNvCxnSpPr/>
            <p:nvPr/>
          </p:nvCxnSpPr>
          <p:spPr>
            <a:xfrm>
              <a:off x="8858520" y="2071800"/>
              <a:ext cx="142920" cy="216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324" name="Группа 53"/>
          <p:cNvGrpSpPr/>
          <p:nvPr/>
        </p:nvGrpSpPr>
        <p:grpSpPr>
          <a:xfrm>
            <a:off x="5929200" y="3357720"/>
            <a:ext cx="2857680" cy="1162440"/>
            <a:chOff x="5929200" y="3357720"/>
            <a:chExt cx="2857680" cy="1162440"/>
          </a:xfrm>
        </p:grpSpPr>
        <p:grpSp>
          <p:nvGrpSpPr>
            <p:cNvPr id="325" name="Группа 102"/>
            <p:cNvGrpSpPr/>
            <p:nvPr/>
          </p:nvGrpSpPr>
          <p:grpSpPr>
            <a:xfrm>
              <a:off x="7072200" y="3357720"/>
              <a:ext cx="1714680" cy="1162440"/>
              <a:chOff x="7072200" y="3357720"/>
              <a:chExt cx="1714680" cy="1162440"/>
            </a:xfrm>
          </p:grpSpPr>
          <p:sp>
            <p:nvSpPr>
              <p:cNvPr id="326" name="Прямая соединительная линия 49"/>
              <p:cNvSpPr/>
              <p:nvPr/>
            </p:nvSpPr>
            <p:spPr>
              <a:xfrm>
                <a:off x="7157880" y="3928320"/>
                <a:ext cx="14148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327" name="Прямоугольник 70"/>
              <p:cNvSpPr/>
              <p:nvPr/>
            </p:nvSpPr>
            <p:spPr>
              <a:xfrm>
                <a:off x="7072200" y="3357720"/>
                <a:ext cx="1714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С∙ В1С1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328" name="Прямоугольник 71"/>
              <p:cNvSpPr/>
              <p:nvPr/>
            </p:nvSpPr>
            <p:spPr>
              <a:xfrm>
                <a:off x="7358040" y="3999600"/>
                <a:ext cx="1200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1С1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329" name="TextBox 48"/>
            <p:cNvSpPr/>
            <p:nvPr/>
          </p:nvSpPr>
          <p:spPr>
            <a:xfrm>
              <a:off x="6684120" y="3642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30" name="TextBox 46"/>
            <p:cNvSpPr/>
            <p:nvPr/>
          </p:nvSpPr>
          <p:spPr>
            <a:xfrm>
              <a:off x="5929200" y="36428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ВС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331" name="Прямая соединительная линия 55"/>
          <p:cNvSpPr/>
          <p:nvPr/>
        </p:nvSpPr>
        <p:spPr>
          <a:xfrm>
            <a:off x="2515320" y="1214280"/>
            <a:ext cx="55800" cy="264348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Прямая соединительная линия 57"/>
          <p:cNvSpPr/>
          <p:nvPr/>
        </p:nvSpPr>
        <p:spPr>
          <a:xfrm>
            <a:off x="4929120" y="2749680"/>
            <a:ext cx="0" cy="110808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Прямая соединительная линия 60"/>
          <p:cNvSpPr/>
          <p:nvPr/>
        </p:nvSpPr>
        <p:spPr>
          <a:xfrm flipV="1">
            <a:off x="499320" y="3785760"/>
            <a:ext cx="2071800" cy="1676520"/>
          </a:xfrm>
          <a:prstGeom prst="line">
            <a:avLst/>
          </a:prstGeom>
          <a:ln w="76320">
            <a:solidFill>
              <a:srgbClr val="fcf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Прямая соединительная линия 62"/>
          <p:cNvSpPr/>
          <p:nvPr/>
        </p:nvSpPr>
        <p:spPr>
          <a:xfrm flipV="1">
            <a:off x="4214880" y="3857400"/>
            <a:ext cx="714240" cy="500040"/>
          </a:xfrm>
          <a:prstGeom prst="line">
            <a:avLst/>
          </a:prstGeom>
          <a:ln w="57240">
            <a:solidFill>
              <a:srgbClr val="fcf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TextBox 38"/>
          <p:cNvSpPr/>
          <p:nvPr/>
        </p:nvSpPr>
        <p:spPr>
          <a:xfrm>
            <a:off x="2404080" y="564372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Решаем задачу № 580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WordArt 7" descr=""/>
          <p:cNvPicPr/>
          <p:nvPr/>
        </p:nvPicPr>
        <p:blipFill>
          <a:blip r:embed="rId2"/>
          <a:stretch/>
        </p:blipFill>
        <p:spPr>
          <a:xfrm>
            <a:off x="628560" y="274680"/>
            <a:ext cx="7954920" cy="6094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/>
          <p:cNvSpPr/>
          <p:nvPr/>
        </p:nvSpPr>
        <p:spPr>
          <a:xfrm>
            <a:off x="571680" y="1000080"/>
            <a:ext cx="38574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1)  Определение высоты скалы по шест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000760" y="1000080"/>
            <a:ext cx="3357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2) Определение высоты дерева по зеркал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39" name="Группа 12"/>
          <p:cNvGrpSpPr/>
          <p:nvPr/>
        </p:nvGrpSpPr>
        <p:grpSpPr>
          <a:xfrm>
            <a:off x="4572000" y="1785960"/>
            <a:ext cx="4572000" cy="2604960"/>
            <a:chOff x="4572000" y="1785960"/>
            <a:chExt cx="4572000" cy="2604960"/>
          </a:xfrm>
        </p:grpSpPr>
        <p:pic>
          <p:nvPicPr>
            <p:cNvPr id="340" name="Содержимое 3" descr="img021.jpg"/>
            <p:cNvPicPr/>
            <p:nvPr/>
          </p:nvPicPr>
          <p:blipFill>
            <a:blip r:embed="rId3"/>
            <a:stretch/>
          </p:blipFill>
          <p:spPr>
            <a:xfrm>
              <a:off x="4572000" y="1785960"/>
              <a:ext cx="4284720" cy="260496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pic>
          <p:nvPicPr>
            <p:cNvPr id="341" name="Picture 103" descr="derev47"/>
            <p:cNvPicPr/>
            <p:nvPr/>
          </p:nvPicPr>
          <p:blipFill>
            <a:blip r:embed="rId4"/>
            <a:stretch/>
          </p:blipFill>
          <p:spPr>
            <a:xfrm>
              <a:off x="7929720" y="2071440"/>
              <a:ext cx="1214280" cy="192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Группа 13"/>
          <p:cNvGrpSpPr/>
          <p:nvPr/>
        </p:nvGrpSpPr>
        <p:grpSpPr>
          <a:xfrm>
            <a:off x="500040" y="1785960"/>
            <a:ext cx="3960720" cy="2592360"/>
            <a:chOff x="500040" y="1785960"/>
            <a:chExt cx="3960720" cy="2592360"/>
          </a:xfrm>
        </p:grpSpPr>
        <p:pic>
          <p:nvPicPr>
            <p:cNvPr id="343" name="Picture 5" descr="Жюль Верн"/>
            <p:cNvPicPr/>
            <p:nvPr/>
          </p:nvPicPr>
          <p:blipFill>
            <a:blip r:embed="rId5"/>
            <a:stretch/>
          </p:blipFill>
          <p:spPr>
            <a:xfrm>
              <a:off x="500040" y="1785960"/>
              <a:ext cx="3960720" cy="2592360"/>
            </a:xfrm>
            <a:prstGeom prst="rect">
              <a:avLst/>
            </a:prstGeom>
            <a:ln w="25560">
              <a:solidFill>
                <a:srgbClr val="333333"/>
              </a:solidFill>
              <a:miter/>
            </a:ln>
          </p:spPr>
        </p:pic>
        <p:sp>
          <p:nvSpPr>
            <p:cNvPr id="344" name="Прямая соединительная линия 8"/>
            <p:cNvSpPr/>
            <p:nvPr/>
          </p:nvSpPr>
          <p:spPr>
            <a:xfrm flipH="1">
              <a:off x="999000" y="1857960"/>
              <a:ext cx="1440" cy="1285920"/>
            </a:xfrm>
            <a:prstGeom prst="line">
              <a:avLst/>
            </a:prstGeom>
            <a:ln w="57240">
              <a:solidFill>
                <a:srgbClr val="ffff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345" name="Picture 6" descr="baby18"/>
          <p:cNvPicPr/>
          <p:nvPr/>
        </p:nvPicPr>
        <p:blipFill>
          <a:blip r:embed="rId6"/>
          <a:stretch/>
        </p:blipFill>
        <p:spPr>
          <a:xfrm>
            <a:off x="1285920" y="4643280"/>
            <a:ext cx="1299960" cy="177192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14"/>
          <p:cNvSpPr/>
          <p:nvPr/>
        </p:nvSpPr>
        <p:spPr>
          <a:xfrm>
            <a:off x="7323120" y="571500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214800" y="4364640"/>
            <a:ext cx="53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1360" indent="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АВ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добен </a:t>
            </a:r>
            <a:r>
              <a:rPr b="1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EFD</a:t>
            </a:r>
            <a:r>
              <a:rPr b="1" lang="ru-RU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 (по двум углам)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1360" indent="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ВА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D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90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1360" indent="9360">
              <a:buClr>
                <a:srgbClr val="ffff00"/>
              </a:buClr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=</a:t>
            </a:r>
            <a:r>
              <a:rPr b="1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ffff00"/>
                </a:solidFill>
                <a:latin typeface="Constanti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DF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т.к. угол падения равен углу отраж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1360" indent="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1360" indent="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48" name="Группа 36"/>
          <p:cNvGrpSpPr/>
          <p:nvPr/>
        </p:nvGrpSpPr>
        <p:grpSpPr>
          <a:xfrm>
            <a:off x="3714840" y="5429160"/>
            <a:ext cx="2214360" cy="1080000"/>
            <a:chOff x="3714840" y="5429160"/>
            <a:chExt cx="2214360" cy="1080000"/>
          </a:xfrm>
        </p:grpSpPr>
        <p:grpSp>
          <p:nvGrpSpPr>
            <p:cNvPr id="349" name="Группа 18"/>
            <p:cNvGrpSpPr/>
            <p:nvPr/>
          </p:nvGrpSpPr>
          <p:grpSpPr>
            <a:xfrm>
              <a:off x="3714840" y="5429160"/>
              <a:ext cx="2214360" cy="1080000"/>
              <a:chOff x="3714840" y="5429160"/>
              <a:chExt cx="2214360" cy="1080000"/>
            </a:xfrm>
          </p:grpSpPr>
          <p:grpSp>
            <p:nvGrpSpPr>
              <p:cNvPr id="350" name="Группа 84"/>
              <p:cNvGrpSpPr/>
              <p:nvPr/>
            </p:nvGrpSpPr>
            <p:grpSpPr>
              <a:xfrm>
                <a:off x="3714840" y="5429160"/>
                <a:ext cx="811800" cy="1043640"/>
                <a:chOff x="3714840" y="5429160"/>
                <a:chExt cx="811800" cy="1043640"/>
              </a:xfrm>
            </p:grpSpPr>
            <p:sp>
              <p:nvSpPr>
                <p:cNvPr id="351" name="TextBox 56"/>
                <p:cNvSpPr/>
                <p:nvPr/>
              </p:nvSpPr>
              <p:spPr>
                <a:xfrm>
                  <a:off x="3714840" y="5952240"/>
                  <a:ext cx="81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Constantia"/>
                    </a:rPr>
                    <a:t>AD</a:t>
                  </a:r>
                  <a:endParaRPr b="0" lang="en-US" sz="2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  <p:sp>
              <p:nvSpPr>
                <p:cNvPr id="352" name="Прямая соединительная линия 26"/>
                <p:cNvSpPr/>
                <p:nvPr/>
              </p:nvSpPr>
              <p:spPr>
                <a:xfrm>
                  <a:off x="3788640" y="5951880"/>
                  <a:ext cx="516600" cy="1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  <p:sp>
              <p:nvSpPr>
                <p:cNvPr id="353" name="TextBox 63"/>
                <p:cNvSpPr/>
                <p:nvPr/>
              </p:nvSpPr>
              <p:spPr>
                <a:xfrm>
                  <a:off x="3714840" y="5429160"/>
                  <a:ext cx="68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Constantia"/>
                    </a:rPr>
                    <a:t>DE</a:t>
                  </a:r>
                  <a:endParaRPr b="0" lang="en-US" sz="2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</p:grpSp>
          <p:grpSp>
            <p:nvGrpSpPr>
              <p:cNvPr id="354" name="Группа 102"/>
              <p:cNvGrpSpPr/>
              <p:nvPr/>
            </p:nvGrpSpPr>
            <p:grpSpPr>
              <a:xfrm>
                <a:off x="4896000" y="5429520"/>
                <a:ext cx="1033200" cy="1079640"/>
                <a:chOff x="4896000" y="5429520"/>
                <a:chExt cx="1033200" cy="1079640"/>
              </a:xfrm>
            </p:grpSpPr>
            <p:sp>
              <p:nvSpPr>
                <p:cNvPr id="355" name="Прямая соединительная линия 22"/>
                <p:cNvSpPr/>
                <p:nvPr/>
              </p:nvSpPr>
              <p:spPr>
                <a:xfrm>
                  <a:off x="4969800" y="5988600"/>
                  <a:ext cx="442800" cy="1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  <p:sp>
              <p:nvSpPr>
                <p:cNvPr id="356" name="Прямоугольник 70"/>
                <p:cNvSpPr/>
                <p:nvPr/>
              </p:nvSpPr>
              <p:spPr>
                <a:xfrm>
                  <a:off x="4896000" y="5429520"/>
                  <a:ext cx="81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Constantia"/>
                    </a:rPr>
                    <a:t>FE</a:t>
                  </a:r>
                  <a:endParaRPr b="0" lang="en-US" sz="2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  <p:sp>
              <p:nvSpPr>
                <p:cNvPr id="357" name="Прямоугольник 71"/>
                <p:cNvSpPr/>
                <p:nvPr/>
              </p:nvSpPr>
              <p:spPr>
                <a:xfrm>
                  <a:off x="4896000" y="5988600"/>
                  <a:ext cx="103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Constantia"/>
                    </a:rPr>
                    <a:t>AB</a:t>
                  </a:r>
                  <a:endParaRPr b="0" lang="en-US" sz="2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358" name="TextBox 21"/>
              <p:cNvSpPr/>
              <p:nvPr/>
            </p:nvSpPr>
            <p:spPr>
              <a:xfrm>
                <a:off x="4461480" y="57276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=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359" name="TextBox 28"/>
            <p:cNvSpPr/>
            <p:nvPr/>
          </p:nvSpPr>
          <p:spPr>
            <a:xfrm>
              <a:off x="5643360" y="58579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60" name="Группа 29"/>
          <p:cNvGrpSpPr/>
          <p:nvPr/>
        </p:nvGrpSpPr>
        <p:grpSpPr>
          <a:xfrm>
            <a:off x="6000840" y="5432400"/>
            <a:ext cx="2643120" cy="1089360"/>
            <a:chOff x="6000840" y="5432400"/>
            <a:chExt cx="2643120" cy="1089360"/>
          </a:xfrm>
        </p:grpSpPr>
        <p:grpSp>
          <p:nvGrpSpPr>
            <p:cNvPr id="361" name="Группа 102"/>
            <p:cNvGrpSpPr/>
            <p:nvPr/>
          </p:nvGrpSpPr>
          <p:grpSpPr>
            <a:xfrm>
              <a:off x="7058160" y="5432400"/>
              <a:ext cx="1585800" cy="1089360"/>
              <a:chOff x="7058160" y="5432400"/>
              <a:chExt cx="1585800" cy="1089360"/>
            </a:xfrm>
          </p:grpSpPr>
          <p:sp>
            <p:nvSpPr>
              <p:cNvPr id="362" name="Прямая соединительная линия 33"/>
              <p:cNvSpPr/>
              <p:nvPr/>
            </p:nvSpPr>
            <p:spPr>
              <a:xfrm>
                <a:off x="7137360" y="5958000"/>
                <a:ext cx="1308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363" name="Прямоугольник 70"/>
              <p:cNvSpPr/>
              <p:nvPr/>
            </p:nvSpPr>
            <p:spPr>
              <a:xfrm>
                <a:off x="7058160" y="5432400"/>
                <a:ext cx="15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DE∙ AB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364" name="Прямоугольник 71"/>
              <p:cNvSpPr/>
              <p:nvPr/>
            </p:nvSpPr>
            <p:spPr>
              <a:xfrm>
                <a:off x="7358040" y="6001200"/>
                <a:ext cx="1110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onstantia"/>
                  </a:rPr>
                  <a:t>А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D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365" name="TextBox 31"/>
            <p:cNvSpPr/>
            <p:nvPr/>
          </p:nvSpPr>
          <p:spPr>
            <a:xfrm>
              <a:off x="6684840" y="5691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6" name="TextBox 32"/>
            <p:cNvSpPr/>
            <p:nvPr/>
          </p:nvSpPr>
          <p:spPr>
            <a:xfrm>
              <a:off x="6000840" y="5691600"/>
              <a:ext cx="6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FE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WordArt 7" descr=""/>
          <p:cNvPicPr/>
          <p:nvPr/>
        </p:nvPicPr>
        <p:blipFill>
          <a:blip r:embed="rId2"/>
          <a:stretch/>
        </p:blipFill>
        <p:spPr>
          <a:xfrm>
            <a:off x="628560" y="281160"/>
            <a:ext cx="4950000" cy="59688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3806640" y="107172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№ 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58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9" name="Picture 103" descr="derev47"/>
          <p:cNvPicPr/>
          <p:nvPr/>
        </p:nvPicPr>
        <p:blipFill>
          <a:blip r:embed="rId3"/>
          <a:stretch/>
        </p:blipFill>
        <p:spPr>
          <a:xfrm>
            <a:off x="6286680" y="1214280"/>
            <a:ext cx="2428560" cy="4997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baby18"/>
          <p:cNvPicPr/>
          <p:nvPr/>
        </p:nvPicPr>
        <p:blipFill>
          <a:blip r:embed="rId4"/>
          <a:stretch/>
        </p:blipFill>
        <p:spPr>
          <a:xfrm>
            <a:off x="714240" y="3571920"/>
            <a:ext cx="2286000" cy="26859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285840" y="3214800"/>
            <a:ext cx="6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857160" y="2786040"/>
            <a:ext cx="6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1500120" y="2571840"/>
            <a:ext cx="6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214720" y="2714760"/>
            <a:ext cx="84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2857680" y="3071880"/>
            <a:ext cx="6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Левая фигурная скобка 10"/>
          <p:cNvSpPr/>
          <p:nvPr/>
        </p:nvSpPr>
        <p:spPr>
          <a:xfrm>
            <a:off x="5857920" y="1285920"/>
            <a:ext cx="785880" cy="4786200"/>
          </a:xfrm>
          <a:custGeom>
            <a:avLst/>
            <a:gdLst>
              <a:gd name="textAreaLeft" fmla="*/ 502200 w 785880"/>
              <a:gd name="textAreaRight" fmla="*/ 786240 w 785880"/>
              <a:gd name="textAreaTop" fmla="*/ 20520 h 4786200"/>
              <a:gd name="textAreaBottom" fmla="*/ 4765680 h 47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"/>
                  <a:pt x="10800" y="296"/>
                </a:cubicBezTo>
                <a:lnTo>
                  <a:pt x="10800" y="10504"/>
                </a:lnTo>
                <a:cubicBezTo>
                  <a:pt x="10800" y="10652"/>
                  <a:pt x="5400" y="10800"/>
                  <a:pt x="0" y="10800"/>
                </a:cubicBezTo>
                <a:cubicBezTo>
                  <a:pt x="5400" y="10800"/>
                  <a:pt x="10800" y="10948"/>
                  <a:pt x="10800" y="11096"/>
                </a:cubicBezTo>
                <a:lnTo>
                  <a:pt x="10800" y="21304"/>
                </a:lnTo>
                <a:cubicBezTo>
                  <a:pt x="10800" y="21452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5143680" y="3357720"/>
            <a:ext cx="6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3" descr="derev47"/>
          <p:cNvPicPr/>
          <p:nvPr/>
        </p:nvPicPr>
        <p:blipFill>
          <a:blip r:embed="rId2"/>
          <a:stretch/>
        </p:blipFill>
        <p:spPr>
          <a:xfrm>
            <a:off x="428760" y="4071960"/>
            <a:ext cx="2428920" cy="2282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baby18"/>
          <p:cNvPicPr/>
          <p:nvPr/>
        </p:nvPicPr>
        <p:blipFill>
          <a:blip r:embed="rId3"/>
          <a:stretch/>
        </p:blipFill>
        <p:spPr>
          <a:xfrm>
            <a:off x="2571840" y="4286160"/>
            <a:ext cx="1554120" cy="2257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26" descr="180px-Астролябия_(МСЭ)"/>
          <p:cNvPicPr/>
          <p:nvPr/>
        </p:nvPicPr>
        <p:blipFill>
          <a:blip r:embed="rId4"/>
          <a:stretch/>
        </p:blipFill>
        <p:spPr>
          <a:xfrm>
            <a:off x="6000840" y="3429000"/>
            <a:ext cx="2222280" cy="29527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381" name="WordArt 7" descr=""/>
          <p:cNvPicPr/>
          <p:nvPr/>
        </p:nvPicPr>
        <p:blipFill>
          <a:blip r:embed="rId5"/>
          <a:stretch/>
        </p:blipFill>
        <p:spPr>
          <a:xfrm>
            <a:off x="914400" y="414360"/>
            <a:ext cx="7102440" cy="542880"/>
          </a:xfrm>
          <a:prstGeom prst="rect">
            <a:avLst/>
          </a:prstGeom>
          <a:ln w="0">
            <a:noFill/>
          </a:ln>
        </p:spPr>
      </p:pic>
      <p:grpSp>
        <p:nvGrpSpPr>
          <p:cNvPr id="382" name="Группа 12"/>
          <p:cNvGrpSpPr/>
          <p:nvPr/>
        </p:nvGrpSpPr>
        <p:grpSpPr>
          <a:xfrm>
            <a:off x="500040" y="1214280"/>
            <a:ext cx="4548240" cy="2833920"/>
            <a:chOff x="500040" y="1214280"/>
            <a:chExt cx="4548240" cy="2833920"/>
          </a:xfrm>
        </p:grpSpPr>
        <p:pic>
          <p:nvPicPr>
            <p:cNvPr id="383" name="Picture 2050" descr="pic21"/>
            <p:cNvPicPr/>
            <p:nvPr/>
          </p:nvPicPr>
          <p:blipFill>
            <a:blip r:embed="rId6"/>
            <a:srcRect l="0" t="0" r="0" b="8666"/>
            <a:stretch/>
          </p:blipFill>
          <p:spPr>
            <a:xfrm>
              <a:off x="642600" y="1214280"/>
              <a:ext cx="4405680" cy="2833920"/>
            </a:xfrm>
            <a:prstGeom prst="rect">
              <a:avLst/>
            </a:prstGeom>
            <a:ln w="12600">
              <a:solidFill>
                <a:srgbClr val="ffff00"/>
              </a:solidFill>
              <a:miter/>
            </a:ln>
          </p:spPr>
        </p:pic>
        <p:pic>
          <p:nvPicPr>
            <p:cNvPr id="384" name="Picture 103" descr="derev47"/>
            <p:cNvPicPr/>
            <p:nvPr/>
          </p:nvPicPr>
          <p:blipFill>
            <a:blip r:embed="rId7"/>
            <a:stretch/>
          </p:blipFill>
          <p:spPr>
            <a:xfrm>
              <a:off x="1714320" y="1214280"/>
              <a:ext cx="1285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103" descr="derev47"/>
            <p:cNvPicPr/>
            <p:nvPr/>
          </p:nvPicPr>
          <p:blipFill>
            <a:blip r:embed="rId8"/>
            <a:stretch/>
          </p:blipFill>
          <p:spPr>
            <a:xfrm>
              <a:off x="500040" y="1499760"/>
              <a:ext cx="1285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03" descr="derev47"/>
            <p:cNvPicPr/>
            <p:nvPr/>
          </p:nvPicPr>
          <p:blipFill>
            <a:blip r:embed="rId9"/>
            <a:stretch/>
          </p:blipFill>
          <p:spPr>
            <a:xfrm>
              <a:off x="1428480" y="1642680"/>
              <a:ext cx="714240" cy="78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Группа 14"/>
          <p:cNvGrpSpPr/>
          <p:nvPr/>
        </p:nvGrpSpPr>
        <p:grpSpPr>
          <a:xfrm>
            <a:off x="6000840" y="1071720"/>
            <a:ext cx="2428920" cy="2214360"/>
            <a:chOff x="6000840" y="1071720"/>
            <a:chExt cx="2428920" cy="2214360"/>
          </a:xfrm>
        </p:grpSpPr>
        <p:pic>
          <p:nvPicPr>
            <p:cNvPr id="388" name="Picture 103" descr="derev47"/>
            <p:cNvPicPr/>
            <p:nvPr/>
          </p:nvPicPr>
          <p:blipFill>
            <a:blip r:embed="rId10"/>
            <a:stretch/>
          </p:blipFill>
          <p:spPr>
            <a:xfrm>
              <a:off x="6000840" y="1071720"/>
              <a:ext cx="242892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03" descr="derev47"/>
            <p:cNvPicPr/>
            <p:nvPr/>
          </p:nvPicPr>
          <p:blipFill>
            <a:blip r:embed="rId11"/>
            <a:stretch/>
          </p:blipFill>
          <p:spPr>
            <a:xfrm>
              <a:off x="7000920" y="1643040"/>
              <a:ext cx="1366920" cy="164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2"/>
          <p:cNvSpPr/>
          <p:nvPr/>
        </p:nvSpPr>
        <p:spPr>
          <a:xfrm flipH="1">
            <a:off x="428400" y="1574640"/>
            <a:ext cx="1873080" cy="2160720"/>
          </a:xfrm>
          <a:prstGeom prst="line">
            <a:avLst/>
          </a:prstGeom>
          <a:ln w="76320">
            <a:solidFill>
              <a:srgbClr val="d7ce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Line 4"/>
          <p:cNvSpPr/>
          <p:nvPr/>
        </p:nvSpPr>
        <p:spPr>
          <a:xfrm>
            <a:off x="2301840" y="1574640"/>
            <a:ext cx="1079640" cy="2160720"/>
          </a:xfrm>
          <a:prstGeom prst="line">
            <a:avLst/>
          </a:prstGeom>
          <a:ln w="76320">
            <a:solidFill>
              <a:srgbClr val="d7ce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428760" y="3735360"/>
            <a:ext cx="2952720" cy="0"/>
          </a:xfrm>
          <a:prstGeom prst="line">
            <a:avLst/>
          </a:prstGeom>
          <a:ln w="76320">
            <a:solidFill>
              <a:srgbClr val="d7ce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5840" y="3808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214720" y="12859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3381480" y="3808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1868400" y="3808440"/>
            <a:ext cx="647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AutoShape 14"/>
          <p:cNvSpPr/>
          <p:nvPr/>
        </p:nvSpPr>
        <p:spPr>
          <a:xfrm rot="18115200">
            <a:off x="3056400" y="3412080"/>
            <a:ext cx="360360" cy="431640"/>
          </a:xfrm>
          <a:prstGeom prst="pi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AutoShape 18"/>
          <p:cNvSpPr/>
          <p:nvPr/>
        </p:nvSpPr>
        <p:spPr>
          <a:xfrm rot="3427200">
            <a:off x="501840" y="3447720"/>
            <a:ext cx="431640" cy="432000"/>
          </a:xfrm>
          <a:prstGeom prst="pie">
            <a:avLst/>
          </a:prstGeom>
          <a:solidFill>
            <a:srgbClr val="a5b592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AutoShape 20"/>
          <p:cNvSpPr/>
          <p:nvPr/>
        </p:nvSpPr>
        <p:spPr>
          <a:xfrm rot="3427200">
            <a:off x="536040" y="3411720"/>
            <a:ext cx="576000" cy="360360"/>
          </a:xfrm>
          <a:prstGeom prst="pie">
            <a:avLst/>
          </a:prstGeom>
          <a:solidFill>
            <a:srgbClr val="a5b592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Oval 21"/>
          <p:cNvSpPr/>
          <p:nvPr/>
        </p:nvSpPr>
        <p:spPr>
          <a:xfrm>
            <a:off x="1571760" y="1214280"/>
            <a:ext cx="1357200" cy="928800"/>
          </a:xfrm>
          <a:prstGeom prst="ellipse">
            <a:avLst/>
          </a:prstGeom>
          <a:noFill/>
          <a:ln w="1015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2286000" y="4051440"/>
            <a:ext cx="6445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1360" indent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построению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ВС подобен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</a:t>
            </a:r>
            <a:r>
              <a:rPr b="1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по двум углам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41360" indent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одобных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реугол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ках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ходственные стороны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п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порциональны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41360" indent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2" name="WordArt 7" descr=""/>
          <p:cNvPicPr/>
          <p:nvPr/>
        </p:nvPicPr>
        <p:blipFill>
          <a:blip r:embed="rId2"/>
          <a:stretch/>
        </p:blipFill>
        <p:spPr>
          <a:xfrm>
            <a:off x="560520" y="274680"/>
            <a:ext cx="7954920" cy="822240"/>
          </a:xfrm>
          <a:prstGeom prst="rect">
            <a:avLst/>
          </a:prstGeom>
          <a:ln w="0">
            <a:noFill/>
          </a:ln>
        </p:spPr>
      </p:pic>
      <p:grpSp>
        <p:nvGrpSpPr>
          <p:cNvPr id="403" name="Группа 36"/>
          <p:cNvGrpSpPr/>
          <p:nvPr/>
        </p:nvGrpSpPr>
        <p:grpSpPr>
          <a:xfrm>
            <a:off x="3929040" y="2143080"/>
            <a:ext cx="2500200" cy="2479680"/>
            <a:chOff x="3929040" y="2143080"/>
            <a:chExt cx="2500200" cy="2479680"/>
          </a:xfrm>
        </p:grpSpPr>
        <p:sp>
          <p:nvSpPr>
            <p:cNvPr id="404" name="Line 2"/>
            <p:cNvSpPr/>
            <p:nvPr/>
          </p:nvSpPr>
          <p:spPr>
            <a:xfrm flipH="1">
              <a:off x="4021920" y="2419560"/>
              <a:ext cx="1226520" cy="1384200"/>
            </a:xfrm>
            <a:prstGeom prst="line">
              <a:avLst/>
            </a:prstGeom>
            <a:ln w="76320">
              <a:solidFill>
                <a:srgbClr val="d7ce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5" name="Line 4"/>
            <p:cNvSpPr/>
            <p:nvPr/>
          </p:nvSpPr>
          <p:spPr>
            <a:xfrm>
              <a:off x="5249160" y="2419560"/>
              <a:ext cx="706680" cy="1384200"/>
            </a:xfrm>
            <a:prstGeom prst="line">
              <a:avLst/>
            </a:prstGeom>
            <a:ln w="76320">
              <a:solidFill>
                <a:srgbClr val="d7ce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6" name="Line 5"/>
            <p:cNvSpPr/>
            <p:nvPr/>
          </p:nvSpPr>
          <p:spPr>
            <a:xfrm>
              <a:off x="4022280" y="3804120"/>
              <a:ext cx="1933200" cy="0"/>
            </a:xfrm>
            <a:prstGeom prst="line">
              <a:avLst/>
            </a:prstGeom>
            <a:ln w="76320">
              <a:solidFill>
                <a:srgbClr val="d7ce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929040" y="385092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</a:rPr>
                <a:t>А</a:t>
              </a:r>
              <a:r>
                <a:rPr b="1" lang="en-US" sz="2000" spc="-1" strike="noStrike">
                  <a:solidFill>
                    <a:srgbClr val="ffffff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5249160" y="2143080"/>
              <a:ext cx="6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</a:rPr>
                <a:t>В1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5929200" y="3858120"/>
              <a:ext cx="5000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</a:rPr>
                <a:t>С</a:t>
              </a:r>
              <a:r>
                <a:rPr b="1" lang="en-US" sz="2000" spc="-1" strike="noStrike">
                  <a:solidFill>
                    <a:srgbClr val="ffffff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4857480" y="3850920"/>
              <a:ext cx="53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11" name="AutoShape 14"/>
            <p:cNvSpPr/>
            <p:nvPr/>
          </p:nvSpPr>
          <p:spPr>
            <a:xfrm rot="18115200">
              <a:off x="5745960" y="3593160"/>
              <a:ext cx="230760" cy="282600"/>
            </a:xfrm>
            <a:prstGeom prst="pi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12" name="AutoShape 18"/>
            <p:cNvSpPr/>
            <p:nvPr/>
          </p:nvSpPr>
          <p:spPr>
            <a:xfrm rot="3427200">
              <a:off x="4072680" y="3616920"/>
              <a:ext cx="276480" cy="282600"/>
            </a:xfrm>
            <a:prstGeom prst="pie">
              <a:avLst/>
            </a:prstGeom>
            <a:solidFill>
              <a:srgbClr val="a5b592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13" name="AutoShape 20"/>
            <p:cNvSpPr/>
            <p:nvPr/>
          </p:nvSpPr>
          <p:spPr>
            <a:xfrm rot="3427200">
              <a:off x="4096800" y="3593520"/>
              <a:ext cx="369000" cy="235800"/>
            </a:xfrm>
            <a:prstGeom prst="pie">
              <a:avLst/>
            </a:prstGeom>
            <a:solidFill>
              <a:srgbClr val="a5b592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414" name="Picture 6" descr="baby18"/>
          <p:cNvPicPr/>
          <p:nvPr/>
        </p:nvPicPr>
        <p:blipFill>
          <a:blip r:embed="rId3"/>
          <a:stretch/>
        </p:blipFill>
        <p:spPr>
          <a:xfrm>
            <a:off x="357120" y="4714920"/>
            <a:ext cx="1554120" cy="1828800"/>
          </a:xfrm>
          <a:prstGeom prst="rect">
            <a:avLst/>
          </a:prstGeom>
          <a:ln w="0">
            <a:noFill/>
          </a:ln>
        </p:spPr>
      </p:pic>
      <p:grpSp>
        <p:nvGrpSpPr>
          <p:cNvPr id="415" name="Группа 49"/>
          <p:cNvGrpSpPr/>
          <p:nvPr/>
        </p:nvGrpSpPr>
        <p:grpSpPr>
          <a:xfrm>
            <a:off x="3774240" y="5500800"/>
            <a:ext cx="2116800" cy="1518840"/>
            <a:chOff x="3774240" y="5500800"/>
            <a:chExt cx="2116800" cy="1518840"/>
          </a:xfrm>
        </p:grpSpPr>
        <p:grpSp>
          <p:nvGrpSpPr>
            <p:cNvPr id="416" name="Группа 84"/>
            <p:cNvGrpSpPr/>
            <p:nvPr/>
          </p:nvGrpSpPr>
          <p:grpSpPr>
            <a:xfrm>
              <a:off x="3774240" y="5500800"/>
              <a:ext cx="1011960" cy="1409400"/>
              <a:chOff x="3774240" y="5500800"/>
              <a:chExt cx="1011960" cy="1409400"/>
            </a:xfrm>
          </p:grpSpPr>
          <p:sp>
            <p:nvSpPr>
              <p:cNvPr id="417" name="TextBox 56"/>
              <p:cNvSpPr/>
              <p:nvPr/>
            </p:nvSpPr>
            <p:spPr>
              <a:xfrm>
                <a:off x="3786120" y="6023880"/>
                <a:ext cx="1000080" cy="8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1В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onstanti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8" name="Прямая соединительная линия 57"/>
              <p:cNvSpPr/>
              <p:nvPr/>
            </p:nvSpPr>
            <p:spPr>
              <a:xfrm>
                <a:off x="3859920" y="6023520"/>
                <a:ext cx="51660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9" name="TextBox 63"/>
              <p:cNvSpPr/>
              <p:nvPr/>
            </p:nvSpPr>
            <p:spPr>
              <a:xfrm>
                <a:off x="3774240" y="5500800"/>
                <a:ext cx="68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В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420" name="Группа 102"/>
            <p:cNvGrpSpPr/>
            <p:nvPr/>
          </p:nvGrpSpPr>
          <p:grpSpPr>
            <a:xfrm>
              <a:off x="4857480" y="5501160"/>
              <a:ext cx="1033560" cy="1518480"/>
              <a:chOff x="4857480" y="5501160"/>
              <a:chExt cx="1033560" cy="1518480"/>
            </a:xfrm>
          </p:grpSpPr>
          <p:sp>
            <p:nvSpPr>
              <p:cNvPr id="421" name="Прямая соединительная линия 53"/>
              <p:cNvSpPr/>
              <p:nvPr/>
            </p:nvSpPr>
            <p:spPr>
              <a:xfrm>
                <a:off x="5040720" y="6060600"/>
                <a:ext cx="44280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22" name="Прямоугольник 70"/>
              <p:cNvSpPr/>
              <p:nvPr/>
            </p:nvSpPr>
            <p:spPr>
              <a:xfrm>
                <a:off x="4966920" y="5501160"/>
                <a:ext cx="81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С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23" name="Прямоугольник 71"/>
              <p:cNvSpPr/>
              <p:nvPr/>
            </p:nvSpPr>
            <p:spPr>
              <a:xfrm>
                <a:off x="4857480" y="6072480"/>
                <a:ext cx="1033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A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Constantia"/>
                  </a:rPr>
                  <a:t>1С1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424" name="TextBox 52"/>
            <p:cNvSpPr/>
            <p:nvPr/>
          </p:nvSpPr>
          <p:spPr>
            <a:xfrm>
              <a:off x="4532760" y="5799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425" name="TextBox 59"/>
          <p:cNvSpPr/>
          <p:nvPr/>
        </p:nvSpPr>
        <p:spPr>
          <a:xfrm>
            <a:off x="5643720" y="585792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26" name="Группа 60"/>
          <p:cNvGrpSpPr/>
          <p:nvPr/>
        </p:nvGrpSpPr>
        <p:grpSpPr>
          <a:xfrm>
            <a:off x="6072120" y="5357880"/>
            <a:ext cx="2643120" cy="1206360"/>
            <a:chOff x="6072120" y="5357880"/>
            <a:chExt cx="2643120" cy="1206360"/>
          </a:xfrm>
        </p:grpSpPr>
        <p:grpSp>
          <p:nvGrpSpPr>
            <p:cNvPr id="427" name="Группа 102"/>
            <p:cNvGrpSpPr/>
            <p:nvPr/>
          </p:nvGrpSpPr>
          <p:grpSpPr>
            <a:xfrm>
              <a:off x="7129440" y="5357880"/>
              <a:ext cx="1585800" cy="1089360"/>
              <a:chOff x="7129440" y="5357880"/>
              <a:chExt cx="1585800" cy="1089360"/>
            </a:xfrm>
          </p:grpSpPr>
          <p:sp>
            <p:nvSpPr>
              <p:cNvPr id="428" name="Прямая соединительная линия 64"/>
              <p:cNvSpPr/>
              <p:nvPr/>
            </p:nvSpPr>
            <p:spPr>
              <a:xfrm>
                <a:off x="7208640" y="5883480"/>
                <a:ext cx="1308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29" name="Прямоугольник 70"/>
              <p:cNvSpPr/>
              <p:nvPr/>
            </p:nvSpPr>
            <p:spPr>
              <a:xfrm>
                <a:off x="7129440" y="5357880"/>
                <a:ext cx="1585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onstantia"/>
                  </a:rPr>
                  <a:t>АС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∙ A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Constantia"/>
                  </a:rPr>
                  <a:t>1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B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Constantia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30" name="Прямоугольник 71"/>
              <p:cNvSpPr/>
              <p:nvPr/>
            </p:nvSpPr>
            <p:spPr>
              <a:xfrm>
                <a:off x="7429320" y="5926680"/>
                <a:ext cx="1110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1С1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431" name="TextBox 62"/>
            <p:cNvSpPr/>
            <p:nvPr/>
          </p:nvSpPr>
          <p:spPr>
            <a:xfrm>
              <a:off x="6756120" y="5617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32" name="TextBox 63"/>
            <p:cNvSpPr/>
            <p:nvPr/>
          </p:nvSpPr>
          <p:spPr>
            <a:xfrm>
              <a:off x="6072120" y="5617080"/>
              <a:ext cx="66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АВ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433" name="TextBox 67"/>
          <p:cNvSpPr/>
          <p:nvPr/>
        </p:nvSpPr>
        <p:spPr>
          <a:xfrm>
            <a:off x="3214800" y="107172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Выбираем на местности точку  С.  Провешиваем отрезок АС ;  измеряем его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С  помощью астролябии измеряем углы А и С и на листе бумаги строим какой-нибудь треугольник А1В1С1 , у которого  угол А1 равен углу А,  угол С1 равен углу С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WordArt 7" descr=""/>
          <p:cNvPicPr/>
          <p:nvPr/>
        </p:nvPicPr>
        <p:blipFill>
          <a:blip r:embed="rId2"/>
          <a:stretch/>
        </p:blipFill>
        <p:spPr>
          <a:xfrm>
            <a:off x="560520" y="347760"/>
            <a:ext cx="7954920" cy="7491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4"/>
          <p:cNvSpPr/>
          <p:nvPr/>
        </p:nvSpPr>
        <p:spPr>
          <a:xfrm>
            <a:off x="928800" y="107172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Решаем  задачу  58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36" name="Группа 10"/>
          <p:cNvGrpSpPr/>
          <p:nvPr/>
        </p:nvGrpSpPr>
        <p:grpSpPr>
          <a:xfrm>
            <a:off x="714240" y="1643040"/>
            <a:ext cx="5715000" cy="3021840"/>
            <a:chOff x="714240" y="1643040"/>
            <a:chExt cx="5715000" cy="3021840"/>
          </a:xfrm>
        </p:grpSpPr>
        <p:pic>
          <p:nvPicPr>
            <p:cNvPr id="437" name="Picture 2" descr=""/>
            <p:cNvPicPr/>
            <p:nvPr/>
          </p:nvPicPr>
          <p:blipFill>
            <a:blip r:embed="rId3"/>
            <a:stretch/>
          </p:blipFill>
          <p:spPr>
            <a:xfrm>
              <a:off x="714240" y="1643040"/>
              <a:ext cx="5715000" cy="29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Box 5"/>
            <p:cNvSpPr/>
            <p:nvPr/>
          </p:nvSpPr>
          <p:spPr>
            <a:xfrm>
              <a:off x="3000240" y="414432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nstantia"/>
                </a:rPr>
                <a:t>С1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39" name="TextBox 6"/>
            <p:cNvSpPr/>
            <p:nvPr/>
          </p:nvSpPr>
          <p:spPr>
            <a:xfrm>
              <a:off x="3714480" y="371520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nstantia"/>
                </a:rPr>
                <a:t>С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40" name="TextBox 7"/>
            <p:cNvSpPr/>
            <p:nvPr/>
          </p:nvSpPr>
          <p:spPr>
            <a:xfrm>
              <a:off x="1857240" y="200016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nstantia"/>
                </a:rPr>
                <a:t>В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41" name="TextBox 8"/>
            <p:cNvSpPr/>
            <p:nvPr/>
          </p:nvSpPr>
          <p:spPr>
            <a:xfrm>
              <a:off x="1642680" y="321516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nstantia"/>
                </a:rPr>
                <a:t>В1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42" name="TextBox 9"/>
            <p:cNvSpPr/>
            <p:nvPr/>
          </p:nvSpPr>
          <p:spPr>
            <a:xfrm>
              <a:off x="1785600" y="4144320"/>
              <a:ext cx="81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nstantia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443" name="Группа 29"/>
          <p:cNvGrpSpPr/>
          <p:nvPr/>
        </p:nvGrpSpPr>
        <p:grpSpPr>
          <a:xfrm>
            <a:off x="597240" y="4786200"/>
            <a:ext cx="2658600" cy="1092600"/>
            <a:chOff x="597240" y="4786200"/>
            <a:chExt cx="2658600" cy="1092600"/>
          </a:xfrm>
        </p:grpSpPr>
        <p:grpSp>
          <p:nvGrpSpPr>
            <p:cNvPr id="444" name="Группа 84"/>
            <p:cNvGrpSpPr/>
            <p:nvPr/>
          </p:nvGrpSpPr>
          <p:grpSpPr>
            <a:xfrm>
              <a:off x="597240" y="4786200"/>
              <a:ext cx="1045440" cy="1043640"/>
              <a:chOff x="597240" y="4786200"/>
              <a:chExt cx="1045440" cy="1043640"/>
            </a:xfrm>
          </p:grpSpPr>
          <p:sp>
            <p:nvSpPr>
              <p:cNvPr id="445" name="TextBox 18"/>
              <p:cNvSpPr/>
              <p:nvPr/>
            </p:nvSpPr>
            <p:spPr>
              <a:xfrm>
                <a:off x="642960" y="5309280"/>
                <a:ext cx="99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В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46" name="Прямая соединительная линия 19"/>
              <p:cNvSpPr/>
              <p:nvPr/>
            </p:nvSpPr>
            <p:spPr>
              <a:xfrm>
                <a:off x="716760" y="5309280"/>
                <a:ext cx="51660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47" name="TextBox 63"/>
              <p:cNvSpPr/>
              <p:nvPr/>
            </p:nvSpPr>
            <p:spPr>
              <a:xfrm>
                <a:off x="597240" y="4786200"/>
                <a:ext cx="88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В1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448" name="Группа 102"/>
            <p:cNvGrpSpPr/>
            <p:nvPr/>
          </p:nvGrpSpPr>
          <p:grpSpPr>
            <a:xfrm>
              <a:off x="1823760" y="4786560"/>
              <a:ext cx="1066320" cy="1092240"/>
              <a:chOff x="1823760" y="4786560"/>
              <a:chExt cx="1066320" cy="1092240"/>
            </a:xfrm>
          </p:grpSpPr>
          <p:sp>
            <p:nvSpPr>
              <p:cNvPr id="449" name="Прямая соединительная линия 15"/>
              <p:cNvSpPr/>
              <p:nvPr/>
            </p:nvSpPr>
            <p:spPr>
              <a:xfrm>
                <a:off x="1897560" y="5346000"/>
                <a:ext cx="44280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50" name="Прямоугольник 70"/>
              <p:cNvSpPr/>
              <p:nvPr/>
            </p:nvSpPr>
            <p:spPr>
              <a:xfrm>
                <a:off x="1823760" y="4786560"/>
                <a:ext cx="811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С1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51" name="Прямоугольник 71"/>
              <p:cNvSpPr/>
              <p:nvPr/>
            </p:nvSpPr>
            <p:spPr>
              <a:xfrm>
                <a:off x="1856880" y="5358240"/>
                <a:ext cx="103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A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Constantia"/>
                  </a:rPr>
                  <a:t>С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452" name="TextBox 14"/>
            <p:cNvSpPr/>
            <p:nvPr/>
          </p:nvSpPr>
          <p:spPr>
            <a:xfrm>
              <a:off x="1389600" y="5085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3" name="TextBox 21"/>
            <p:cNvSpPr/>
            <p:nvPr/>
          </p:nvSpPr>
          <p:spPr>
            <a:xfrm>
              <a:off x="2571480" y="507204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454" name="Группа 31"/>
          <p:cNvGrpSpPr/>
          <p:nvPr/>
        </p:nvGrpSpPr>
        <p:grpSpPr>
          <a:xfrm>
            <a:off x="3214800" y="4786200"/>
            <a:ext cx="2860200" cy="1206360"/>
            <a:chOff x="3214800" y="4786200"/>
            <a:chExt cx="2860200" cy="1206360"/>
          </a:xfrm>
        </p:grpSpPr>
        <p:grpSp>
          <p:nvGrpSpPr>
            <p:cNvPr id="455" name="Группа 22"/>
            <p:cNvGrpSpPr/>
            <p:nvPr/>
          </p:nvGrpSpPr>
          <p:grpSpPr>
            <a:xfrm>
              <a:off x="3214800" y="4786200"/>
              <a:ext cx="2643480" cy="1206360"/>
              <a:chOff x="3214800" y="4786200"/>
              <a:chExt cx="2643480" cy="1206360"/>
            </a:xfrm>
          </p:grpSpPr>
          <p:grpSp>
            <p:nvGrpSpPr>
              <p:cNvPr id="456" name="Группа 102"/>
              <p:cNvGrpSpPr/>
              <p:nvPr/>
            </p:nvGrpSpPr>
            <p:grpSpPr>
              <a:xfrm>
                <a:off x="4272120" y="4786200"/>
                <a:ext cx="1586160" cy="1089360"/>
                <a:chOff x="4272120" y="4786200"/>
                <a:chExt cx="1586160" cy="1089360"/>
              </a:xfrm>
            </p:grpSpPr>
            <p:sp>
              <p:nvSpPr>
                <p:cNvPr id="457" name="Прямая соединительная линия 26"/>
                <p:cNvSpPr/>
                <p:nvPr/>
              </p:nvSpPr>
              <p:spPr>
                <a:xfrm>
                  <a:off x="4351320" y="5311800"/>
                  <a:ext cx="1308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  <p:sp>
              <p:nvSpPr>
                <p:cNvPr id="458" name="Прямоугольник 70"/>
                <p:cNvSpPr/>
                <p:nvPr/>
              </p:nvSpPr>
              <p:spPr>
                <a:xfrm>
                  <a:off x="4272120" y="4786200"/>
                  <a:ext cx="15861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ffff"/>
                      </a:solidFill>
                      <a:latin typeface="Constantia"/>
                    </a:rPr>
                    <a:t>АС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Constantia"/>
                    </a:rPr>
                    <a:t>∙ AB</a:t>
                  </a:r>
                  <a:r>
                    <a:rPr b="1" lang="ru-RU" sz="2800" spc="-1" strike="noStrike">
                      <a:solidFill>
                        <a:srgbClr val="ffffff"/>
                      </a:solidFill>
                      <a:latin typeface="Constantia"/>
                    </a:rPr>
                    <a:t>1</a:t>
                  </a:r>
                  <a:endParaRPr b="0" lang="en-US" sz="2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  <p:sp>
              <p:nvSpPr>
                <p:cNvPr id="459" name="Прямоугольник 71"/>
                <p:cNvSpPr/>
                <p:nvPr/>
              </p:nvSpPr>
              <p:spPr>
                <a:xfrm>
                  <a:off x="4572000" y="5355000"/>
                  <a:ext cx="1110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Constantia"/>
                    </a:rPr>
                    <a:t>АС1</a:t>
                  </a:r>
                  <a:endParaRPr b="0" lang="en-US" sz="2800" spc="-1" strike="noStrike">
                    <a:solidFill>
                      <a:srgbClr val="ffffff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460" name="TextBox 24"/>
              <p:cNvSpPr/>
              <p:nvPr/>
            </p:nvSpPr>
            <p:spPr>
              <a:xfrm>
                <a:off x="3898800" y="5045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=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61" name="TextBox 25"/>
              <p:cNvSpPr/>
              <p:nvPr/>
            </p:nvSpPr>
            <p:spPr>
              <a:xfrm>
                <a:off x="3214800" y="5045400"/>
                <a:ext cx="6609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nstantia"/>
                  </a:rPr>
                  <a:t>АВ</a:t>
                </a:r>
                <a:endParaRPr b="0" lang="en-US" sz="2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462" name="TextBox 30"/>
            <p:cNvSpPr/>
            <p:nvPr/>
          </p:nvSpPr>
          <p:spPr>
            <a:xfrm>
              <a:off x="5785920" y="507204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nstantia"/>
                </a:rPr>
                <a:t>;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463" name="TextBox 32"/>
          <p:cNvSpPr/>
          <p:nvPr/>
        </p:nvSpPr>
        <p:spPr>
          <a:xfrm>
            <a:off x="6215040" y="507204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ВВ1 = АВ – АВ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TextBox 33"/>
          <p:cNvSpPr/>
          <p:nvPr/>
        </p:nvSpPr>
        <p:spPr>
          <a:xfrm>
            <a:off x="812520" y="60008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Ответ: 72,25 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8:44:27Z</dcterms:created>
  <dc:creator>ПАША</dc:creator>
  <dc:description/>
  <dc:language>en-US</dc:language>
  <cp:lastModifiedBy>Fedorova</cp:lastModifiedBy>
  <dcterms:modified xsi:type="dcterms:W3CDTF">2010-05-05T07:19:33Z</dcterms:modified>
  <cp:revision>34</cp:revision>
  <dc:subject/>
  <dc:title>ПРАКТИЧЕСКИЕ ПРИМЕНЕНИЯ ПОДОБИЯ</dc:title>
</cp:coreProperties>
</file>