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9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37.wmf" ContentType="image/x-wmf"/>
  <Override PartName="/ppt/media/image49.wmf" ContentType="image/x-wmf"/>
  <Override PartName="/ppt/media/image51.png" ContentType="image/png"/>
  <Override PartName="/ppt/media/image50.png" ContentType="image/png"/>
  <Override PartName="/ppt/media/image13.png" ContentType="image/png"/>
  <Override PartName="/ppt/media/image53.png" ContentType="image/png"/>
  <Override PartName="/ppt/media/image42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58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41.wmf" ContentType="image/x-wmf"/>
  <Override PartName="/ppt/media/image39.jpeg" ContentType="image/jpeg"/>
  <Override PartName="/ppt/media/image8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104-82F6-44EC-A318-40A2737CB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3076-0A3D-4846-BE71-0C6ED41A4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039A-758B-47EB-91D0-ACED10911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312-E06B-4934-A6EC-E0B18D4B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EAB-C751-4A6B-A627-4A76A5C1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058-BE45-4A87-8426-B56932A3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1BA-52AA-4F5A-805F-3C488DE0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285-343E-43F9-8363-CC8395C8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21A-E8D4-4B60-9029-8D927C8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87F-B693-4FDF-A48F-A4AF4A95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D962-C51E-4865-B818-D703EF43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7E4-8908-4208-9945-C174127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8B63-2C7E-49ED-885C-4CFFB6A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2183-7D25-4397-9519-D25221F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374-F01B-44FE-9097-286B444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BA3D-42A2-4B83-A648-EF063CA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73BA-9712-4F11-91B9-2275C6FA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044B-CDCC-4C0E-8EDA-457A2E2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EE20-3459-402B-9963-BFA1FFDA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EB8E-80B8-4E2E-A24B-D478DD6E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89F9-0BDB-4F23-B899-6996DFC5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3461-77A3-4709-83CB-4465EED0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14BE-9EC7-49A2-9A87-E58F9D4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FB5F-08E3-4C0E-A5F0-15C115F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5368-DB11-446B-8FF7-09D8774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DE8-D8B2-41B7-B10E-36B9DE70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28EF-C9E3-4F9A-B4FC-4D6F1A37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2D83-2CB6-4419-AE68-EAE6F45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B662-9F27-4377-A20F-C40CA74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B3BF-D85B-45DA-A38F-4C015E6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FFB4-C1B1-4354-B57D-9AEBAD5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1746-EB76-4F8C-B27B-1CCF43B6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B4A5-799F-45A6-8DF5-40B5B632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060-5374-405E-99BB-DD9A4167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899-BCDB-4EAA-A6FB-BD9F8D2A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8A0-F334-4F92-BA32-46E6F66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A7B-F095-49CC-B6A1-2564BC9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1C2-CB5E-48F6-8CEE-C85E671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F63-7A62-4575-80D1-1CA412D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35F-5DF7-4412-A891-3D8EB6AA795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5E3A-5E3F-45F9-AFFB-811B831418C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77C-C580-4180-BAB1-C19B81E3EF8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Носители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D:\Мои документы\Мои рисунки\Организатор клипов (Microsoft)\j0439935.wmf"/>
          <p:cNvPicPr/>
          <p:nvPr/>
        </p:nvPicPr>
        <p:blipFill>
          <a:blip r:embed="rId1"/>
          <a:stretch/>
        </p:blipFill>
        <p:spPr>
          <a:xfrm>
            <a:off x="571680" y="1000080"/>
            <a:ext cx="3786120" cy="527832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3"/>
          <p:cNvSpPr/>
          <p:nvPr/>
        </p:nvSpPr>
        <p:spPr>
          <a:xfrm>
            <a:off x="4786200" y="142884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578560"/>
            <a:ext cx="4883400" cy="5968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4" descr=""/>
          <p:cNvPicPr/>
          <p:nvPr/>
        </p:nvPicPr>
        <p:blipFill>
          <a:blip r:embed="rId4"/>
          <a:stretch/>
        </p:blipFill>
        <p:spPr>
          <a:xfrm>
            <a:off x="7412040" y="5486400"/>
            <a:ext cx="708120" cy="67644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5" descr=""/>
          <p:cNvPicPr/>
          <p:nvPr/>
        </p:nvPicPr>
        <p:blipFill>
          <a:blip r:embed="rId5"/>
          <a:stretch/>
        </p:blipFill>
        <p:spPr>
          <a:xfrm>
            <a:off x="6913440" y="5486400"/>
            <a:ext cx="706680" cy="6764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6" descr=""/>
          <p:cNvPicPr/>
          <p:nvPr/>
        </p:nvPicPr>
        <p:blipFill>
          <a:blip r:embed="rId6"/>
          <a:stretch/>
        </p:blipFill>
        <p:spPr>
          <a:xfrm>
            <a:off x="7985160" y="5486400"/>
            <a:ext cx="708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хема 7" descr=""/>
          <p:cNvPicPr/>
          <p:nvPr/>
        </p:nvPicPr>
        <p:blipFill>
          <a:blip r:embed="rId1"/>
          <a:stretch/>
        </p:blipFill>
        <p:spPr>
          <a:xfrm>
            <a:off x="493560" y="-36360"/>
            <a:ext cx="4870440" cy="70038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10" descr=""/>
          <p:cNvPicPr/>
          <p:nvPr/>
        </p:nvPicPr>
        <p:blipFill>
          <a:blip r:embed="rId2"/>
          <a:stretch/>
        </p:blipFill>
        <p:spPr>
          <a:xfrm>
            <a:off x="4462560" y="122400"/>
            <a:ext cx="2193840" cy="74268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11" descr=""/>
          <p:cNvPicPr/>
          <p:nvPr/>
        </p:nvPicPr>
        <p:blipFill>
          <a:blip r:embed="rId3"/>
          <a:stretch/>
        </p:blipFill>
        <p:spPr>
          <a:xfrm>
            <a:off x="4352760" y="1633680"/>
            <a:ext cx="2578320" cy="116496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12" descr=""/>
          <p:cNvPicPr/>
          <p:nvPr/>
        </p:nvPicPr>
        <p:blipFill>
          <a:blip r:embed="rId4"/>
          <a:stretch/>
        </p:blipFill>
        <p:spPr>
          <a:xfrm>
            <a:off x="4260960" y="3475080"/>
            <a:ext cx="2889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Схема 3" descr=""/>
          <p:cNvPicPr/>
          <p:nvPr/>
        </p:nvPicPr>
        <p:blipFill>
          <a:blip r:embed="rId1"/>
          <a:stretch/>
        </p:blipFill>
        <p:spPr>
          <a:xfrm>
            <a:off x="139680" y="1407960"/>
            <a:ext cx="8785080" cy="4035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D:\Мои документы\Мои рисунки\Организатор клипов (Microsoft)\punch_cards.jpg"/>
          <p:cNvPicPr/>
          <p:nvPr/>
        </p:nvPicPr>
        <p:blipFill>
          <a:blip r:embed="rId2"/>
          <a:stretch/>
        </p:blipFill>
        <p:spPr>
          <a:xfrm>
            <a:off x="1714680" y="3071880"/>
            <a:ext cx="1269720" cy="5713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"/>
          <p:cNvPicPr/>
          <p:nvPr/>
        </p:nvPicPr>
        <p:blipFill>
          <a:blip r:embed="rId3"/>
          <a:stretch/>
        </p:blipFill>
        <p:spPr>
          <a:xfrm>
            <a:off x="3214800" y="3000240"/>
            <a:ext cx="1214280" cy="652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4"/>
          <a:stretch/>
        </p:blipFill>
        <p:spPr>
          <a:xfrm>
            <a:off x="4786200" y="27860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5"/>
          <a:stretch/>
        </p:blipFill>
        <p:spPr>
          <a:xfrm>
            <a:off x="6357960" y="2928960"/>
            <a:ext cx="928800" cy="938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D:\Мои документы\Мои рисунки\Организатор клипов (Microsoft)\i16.jpg"/>
          <p:cNvPicPr/>
          <p:nvPr/>
        </p:nvPicPr>
        <p:blipFill>
          <a:blip r:embed="rId6"/>
          <a:stretch/>
        </p:blipFill>
        <p:spPr>
          <a:xfrm>
            <a:off x="7643880" y="3143160"/>
            <a:ext cx="1214280" cy="67968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7" descr=""/>
          <p:cNvPicPr/>
          <p:nvPr/>
        </p:nvPicPr>
        <p:blipFill>
          <a:blip r:embed="rId7"/>
          <a:stretch/>
        </p:blipFill>
        <p:spPr>
          <a:xfrm>
            <a:off x="865080" y="195120"/>
            <a:ext cx="7315200" cy="682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8"/>
          <a:stretch/>
        </p:blipFill>
        <p:spPr>
          <a:xfrm>
            <a:off x="285840" y="2786040"/>
            <a:ext cx="1138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286320" cy="4714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500040"/>
            <a:ext cx="7601040" cy="562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G:\книга\Новая папка\File0219.jpg"/>
          <p:cNvPicPr/>
          <p:nvPr/>
        </p:nvPicPr>
        <p:blipFill>
          <a:blip r:embed="rId1"/>
          <a:stretch/>
        </p:blipFill>
        <p:spPr>
          <a:xfrm>
            <a:off x="2286000" y="785880"/>
            <a:ext cx="45007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3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52280"/>
            <a:ext cx="5761080" cy="59076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4"/>
          <p:cNvCxnSpPr/>
          <p:nvPr/>
        </p:nvCxnSpPr>
        <p:spPr>
          <a:xfrm flipV="1">
            <a:off x="3571920" y="2214360"/>
            <a:ext cx="286560" cy="143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5" name="Прямая со стрелкой 6"/>
          <p:cNvCxnSpPr/>
          <p:nvPr/>
        </p:nvCxnSpPr>
        <p:spPr>
          <a:xfrm flipH="1" flipV="1">
            <a:off x="5071320" y="2428560"/>
            <a:ext cx="214920" cy="3578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6" name="Прямая со стрелкой 10"/>
          <p:cNvCxnSpPr/>
          <p:nvPr/>
        </p:nvCxnSpPr>
        <p:spPr>
          <a:xfrm flipH="1" flipV="1">
            <a:off x="5357520" y="2214360"/>
            <a:ext cx="357840" cy="143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87" name="Рисунок 12" descr="G:\книга\Новая папка\File0220.jpg"/>
          <p:cNvPicPr/>
          <p:nvPr/>
        </p:nvPicPr>
        <p:blipFill>
          <a:blip r:embed="rId3"/>
          <a:srcRect l="8006" t="11025" r="8849" b="53884"/>
          <a:stretch/>
        </p:blipFill>
        <p:spPr>
          <a:xfrm>
            <a:off x="357120" y="3857760"/>
            <a:ext cx="4071960" cy="251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8" name="Рисунок 13" descr="G:\книга\Новая папка\File0220.jpg"/>
          <p:cNvPicPr/>
          <p:nvPr/>
        </p:nvPicPr>
        <p:blipFill>
          <a:blip r:embed="rId4"/>
          <a:srcRect l="9499" t="46895" r="7149" b="14753"/>
          <a:stretch/>
        </p:blipFill>
        <p:spPr>
          <a:xfrm>
            <a:off x="4643280" y="3863880"/>
            <a:ext cx="4071960" cy="249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89" name="Прямая со стрелкой 15"/>
          <p:cNvCxnSpPr/>
          <p:nvPr/>
        </p:nvCxnSpPr>
        <p:spPr>
          <a:xfrm flipV="1">
            <a:off x="3070800" y="5285880"/>
            <a:ext cx="214920" cy="215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 flipV="1">
            <a:off x="3071880" y="5500080"/>
            <a:ext cx="357840" cy="286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1" name="Прямая со стрелкой 19"/>
          <p:cNvCxnSpPr/>
          <p:nvPr/>
        </p:nvCxnSpPr>
        <p:spPr>
          <a:xfrm flipV="1">
            <a:off x="3071880" y="5428800"/>
            <a:ext cx="64332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2" name="Прямая со стрелкой 21"/>
          <p:cNvCxnSpPr/>
          <p:nvPr/>
        </p:nvCxnSpPr>
        <p:spPr>
          <a:xfrm flipH="1">
            <a:off x="1356840" y="4643280"/>
            <a:ext cx="286560" cy="2865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3" name="Прямая со стрелкой 23"/>
          <p:cNvCxnSpPr/>
          <p:nvPr/>
        </p:nvCxnSpPr>
        <p:spPr>
          <a:xfrm flipH="1">
            <a:off x="1356840" y="5000400"/>
            <a:ext cx="286560" cy="286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4" name="Прямая со стрелкой 25"/>
          <p:cNvCxnSpPr/>
          <p:nvPr/>
        </p:nvCxnSpPr>
        <p:spPr>
          <a:xfrm flipH="1" flipV="1">
            <a:off x="1428120" y="5428800"/>
            <a:ext cx="214920" cy="215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5" name="Прямая со стрелкой 27"/>
          <p:cNvCxnSpPr/>
          <p:nvPr/>
        </p:nvCxnSpPr>
        <p:spPr>
          <a:xfrm flipH="1" flipV="1">
            <a:off x="1213920" y="5500440"/>
            <a:ext cx="501120" cy="7149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96" name="Прямоугольник 28" descr=""/>
          <p:cNvPicPr/>
          <p:nvPr/>
        </p:nvPicPr>
        <p:blipFill>
          <a:blip r:embed="rId5"/>
          <a:stretch/>
        </p:blipFill>
        <p:spPr>
          <a:xfrm>
            <a:off x="7066080" y="4041720"/>
            <a:ext cx="1869840" cy="7430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29" descr=""/>
          <p:cNvPicPr/>
          <p:nvPr/>
        </p:nvPicPr>
        <p:blipFill>
          <a:blip r:embed="rId6"/>
          <a:stretch/>
        </p:blipFill>
        <p:spPr>
          <a:xfrm>
            <a:off x="7077240" y="5827680"/>
            <a:ext cx="7444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0:43Z</dcterms:modified>
  <cp:revision>67</cp:revision>
  <dc:subject/>
  <dc:title>Педагогические чтения</dc:title>
</cp:coreProperties>
</file>