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39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112-ABD6-47B6-88F4-1E6621F2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6C4-F62F-434D-884D-76BFC579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EAA-A5B0-46A7-BF91-0B77552C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06E-9B51-46A4-8F0F-A10A6225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6E85-89C7-4267-8E7C-6485562E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570F-1AD9-4B0C-B48B-E4FDBDD8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EFF6-ED24-4B35-9CD9-155ADCB5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1886-C89B-4E8C-918B-0EA9B93A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976-7FEC-4D7A-B18B-924B8A98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1EEF-E5F4-47D9-9BF2-EBC46E99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0356-670B-4D56-860D-E82325BD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BC7-7437-45E6-9433-392E0DEA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9D37-E575-4982-8874-A7BFC174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98AA-F9E1-4795-93DF-5A65A9DE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44FE-7448-4D0B-9CF6-3E64F8D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4898-878C-4B92-828D-7E7C385E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98C1-26D3-4742-970C-F756AB4D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0EC-713C-48A8-AD00-2DEF0DE3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D0F-8E71-485D-AB04-E82038FC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A43-D875-4CAC-86B7-438ABE51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78B-7383-4A1C-8707-FCB07B4A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679-64AA-4298-B4B5-7B83358C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20F-D598-42DC-A0D2-EB715095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494-C968-4615-BFD9-55867F7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5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сайт_компании.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9003-6CED-42D9-A837-0036BD425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48040" cy="379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 flipH="1">
            <a:off x="2626560" y="4581360"/>
            <a:ext cx="647640" cy="43200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flipH="1">
            <a:off x="2842560" y="4581360"/>
            <a:ext cx="647640" cy="43200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3132720" y="4581360"/>
            <a:ext cx="6011280" cy="432000"/>
            <a:chOff x="3132720" y="4581360"/>
            <a:chExt cx="6011280" cy="432000"/>
          </a:xfrm>
        </p:grpSpPr>
        <p:sp>
          <p:nvSpPr>
            <p:cNvPr id="52" name="Rectangle 5"/>
            <p:cNvSpPr/>
            <p:nvPr/>
          </p:nvSpPr>
          <p:spPr>
            <a:xfrm flipH="1">
              <a:off x="3476880" y="4582800"/>
              <a:ext cx="5666760" cy="43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 flipH="1">
              <a:off x="3132720" y="4581360"/>
              <a:ext cx="573840" cy="432000"/>
            </a:xfrm>
            <a:custGeom>
              <a:avLst/>
              <a:gdLst>
                <a:gd name="textAreaLeft" fmla="*/ 360 w 573840"/>
                <a:gd name="textAreaRight" fmla="*/ 574560 w 5738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Text Box 12"/>
          <p:cNvSpPr/>
          <p:nvPr/>
        </p:nvSpPr>
        <p:spPr>
          <a:xfrm>
            <a:off x="1522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E34-DDF0-4E75-99C7-067A0E02BC2F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МОУ Комсомольская средняя общеобразовательная школа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Тамбовская область Тамбовский район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Прямоугольник 8" descr=""/>
          <p:cNvPicPr/>
          <p:nvPr/>
        </p:nvPicPr>
        <p:blipFill>
          <a:blip r:embed="rId1"/>
          <a:stretch/>
        </p:blipFill>
        <p:spPr>
          <a:xfrm>
            <a:off x="5492880" y="2023920"/>
            <a:ext cx="3535200" cy="12002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2"/>
          <a:stretch/>
        </p:blipFill>
        <p:spPr>
          <a:xfrm>
            <a:off x="4316400" y="6497640"/>
            <a:ext cx="719280" cy="5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3KL_INT"/>
          <p:cNvPicPr/>
          <p:nvPr/>
        </p:nvPicPr>
        <p:blipFill>
          <a:blip r:embed="rId3"/>
          <a:stretch/>
        </p:blipFill>
        <p:spPr>
          <a:xfrm>
            <a:off x="714240" y="3000240"/>
            <a:ext cx="2214720" cy="30528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Заголовок 1"/>
          <p:cNvSpPr/>
          <p:nvPr/>
        </p:nvSpPr>
        <p:spPr>
          <a:xfrm>
            <a:off x="857160" y="4214880"/>
            <a:ext cx="77724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Матвеева Н.В.</a:t>
            </a: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Е.Н.Челак, Н.К. Конопатова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Л.П. Панкратова.</a:t>
            </a:r>
            <a:br>
              <a:rPr sz="2400"/>
            </a:b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Бином. Лаборатория Знаний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Verdana"/>
              </a:rPr>
              <a:t>2007</a:t>
            </a:r>
            <a:br>
              <a:rPr sz="2400"/>
            </a:b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Приложение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 rot="4824600">
            <a:off x="180360" y="2481120"/>
            <a:ext cx="2928960" cy="2408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2786040" y="2857680"/>
            <a:ext cx="3214800" cy="3429000"/>
          </a:xfrm>
          <a:prstGeom prst="rect">
            <a:avLst/>
          </a:prstGeom>
          <a:ln w="0">
            <a:noFill/>
          </a:ln>
        </p:spPr>
      </p:pic>
      <p:sp>
        <p:nvSpPr>
          <p:cNvPr id="260" name="Freeform 6"/>
          <p:cNvSpPr/>
          <p:nvPr/>
        </p:nvSpPr>
        <p:spPr>
          <a:xfrm>
            <a:off x="2500200" y="857160"/>
            <a:ext cx="903240" cy="124164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Freeform 6"/>
          <p:cNvSpPr/>
          <p:nvPr/>
        </p:nvSpPr>
        <p:spPr>
          <a:xfrm rot="15664800">
            <a:off x="5445720" y="70668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Freeform 8"/>
          <p:cNvSpPr/>
          <p:nvPr/>
        </p:nvSpPr>
        <p:spPr>
          <a:xfrm flipH="1" rot="2905800">
            <a:off x="3808800" y="1138680"/>
            <a:ext cx="928800" cy="124128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29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 rot="6164400">
            <a:off x="6065640" y="2234880"/>
            <a:ext cx="27226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905120" y="990720"/>
            <a:ext cx="6781680" cy="22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Я работаю по данному комплекту 2 года. Использую не только учебники, но методические рекомендации и ЦОР. </a:t>
            </a:r>
            <a:endParaRPr b="1" lang="en-US" sz="32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265" name="Дата 3"/>
          <p:cNvSpPr/>
          <p:nvPr/>
        </p:nvSpPr>
        <p:spPr>
          <a:xfrm>
            <a:off x="45720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ww.сайт_компании.ру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601992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any Log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Прямоугольник 6" descr=""/>
          <p:cNvPicPr/>
          <p:nvPr/>
        </p:nvPicPr>
        <p:blipFill>
          <a:blip r:embed="rId1"/>
          <a:stretch/>
        </p:blipFill>
        <p:spPr>
          <a:xfrm>
            <a:off x="847800" y="2152800"/>
            <a:ext cx="8107200" cy="1187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" descr="C:\Documents and Settings\Владелец\Рабочий стол\Новая папка (2)\гено.jpg"/>
          <p:cNvPicPr/>
          <p:nvPr/>
        </p:nvPicPr>
        <p:blipFill>
          <a:blip r:embed="rId2"/>
          <a:stretch/>
        </p:blipFill>
        <p:spPr>
          <a:xfrm>
            <a:off x="3929040" y="3643200"/>
            <a:ext cx="1206360" cy="120672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8"/>
          <p:cNvSpPr/>
          <p:nvPr/>
        </p:nvSpPr>
        <p:spPr>
          <a:xfrm>
            <a:off x="2500200" y="107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ебник  стал  "помощником" моим детям  в овладении новыми знаниями и навыками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214560" y="2214360"/>
            <a:ext cx="485748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0"/>
                </a:solidFill>
                <a:latin typeface="Verdana"/>
              </a:rPr>
              <a:t>Задача образования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71680" y="2786040"/>
            <a:ext cx="81151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d4bc7"/>
                </a:solidFill>
                <a:latin typeface="Verdana"/>
              </a:rPr>
              <a:t>формирование личности - непрерывно развивающейся, разносторонне образованной.</a:t>
            </a:r>
            <a:br>
              <a:rPr sz="2400"/>
            </a:br>
            <a:r>
              <a:rPr b="1" lang="ru-RU" sz="2400" spc="-1" strike="noStrike">
                <a:solidFill>
                  <a:srgbClr val="5d4bc7"/>
                </a:solidFill>
                <a:latin typeface="Verdana"/>
              </a:rPr>
              <a:t>Развитие способностей ученика зависит от множества факторов.</a:t>
            </a:r>
            <a:br>
              <a:rPr sz="2400"/>
            </a:br>
            <a:r>
              <a:rPr b="1" lang="ru-RU" sz="2400" spc="-1" strike="noStrike">
                <a:solidFill>
                  <a:srgbClr val="5d4bc7"/>
                </a:solidFill>
                <a:latin typeface="Verdana"/>
              </a:rPr>
              <a:t>Один из основных факторов является учебник!</a:t>
            </a:r>
            <a:endParaRPr b="1" lang="en-US" sz="24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4367160" y="10130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орошая книга-это подарок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вещанный автором человеческому роду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жозеф Аддисон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Новая папка (2)\опноп.jpg"/>
          <p:cNvPicPr/>
          <p:nvPr/>
        </p:nvPicPr>
        <p:blipFill>
          <a:blip r:embed="rId1"/>
          <a:stretch/>
        </p:blipFill>
        <p:spPr>
          <a:xfrm>
            <a:off x="7572240" y="5357880"/>
            <a:ext cx="990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Все продумано, взаимосвязано и логично!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Freeform 93"/>
          <p:cNvSpPr/>
          <p:nvPr/>
        </p:nvSpPr>
        <p:spPr>
          <a:xfrm>
            <a:off x="3286080" y="2857680"/>
            <a:ext cx="1220760" cy="982440"/>
          </a:xfrm>
          <a:prstGeom prst="pie">
            <a:avLst/>
          </a:prstGeom>
          <a:gradFill rotWithShape="0">
            <a:gsLst>
              <a:gs pos="0">
                <a:srgbClr val="6c5bcc">
                  <a:alpha val="32156"/>
                </a:srgbClr>
              </a:gs>
              <a:gs pos="100000">
                <a:srgbClr val="5d4b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AutoShape 94"/>
          <p:cNvSpPr/>
          <p:nvPr/>
        </p:nvSpPr>
        <p:spPr>
          <a:xfrm>
            <a:off x="2428920" y="3857760"/>
            <a:ext cx="1285920" cy="1776240"/>
          </a:xfrm>
          <a:custGeom>
            <a:avLst/>
            <a:gdLst>
              <a:gd name="textAreaLeft" fmla="*/ 17640 w 1285920"/>
              <a:gd name="textAreaRight" fmla="*/ 1268280 w 1285920"/>
              <a:gd name="textAreaTop" fmla="*/ 17640 h 1776240"/>
              <a:gd name="textAreaBottom" fmla="*/ 1758600 h 1776240"/>
            </a:gdLst>
            <a:ahLst/>
            <a:rect l="textAreaLeft" t="textAreaTop" r="textAreaRight" b="textAreaBottom"/>
            <a:pathLst>
              <a:path w="21600" h="29834">
                <a:moveTo>
                  <a:pt x="1013" y="0"/>
                </a:moveTo>
                <a:arcTo wR="1013" hR="1013" stAng="16200000" swAng="-5400000"/>
                <a:lnTo>
                  <a:pt x="0" y="28821"/>
                </a:lnTo>
                <a:arcTo wR="1013" hR="1013" stAng="10800000" swAng="-5400000"/>
                <a:lnTo>
                  <a:pt x="20587" y="2983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c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AutoShape 95"/>
          <p:cNvSpPr/>
          <p:nvPr/>
        </p:nvSpPr>
        <p:spPr>
          <a:xfrm>
            <a:off x="2643120" y="3786120"/>
            <a:ext cx="857160" cy="17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4c64"/>
              </a:gs>
              <a:gs pos="50000">
                <a:srgbClr val="6ca5d8"/>
              </a:gs>
              <a:gs pos="100000">
                <a:srgbClr val="324c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AutoShape 96"/>
          <p:cNvSpPr/>
          <p:nvPr/>
        </p:nvSpPr>
        <p:spPr>
          <a:xfrm flipH="1">
            <a:off x="4662360" y="3236760"/>
            <a:ext cx="61920" cy="123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AutoShape 97"/>
          <p:cNvSpPr/>
          <p:nvPr/>
        </p:nvSpPr>
        <p:spPr>
          <a:xfrm flipH="1">
            <a:off x="3339360" y="3228840"/>
            <a:ext cx="58680" cy="122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AutoShape 98"/>
          <p:cNvSpPr/>
          <p:nvPr/>
        </p:nvSpPr>
        <p:spPr>
          <a:xfrm>
            <a:off x="4071960" y="3714840"/>
            <a:ext cx="1266840" cy="1706400"/>
          </a:xfrm>
          <a:custGeom>
            <a:avLst/>
            <a:gdLst>
              <a:gd name="textAreaLeft" fmla="*/ 17280 w 1266840"/>
              <a:gd name="textAreaRight" fmla="*/ 1249560 w 1266840"/>
              <a:gd name="textAreaTop" fmla="*/ 17280 h 1706400"/>
              <a:gd name="textAreaBottom" fmla="*/ 1689120 h 1706400"/>
            </a:gdLst>
            <a:ahLst/>
            <a:rect l="textAreaLeft" t="textAreaTop" r="textAreaRight" b="textAreaBottom"/>
            <a:pathLst>
              <a:path w="21600" h="29093">
                <a:moveTo>
                  <a:pt x="1013" y="0"/>
                </a:moveTo>
                <a:arcTo wR="1013" hR="1013" stAng="16200000" swAng="-5400000"/>
                <a:lnTo>
                  <a:pt x="0" y="28080"/>
                </a:lnTo>
                <a:arcTo wR="1013" hR="1013" stAng="10800000" swAng="-5400000"/>
                <a:lnTo>
                  <a:pt x="20587" y="29093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d4b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AutoShape 99"/>
          <p:cNvSpPr/>
          <p:nvPr/>
        </p:nvSpPr>
        <p:spPr>
          <a:xfrm>
            <a:off x="4286160" y="3643200"/>
            <a:ext cx="873360" cy="142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235c"/>
              </a:gs>
              <a:gs pos="50000">
                <a:srgbClr val="5d4bc7"/>
              </a:gs>
              <a:gs pos="100000">
                <a:srgbClr val="2b2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AutoShape 100"/>
          <p:cNvSpPr/>
          <p:nvPr/>
        </p:nvSpPr>
        <p:spPr>
          <a:xfrm flipH="1">
            <a:off x="6744600" y="2803680"/>
            <a:ext cx="58680" cy="1206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AutoShape 101"/>
          <p:cNvSpPr/>
          <p:nvPr/>
        </p:nvSpPr>
        <p:spPr>
          <a:xfrm flipH="1">
            <a:off x="5427000" y="2803680"/>
            <a:ext cx="60120" cy="1206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reeform 102"/>
          <p:cNvSpPr/>
          <p:nvPr/>
        </p:nvSpPr>
        <p:spPr>
          <a:xfrm>
            <a:off x="1285920" y="3000240"/>
            <a:ext cx="1220760" cy="984240"/>
          </a:xfrm>
          <a:prstGeom prst="pie">
            <a:avLst/>
          </a:prstGeom>
          <a:gradFill rotWithShape="0">
            <a:gsLst>
              <a:gs pos="0">
                <a:srgbClr val="babecb">
                  <a:alpha val="32156"/>
                </a:srgbClr>
              </a:gs>
              <a:gs pos="100000">
                <a:srgbClr val="878f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7" name="Group 105"/>
          <p:cNvGrpSpPr/>
          <p:nvPr/>
        </p:nvGrpSpPr>
        <p:grpSpPr>
          <a:xfrm>
            <a:off x="5715000" y="3214800"/>
            <a:ext cx="1285920" cy="1836720"/>
            <a:chOff x="5715000" y="3214800"/>
            <a:chExt cx="1285920" cy="1836720"/>
          </a:xfrm>
        </p:grpSpPr>
        <p:grpSp>
          <p:nvGrpSpPr>
            <p:cNvPr id="118" name="AutoShape 106"/>
            <p:cNvGrpSpPr/>
            <p:nvPr/>
          </p:nvGrpSpPr>
          <p:grpSpPr>
            <a:xfrm>
              <a:off x="5715000" y="3267360"/>
              <a:ext cx="1285920" cy="1784160"/>
              <a:chOff x="5715000" y="3267360"/>
              <a:chExt cx="1285920" cy="1784160"/>
            </a:xfrm>
          </p:grpSpPr>
          <p:pic>
            <p:nvPicPr>
              <p:cNvPr id="119" name="AutoShape 106" descr=""/>
              <p:cNvPicPr/>
              <p:nvPr/>
            </p:nvPicPr>
            <p:blipFill>
              <a:blip r:embed="rId1"/>
              <a:stretch/>
            </p:blipFill>
            <p:spPr>
              <a:xfrm>
                <a:off x="5715000" y="3267360"/>
                <a:ext cx="1285920" cy="17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779440" y="3333600"/>
                <a:ext cx="1162080" cy="16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1" name="AutoShape 107"/>
            <p:cNvGrpSpPr/>
            <p:nvPr/>
          </p:nvGrpSpPr>
          <p:grpSpPr>
            <a:xfrm>
              <a:off x="5850360" y="3214800"/>
              <a:ext cx="1014120" cy="198720"/>
              <a:chOff x="5850360" y="3214800"/>
              <a:chExt cx="1014120" cy="198720"/>
            </a:xfrm>
          </p:grpSpPr>
          <p:pic>
            <p:nvPicPr>
              <p:cNvPr id="122" name="AutoShape 107" descr=""/>
              <p:cNvPicPr/>
              <p:nvPr/>
            </p:nvPicPr>
            <p:blipFill>
              <a:blip r:embed="rId2"/>
              <a:stretch/>
            </p:blipFill>
            <p:spPr>
              <a:xfrm>
                <a:off x="5850360" y="3214800"/>
                <a:ext cx="1014120" cy="19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5896440" y="3262680"/>
                <a:ext cx="927000" cy="1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4" name="AutoShape 108"/>
            <p:cNvGrpSpPr/>
            <p:nvPr/>
          </p:nvGrpSpPr>
          <p:grpSpPr>
            <a:xfrm>
              <a:off x="6729120" y="3255480"/>
              <a:ext cx="79200" cy="117360"/>
              <a:chOff x="6729120" y="3255480"/>
              <a:chExt cx="79200" cy="117360"/>
            </a:xfrm>
          </p:grpSpPr>
          <p:pic>
            <p:nvPicPr>
              <p:cNvPr id="125" name="AutoShape 108" descr=""/>
              <p:cNvPicPr/>
              <p:nvPr/>
            </p:nvPicPr>
            <p:blipFill>
              <a:blip r:embed="rId3"/>
              <a:stretch/>
            </p:blipFill>
            <p:spPr>
              <a:xfrm>
                <a:off x="6729120" y="3255480"/>
                <a:ext cx="7920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6757920" y="3283560"/>
                <a:ext cx="26280" cy="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7" name="AutoShape 109"/>
            <p:cNvGrpSpPr/>
            <p:nvPr/>
          </p:nvGrpSpPr>
          <p:grpSpPr>
            <a:xfrm>
              <a:off x="5907600" y="3255480"/>
              <a:ext cx="73440" cy="117360"/>
              <a:chOff x="5907600" y="3255480"/>
              <a:chExt cx="73440" cy="117360"/>
            </a:xfrm>
          </p:grpSpPr>
          <p:pic>
            <p:nvPicPr>
              <p:cNvPr id="128" name="AutoShape 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5907600" y="3255480"/>
                <a:ext cx="7344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5933880" y="3283920"/>
                <a:ext cx="2664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12"/>
          <p:cNvSpPr/>
          <p:nvPr/>
        </p:nvSpPr>
        <p:spPr>
          <a:xfrm>
            <a:off x="3143160" y="3429000"/>
            <a:ext cx="1774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Text Box 113"/>
          <p:cNvSpPr/>
          <p:nvPr/>
        </p:nvSpPr>
        <p:spPr>
          <a:xfrm>
            <a:off x="5234040" y="3035160"/>
            <a:ext cx="17748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" name="Picture 8" descr="3KL_INT"/>
          <p:cNvPicPr/>
          <p:nvPr/>
        </p:nvPicPr>
        <p:blipFill>
          <a:blip r:embed="rId5"/>
          <a:stretch/>
        </p:blipFill>
        <p:spPr>
          <a:xfrm>
            <a:off x="714240" y="4357800"/>
            <a:ext cx="1117800" cy="1541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3" name="Picture 5" descr=""/>
          <p:cNvPicPr/>
          <p:nvPr/>
        </p:nvPicPr>
        <p:blipFill>
          <a:blip r:embed="rId6"/>
          <a:stretch/>
        </p:blipFill>
        <p:spPr>
          <a:xfrm>
            <a:off x="4143240" y="3929040"/>
            <a:ext cx="1095480" cy="140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2500200" y="4071960"/>
            <a:ext cx="1074960" cy="13716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35" name="Group 105"/>
          <p:cNvGrpSpPr/>
          <p:nvPr/>
        </p:nvGrpSpPr>
        <p:grpSpPr>
          <a:xfrm>
            <a:off x="652320" y="4081320"/>
            <a:ext cx="1357560" cy="1979640"/>
            <a:chOff x="652320" y="4081320"/>
            <a:chExt cx="1357560" cy="1979640"/>
          </a:xfrm>
        </p:grpSpPr>
        <p:sp>
          <p:nvSpPr>
            <p:cNvPr id="136" name="AutoShape 106"/>
            <p:cNvSpPr/>
            <p:nvPr/>
          </p:nvSpPr>
          <p:spPr>
            <a:xfrm>
              <a:off x="652320" y="4167000"/>
              <a:ext cx="1357560" cy="1893960"/>
            </a:xfrm>
            <a:custGeom>
              <a:avLst/>
              <a:gdLst>
                <a:gd name="textAreaLeft" fmla="*/ 18360 w 1357560"/>
                <a:gd name="textAreaRight" fmla="*/ 1339200 w 1357560"/>
                <a:gd name="textAreaTop" fmla="*/ 18360 h 1893960"/>
                <a:gd name="textAreaBottom" fmla="*/ 1875600 h 1893960"/>
              </a:gdLst>
              <a:ahLst/>
              <a:rect l="textAreaLeft" t="textAreaTop" r="textAreaRight" b="textAreaBottom"/>
              <a:pathLst>
                <a:path w="21600" h="30132">
                  <a:moveTo>
                    <a:pt x="1013" y="0"/>
                  </a:moveTo>
                  <a:arcTo wR="1013" hR="1013" stAng="16200000" swAng="-5400000"/>
                  <a:lnTo>
                    <a:pt x="0" y="29119"/>
                  </a:lnTo>
                  <a:arcTo wR="1013" hR="1013" stAng="10800000" swAng="-5400000"/>
                  <a:lnTo>
                    <a:pt x="20587" y="3013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78f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AutoShape 107"/>
            <p:cNvSpPr/>
            <p:nvPr/>
          </p:nvSpPr>
          <p:spPr>
            <a:xfrm>
              <a:off x="778680" y="4081320"/>
              <a:ext cx="1103400" cy="17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840"/>
                </a:gs>
                <a:gs pos="50000">
                  <a:srgbClr val="878fa5"/>
                </a:gs>
                <a:gs pos="100000">
                  <a:srgbClr val="3438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AutoShape 108"/>
            <p:cNvSpPr/>
            <p:nvPr/>
          </p:nvSpPr>
          <p:spPr>
            <a:xfrm flipH="1">
              <a:off x="1775160" y="4123800"/>
              <a:ext cx="42120" cy="86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AutoShape 109"/>
            <p:cNvSpPr/>
            <p:nvPr/>
          </p:nvSpPr>
          <p:spPr>
            <a:xfrm flipH="1">
              <a:off x="839880" y="4123800"/>
              <a:ext cx="43200" cy="86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Text Box 111"/>
            <p:cNvSpPr/>
            <p:nvPr/>
          </p:nvSpPr>
          <p:spPr>
            <a:xfrm>
              <a:off x="697320" y="4323240"/>
              <a:ext cx="12618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1" name="AutoShape 94"/>
          <p:cNvGrpSpPr/>
          <p:nvPr/>
        </p:nvGrpSpPr>
        <p:grpSpPr>
          <a:xfrm>
            <a:off x="7375680" y="3164040"/>
            <a:ext cx="1384200" cy="1871640"/>
            <a:chOff x="7375680" y="3164040"/>
            <a:chExt cx="1384200" cy="1871640"/>
          </a:xfrm>
        </p:grpSpPr>
        <p:pic>
          <p:nvPicPr>
            <p:cNvPr id="142" name="AutoShape 94" descr=""/>
            <p:cNvPicPr/>
            <p:nvPr/>
          </p:nvPicPr>
          <p:blipFill>
            <a:blip r:embed="rId8"/>
            <a:stretch/>
          </p:blipFill>
          <p:spPr>
            <a:xfrm>
              <a:off x="7375680" y="3164040"/>
              <a:ext cx="13842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446960" y="3232080"/>
              <a:ext cx="1251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4" name="AutoShape 95"/>
          <p:cNvSpPr/>
          <p:nvPr/>
        </p:nvSpPr>
        <p:spPr>
          <a:xfrm>
            <a:off x="7643880" y="3143160"/>
            <a:ext cx="857160" cy="17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4c64"/>
              </a:gs>
              <a:gs pos="50000">
                <a:srgbClr val="6ca5d8"/>
              </a:gs>
              <a:gs pos="100000">
                <a:srgbClr val="324c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Freeform 93"/>
          <p:cNvSpPr/>
          <p:nvPr/>
        </p:nvSpPr>
        <p:spPr>
          <a:xfrm>
            <a:off x="4929120" y="2643120"/>
            <a:ext cx="1220760" cy="982800"/>
          </a:xfrm>
          <a:prstGeom prst="pie">
            <a:avLst/>
          </a:prstGeom>
          <a:gradFill rotWithShape="0">
            <a:gsLst>
              <a:gs pos="0">
                <a:srgbClr val="6c5bcc">
                  <a:alpha val="32156"/>
                </a:srgbClr>
              </a:gs>
              <a:gs pos="100000">
                <a:srgbClr val="5d4b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6643800" y="2428920"/>
            <a:ext cx="1220760" cy="984240"/>
          </a:xfrm>
          <a:prstGeom prst="pie">
            <a:avLst/>
          </a:prstGeom>
          <a:gradFill rotWithShape="0">
            <a:gsLst>
              <a:gs pos="0">
                <a:srgbClr val="babecb">
                  <a:alpha val="32156"/>
                </a:srgbClr>
              </a:gs>
              <a:gs pos="100000">
                <a:srgbClr val="878f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7" name="Picture 3" descr="disk_1a"/>
          <p:cNvPicPr/>
          <p:nvPr/>
        </p:nvPicPr>
        <p:blipFill>
          <a:blip r:embed="rId9"/>
          <a:stretch/>
        </p:blipFill>
        <p:spPr>
          <a:xfrm>
            <a:off x="5786280" y="3714840"/>
            <a:ext cx="1194120" cy="1104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10"/>
          <a:stretch/>
        </p:blipFill>
        <p:spPr>
          <a:xfrm>
            <a:off x="7358040" y="3500280"/>
            <a:ext cx="1357200" cy="9367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Прямоугольник 44"/>
          <p:cNvSpPr/>
          <p:nvPr/>
        </p:nvSpPr>
        <p:spPr>
          <a:xfrm>
            <a:off x="1928880" y="107172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ебник входит в состав учебно-методического комплекта. Учебник,  рабочая тетрадь,  контрольная тетрадь, методическое пособие, плакаты, ЦОР - всё продумано, взаимосвязано, логично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итай!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2600" y="1714320"/>
            <a:ext cx="456084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0"/>
                </a:solidFill>
                <a:latin typeface="Verdana"/>
              </a:rPr>
              <a:t>Вступительные слова автора перед каждой главой - </a:t>
            </a:r>
            <a:endParaRPr b="0" lang="en-US" sz="2400" spc="-1" strike="noStrike">
              <a:solidFill>
                <a:srgbClr val="175b5b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0"/>
                </a:solidFill>
                <a:latin typeface="Verdana"/>
              </a:rPr>
              <a:t>мотивируют учащегося на познание нового!</a:t>
            </a:r>
            <a:endParaRPr b="0" lang="en-US" sz="2400" spc="-1" strike="noStrike">
              <a:solidFill>
                <a:srgbClr val="175b5b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5b5b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5b5b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175b5b"/>
              </a:solidFill>
              <a:latin typeface="Verdana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 rot="732600">
            <a:off x="5473440" y="527040"/>
            <a:ext cx="2643120" cy="3408480"/>
          </a:xfrm>
          <a:prstGeom prst="rect">
            <a:avLst/>
          </a:prstGeom>
          <a:ln w="3240">
            <a:solidFill>
              <a:srgbClr val="0a0aff"/>
            </a:solidFill>
            <a:miter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 rot="6143400">
            <a:off x="5328000" y="3430800"/>
            <a:ext cx="3270240" cy="2424240"/>
          </a:xfrm>
          <a:prstGeom prst="rect">
            <a:avLst/>
          </a:prstGeom>
          <a:ln w="3240">
            <a:solidFill>
              <a:srgbClr val="5c5cff"/>
            </a:solidFill>
            <a:miter/>
          </a:ln>
        </p:spPr>
      </p:pic>
      <p:pic>
        <p:nvPicPr>
          <p:cNvPr id="155" name="Picture 7" descr="C:\Documents and Settings\Владелец\Рабочий стол\Новая папка (2)\п.jpg"/>
          <p:cNvPicPr/>
          <p:nvPr/>
        </p:nvPicPr>
        <p:blipFill>
          <a:blip r:embed="rId3"/>
          <a:stretch/>
        </p:blipFill>
        <p:spPr>
          <a:xfrm>
            <a:off x="357120" y="4933800"/>
            <a:ext cx="2000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8" descr=""/>
          <p:cNvPicPr/>
          <p:nvPr/>
        </p:nvPicPr>
        <p:blipFill>
          <a:blip r:embed="rId1"/>
          <a:stretch/>
        </p:blipFill>
        <p:spPr>
          <a:xfrm>
            <a:off x="3143160" y="2428920"/>
            <a:ext cx="2928960" cy="1463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Понять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Freeform 6"/>
          <p:cNvSpPr/>
          <p:nvPr/>
        </p:nvSpPr>
        <p:spPr>
          <a:xfrm rot="17676600">
            <a:off x="6817320" y="251640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3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flipH="1">
            <a:off x="502200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 flipH="1" rot="20035200">
            <a:off x="4225680" y="855720"/>
            <a:ext cx="928440" cy="124128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20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0" y="0"/>
            <a:ext cx="4142160" cy="2784960"/>
            <a:chOff x="0" y="0"/>
            <a:chExt cx="4142160" cy="2784960"/>
          </a:xfrm>
        </p:grpSpPr>
        <p:grpSp>
          <p:nvGrpSpPr>
            <p:cNvPr id="162" name="Group 10"/>
            <p:cNvGrpSpPr/>
            <p:nvPr/>
          </p:nvGrpSpPr>
          <p:grpSpPr>
            <a:xfrm>
              <a:off x="0" y="248400"/>
              <a:ext cx="4142160" cy="2536560"/>
              <a:chOff x="0" y="248400"/>
              <a:chExt cx="4142160" cy="2536560"/>
            </a:xfrm>
          </p:grpSpPr>
          <p:sp>
            <p:nvSpPr>
              <p:cNvPr id="163" name="Oval 11"/>
              <p:cNvSpPr/>
              <p:nvPr/>
            </p:nvSpPr>
            <p:spPr>
              <a:xfrm>
                <a:off x="45000" y="329400"/>
                <a:ext cx="4097160" cy="245556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" name="Oval 12"/>
              <p:cNvSpPr/>
              <p:nvPr/>
            </p:nvSpPr>
            <p:spPr>
              <a:xfrm>
                <a:off x="0" y="248400"/>
                <a:ext cx="4097160" cy="245484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5" name="Oval 13"/>
            <p:cNvSpPr/>
            <p:nvPr/>
          </p:nvSpPr>
          <p:spPr>
            <a:xfrm>
              <a:off x="195120" y="0"/>
              <a:ext cx="3708720" cy="233316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Oval 14"/>
            <p:cNvSpPr/>
            <p:nvPr/>
          </p:nvSpPr>
          <p:spPr>
            <a:xfrm>
              <a:off x="243360" y="13680"/>
              <a:ext cx="3618720" cy="22748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Oval 15"/>
            <p:cNvSpPr/>
            <p:nvPr/>
          </p:nvSpPr>
          <p:spPr>
            <a:xfrm>
              <a:off x="280800" y="36000"/>
              <a:ext cx="3443040" cy="212508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Oval 16"/>
            <p:cNvSpPr/>
            <p:nvPr/>
          </p:nvSpPr>
          <p:spPr>
            <a:xfrm>
              <a:off x="462960" y="83160"/>
              <a:ext cx="3030840" cy="17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169" name="Freeform 6" descr=""/>
          <p:cNvPicPr/>
          <p:nvPr/>
        </p:nvPicPr>
        <p:blipFill>
          <a:blip r:embed="rId2"/>
          <a:stretch/>
        </p:blipFill>
        <p:spPr>
          <a:xfrm>
            <a:off x="4200480" y="3773520"/>
            <a:ext cx="1266840" cy="396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Picture 23" descr=""/>
          <p:cNvPicPr/>
          <p:nvPr/>
        </p:nvPicPr>
        <p:blipFill>
          <a:blip r:embed="rId3"/>
          <a:stretch/>
        </p:blipFill>
        <p:spPr>
          <a:xfrm>
            <a:off x="214200" y="4714920"/>
            <a:ext cx="3286080" cy="1738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4" name="Picture 25" descr=""/>
          <p:cNvPicPr/>
          <p:nvPr/>
        </p:nvPicPr>
        <p:blipFill>
          <a:blip r:embed="rId4"/>
          <a:stretch/>
        </p:blipFill>
        <p:spPr>
          <a:xfrm>
            <a:off x="5143680" y="1000080"/>
            <a:ext cx="3643200" cy="162900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9"/>
          <p:cNvSpPr/>
          <p:nvPr/>
        </p:nvSpPr>
        <p:spPr>
          <a:xfrm>
            <a:off x="928800" y="214200"/>
            <a:ext cx="257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териал представлен на примерах из жизни и опыта полученных на других учебных предметах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4643280" y="3714840"/>
            <a:ext cx="4142880" cy="2784960"/>
            <a:chOff x="4643280" y="3714840"/>
            <a:chExt cx="4142880" cy="2784960"/>
          </a:xfrm>
        </p:grpSpPr>
        <p:grpSp>
          <p:nvGrpSpPr>
            <p:cNvPr id="177" name="Group 10"/>
            <p:cNvGrpSpPr/>
            <p:nvPr/>
          </p:nvGrpSpPr>
          <p:grpSpPr>
            <a:xfrm>
              <a:off x="4643280" y="3963240"/>
              <a:ext cx="4142880" cy="2536560"/>
              <a:chOff x="4643280" y="3963240"/>
              <a:chExt cx="4142880" cy="2536560"/>
            </a:xfrm>
          </p:grpSpPr>
          <p:sp>
            <p:nvSpPr>
              <p:cNvPr id="178" name="Oval 11"/>
              <p:cNvSpPr/>
              <p:nvPr/>
            </p:nvSpPr>
            <p:spPr>
              <a:xfrm>
                <a:off x="4688640" y="4044240"/>
                <a:ext cx="4097520" cy="245556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4643280" y="3963240"/>
                <a:ext cx="4097520" cy="245484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0" name="Oval 13"/>
            <p:cNvSpPr/>
            <p:nvPr/>
          </p:nvSpPr>
          <p:spPr>
            <a:xfrm>
              <a:off x="4838760" y="3714840"/>
              <a:ext cx="3709080" cy="233316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4887000" y="3728520"/>
              <a:ext cx="3619080" cy="22748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4924080" y="3750840"/>
              <a:ext cx="3443400" cy="212508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5106240" y="3798000"/>
              <a:ext cx="3031200" cy="17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4" name="Прямоугольник 36"/>
          <p:cNvSpPr/>
          <p:nvPr/>
        </p:nvSpPr>
        <p:spPr>
          <a:xfrm>
            <a:off x="5572080" y="4071960"/>
            <a:ext cx="235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этому основные понятия информатики легко воспринимают учащиеся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Freeform 6"/>
          <p:cNvSpPr/>
          <p:nvPr/>
        </p:nvSpPr>
        <p:spPr>
          <a:xfrm rot="11683800">
            <a:off x="3642480" y="488124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99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" name="Picture 30" descr=""/>
          <p:cNvPicPr/>
          <p:nvPr/>
        </p:nvPicPr>
        <p:blipFill>
          <a:blip r:embed="rId5"/>
          <a:stretch/>
        </p:blipFill>
        <p:spPr>
          <a:xfrm>
            <a:off x="3143160" y="3929040"/>
            <a:ext cx="2071800" cy="5000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9" name="Picture 31" descr=""/>
          <p:cNvPicPr/>
          <p:nvPr/>
        </p:nvPicPr>
        <p:blipFill>
          <a:blip r:embed="rId6"/>
          <a:srcRect l="0" t="-1058" r="0" b="49340"/>
          <a:stretch/>
        </p:blipFill>
        <p:spPr>
          <a:xfrm>
            <a:off x="714240" y="3000240"/>
            <a:ext cx="2286000" cy="149544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8"/>
          <p:cNvSpPr/>
          <p:nvPr/>
        </p:nvSpPr>
        <p:spPr>
          <a:xfrm flipH="1" rot="625200">
            <a:off x="103680" y="2001600"/>
            <a:ext cx="928800" cy="124164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6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12"/>
          <p:cNvSpPr/>
          <p:nvPr/>
        </p:nvSpPr>
        <p:spPr>
          <a:xfrm>
            <a:off x="1285920" y="785880"/>
            <a:ext cx="960480" cy="5715000"/>
          </a:xfrm>
          <a:prstGeom prst="pie">
            <a:avLst/>
          </a:prstGeom>
          <a:solidFill>
            <a:srgbClr val="eaeae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1958040" y="53881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efefe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1887480" y="3967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786280" y="2500200"/>
            <a:ext cx="23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5" name="Picture 25" descr=""/>
          <p:cNvPicPr/>
          <p:nvPr/>
        </p:nvPicPr>
        <p:blipFill>
          <a:blip r:embed="rId1"/>
          <a:stretch/>
        </p:blipFill>
        <p:spPr>
          <a:xfrm>
            <a:off x="214200" y="2428920"/>
            <a:ext cx="2836800" cy="214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2643120" y="857160"/>
            <a:ext cx="3624480" cy="1552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6143760" y="2214720"/>
            <a:ext cx="2665440" cy="229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4"/>
          <a:stretch/>
        </p:blipFill>
        <p:spPr>
          <a:xfrm>
            <a:off x="3357720" y="3071880"/>
            <a:ext cx="2500200" cy="3262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Для наглядности есть прекрасные иллюстрации!!!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9"/>
          <p:cNvGrpSpPr/>
          <p:nvPr/>
        </p:nvGrpSpPr>
        <p:grpSpPr>
          <a:xfrm>
            <a:off x="1571760" y="1000080"/>
            <a:ext cx="6499080" cy="1601640"/>
            <a:chOff x="1571760" y="1000080"/>
            <a:chExt cx="6499080" cy="1601640"/>
          </a:xfrm>
        </p:grpSpPr>
        <p:grpSp>
          <p:nvGrpSpPr>
            <p:cNvPr id="201" name="Group 10"/>
            <p:cNvGrpSpPr/>
            <p:nvPr/>
          </p:nvGrpSpPr>
          <p:grpSpPr>
            <a:xfrm>
              <a:off x="1571760" y="1143000"/>
              <a:ext cx="6499080" cy="1458720"/>
              <a:chOff x="1571760" y="1143000"/>
              <a:chExt cx="6499080" cy="1458720"/>
            </a:xfrm>
          </p:grpSpPr>
          <p:sp>
            <p:nvSpPr>
              <p:cNvPr id="202" name="Oval 11"/>
              <p:cNvSpPr/>
              <p:nvPr/>
            </p:nvSpPr>
            <p:spPr>
              <a:xfrm>
                <a:off x="1642680" y="1189440"/>
                <a:ext cx="6428160" cy="141228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1571760" y="1143000"/>
                <a:ext cx="6428160" cy="141192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04" name="Oval 13"/>
            <p:cNvSpPr/>
            <p:nvPr/>
          </p:nvSpPr>
          <p:spPr>
            <a:xfrm>
              <a:off x="1878120" y="1000080"/>
              <a:ext cx="5818680" cy="134172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14"/>
            <p:cNvSpPr/>
            <p:nvPr/>
          </p:nvSpPr>
          <p:spPr>
            <a:xfrm>
              <a:off x="1954080" y="1008000"/>
              <a:ext cx="5677560" cy="13082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15"/>
            <p:cNvSpPr/>
            <p:nvPr/>
          </p:nvSpPr>
          <p:spPr>
            <a:xfrm>
              <a:off x="2012400" y="1020960"/>
              <a:ext cx="5402160" cy="122220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16"/>
            <p:cNvSpPr/>
            <p:nvPr/>
          </p:nvSpPr>
          <p:spPr>
            <a:xfrm>
              <a:off x="2215440" y="1047960"/>
              <a:ext cx="492768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Можешь выводы сделать сам,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а если трудно - итог новой темы :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69296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Главное, что мы должны понять и запомнить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5643720" y="3000240"/>
            <a:ext cx="3214440" cy="3286440"/>
          </a:xfrm>
          <a:custGeom>
            <a:avLst/>
            <a:gdLst>
              <a:gd name="textAreaLeft" fmla="*/ 156600 w 3214440"/>
              <a:gd name="textAreaRight" fmla="*/ 3057840 w 3214440"/>
              <a:gd name="textAreaTop" fmla="*/ 156600 h 3286440"/>
              <a:gd name="textAreaBottom" fmla="*/ 3129840 h 3286440"/>
            </a:gdLst>
            <a:ahLst/>
            <a:rect l="textAreaLeft" t="textAreaTop" r="textAreaRight" b="textAreaBottom"/>
            <a:pathLst>
              <a:path w="21600" h="22084">
                <a:moveTo>
                  <a:pt x="3600" y="0"/>
                </a:moveTo>
                <a:arcTo wR="3600" hR="3600" stAng="16200000" swAng="-5400000"/>
                <a:lnTo>
                  <a:pt x="0" y="18484"/>
                </a:lnTo>
                <a:arcTo wR="3600" hR="3600" stAng="10800000" swAng="-5400000"/>
                <a:lnTo>
                  <a:pt x="18000" y="22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14200" y="3000240"/>
            <a:ext cx="3429000" cy="3286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571920" y="257184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 flipH="1">
            <a:off x="502200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Freeform 8"/>
          <p:cNvSpPr/>
          <p:nvPr/>
        </p:nvSpPr>
        <p:spPr>
          <a:xfrm flipH="1">
            <a:off x="4643280" y="2571840"/>
            <a:ext cx="928800" cy="124128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4" name="Freeform 6" descr=""/>
          <p:cNvPicPr/>
          <p:nvPr/>
        </p:nvPicPr>
        <p:blipFill>
          <a:blip r:embed="rId1"/>
          <a:stretch/>
        </p:blipFill>
        <p:spPr>
          <a:xfrm>
            <a:off x="4200480" y="3773520"/>
            <a:ext cx="1266840" cy="396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7" name="Picture 24" descr=""/>
          <p:cNvPicPr/>
          <p:nvPr/>
        </p:nvPicPr>
        <p:blipFill>
          <a:blip r:embed="rId2"/>
          <a:stretch/>
        </p:blipFill>
        <p:spPr>
          <a:xfrm>
            <a:off x="285840" y="3286080"/>
            <a:ext cx="3203640" cy="25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6" descr=""/>
          <p:cNvPicPr/>
          <p:nvPr/>
        </p:nvPicPr>
        <p:blipFill>
          <a:blip r:embed="rId3"/>
          <a:stretch/>
        </p:blipFill>
        <p:spPr>
          <a:xfrm>
            <a:off x="5715000" y="457200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"/>
          <p:cNvPicPr/>
          <p:nvPr/>
        </p:nvPicPr>
        <p:blipFill>
          <a:blip r:embed="rId4"/>
          <a:stretch/>
        </p:blipFill>
        <p:spPr>
          <a:xfrm>
            <a:off x="5643720" y="3214800"/>
            <a:ext cx="3062160" cy="984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5"/>
          <a:stretch/>
        </p:blipFill>
        <p:spPr>
          <a:xfrm>
            <a:off x="3143160" y="3571920"/>
            <a:ext cx="2708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Знать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572080" y="1928880"/>
            <a:ext cx="3214800" cy="4357800"/>
          </a:xfrm>
          <a:custGeom>
            <a:avLst/>
            <a:gdLst>
              <a:gd name="textAreaLeft" fmla="*/ 156600 w 3214800"/>
              <a:gd name="textAreaRight" fmla="*/ 3058200 w 3214800"/>
              <a:gd name="textAreaTop" fmla="*/ 156600 h 4357800"/>
              <a:gd name="textAreaBottom" fmla="*/ 4201200 h 4357800"/>
            </a:gdLst>
            <a:ahLst/>
            <a:rect l="textAreaLeft" t="textAreaTop" r="textAreaRight" b="textAreaBottom"/>
            <a:pathLst>
              <a:path w="21600" h="29279">
                <a:moveTo>
                  <a:pt x="3600" y="0"/>
                </a:moveTo>
                <a:arcTo wR="3600" hR="3600" stAng="16200000" swAng="-5400000"/>
                <a:lnTo>
                  <a:pt x="0" y="25679"/>
                </a:lnTo>
                <a:arcTo wR="3600" hR="3600" stAng="10800000" swAng="-5400000"/>
                <a:lnTo>
                  <a:pt x="18000" y="29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142920" y="2928960"/>
            <a:ext cx="3429000" cy="3286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Freeform 6"/>
          <p:cNvSpPr/>
          <p:nvPr/>
        </p:nvSpPr>
        <p:spPr>
          <a:xfrm>
            <a:off x="3643200" y="2286000"/>
            <a:ext cx="903240" cy="1241280"/>
          </a:xfrm>
          <a:prstGeom prst="pie">
            <a:avLst/>
          </a:prstGeom>
          <a:gradFill rotWithShape="0">
            <a:gsLst>
              <a:gs pos="0">
                <a:srgbClr val="cbb61d"/>
              </a:gs>
              <a:gs pos="100000">
                <a:srgbClr val="ded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 flipH="1">
            <a:off x="502200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Freeform 8"/>
          <p:cNvSpPr/>
          <p:nvPr/>
        </p:nvSpPr>
        <p:spPr>
          <a:xfrm flipH="1">
            <a:off x="4643280" y="2286000"/>
            <a:ext cx="928800" cy="1241280"/>
          </a:xfrm>
          <a:prstGeom prst="pie">
            <a:avLst/>
          </a:prstGeom>
          <a:gradFill rotWithShape="0">
            <a:gsLst>
              <a:gs pos="0">
                <a:srgbClr val="5d4bc7"/>
              </a:gs>
              <a:gs pos="100000">
                <a:srgbClr val="ccc6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1143000" y="0"/>
            <a:ext cx="4926600" cy="2529360"/>
            <a:chOff x="1143000" y="0"/>
            <a:chExt cx="4926600" cy="2529360"/>
          </a:xfrm>
        </p:grpSpPr>
        <p:grpSp>
          <p:nvGrpSpPr>
            <p:cNvPr id="228" name="Group 10"/>
            <p:cNvGrpSpPr/>
            <p:nvPr/>
          </p:nvGrpSpPr>
          <p:grpSpPr>
            <a:xfrm>
              <a:off x="1143000" y="225720"/>
              <a:ext cx="4926600" cy="2303640"/>
              <a:chOff x="1143000" y="225720"/>
              <a:chExt cx="4926600" cy="2303640"/>
            </a:xfrm>
          </p:grpSpPr>
          <p:sp>
            <p:nvSpPr>
              <p:cNvPr id="229" name="Oval 11"/>
              <p:cNvSpPr/>
              <p:nvPr/>
            </p:nvSpPr>
            <p:spPr>
              <a:xfrm>
                <a:off x="1196640" y="299160"/>
                <a:ext cx="4872960" cy="223020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Oval 12"/>
              <p:cNvSpPr/>
              <p:nvPr/>
            </p:nvSpPr>
            <p:spPr>
              <a:xfrm>
                <a:off x="1143000" y="225720"/>
                <a:ext cx="4872960" cy="222984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1" name="Oval 13"/>
            <p:cNvSpPr/>
            <p:nvPr/>
          </p:nvSpPr>
          <p:spPr>
            <a:xfrm>
              <a:off x="1375200" y="0"/>
              <a:ext cx="4410720" cy="211896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432800" y="12240"/>
              <a:ext cx="4303800" cy="20660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Oval 15"/>
            <p:cNvSpPr/>
            <p:nvPr/>
          </p:nvSpPr>
          <p:spPr>
            <a:xfrm>
              <a:off x="1477080" y="32760"/>
              <a:ext cx="4095000" cy="193032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Oval 16"/>
            <p:cNvSpPr/>
            <p:nvPr/>
          </p:nvSpPr>
          <p:spPr>
            <a:xfrm>
              <a:off x="1693440" y="75600"/>
              <a:ext cx="3604680" cy="156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5" name="Прямоугольник 19"/>
          <p:cNvSpPr/>
          <p:nvPr/>
        </p:nvSpPr>
        <p:spPr>
          <a:xfrm>
            <a:off x="1928880" y="28584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просы помогают проанализировать полученный материал и подготовиться к изучению  нового материала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6" name="Freeform 6" descr=""/>
          <p:cNvPicPr/>
          <p:nvPr/>
        </p:nvPicPr>
        <p:blipFill>
          <a:blip r:embed="rId1"/>
          <a:stretch/>
        </p:blipFill>
        <p:spPr>
          <a:xfrm>
            <a:off x="4200480" y="3773520"/>
            <a:ext cx="1266840" cy="3967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357120" y="3214800"/>
            <a:ext cx="291456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" descr=""/>
          <p:cNvPicPr/>
          <p:nvPr/>
        </p:nvPicPr>
        <p:blipFill>
          <a:blip r:embed="rId3"/>
          <a:stretch/>
        </p:blipFill>
        <p:spPr>
          <a:xfrm>
            <a:off x="5929200" y="2214720"/>
            <a:ext cx="2463840" cy="1000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4"/>
          <a:stretch/>
        </p:blipFill>
        <p:spPr>
          <a:xfrm>
            <a:off x="5929200" y="3143160"/>
            <a:ext cx="24336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Содержание заданий разной степени сложности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43" name="Group 9"/>
          <p:cNvGrpSpPr/>
          <p:nvPr/>
        </p:nvGrpSpPr>
        <p:grpSpPr>
          <a:xfrm>
            <a:off x="1071720" y="928800"/>
            <a:ext cx="7713360" cy="2784960"/>
            <a:chOff x="1071720" y="928800"/>
            <a:chExt cx="7713360" cy="2784960"/>
          </a:xfrm>
        </p:grpSpPr>
        <p:grpSp>
          <p:nvGrpSpPr>
            <p:cNvPr id="244" name="Group 10"/>
            <p:cNvGrpSpPr/>
            <p:nvPr/>
          </p:nvGrpSpPr>
          <p:grpSpPr>
            <a:xfrm>
              <a:off x="1071720" y="1177200"/>
              <a:ext cx="7713360" cy="2536560"/>
              <a:chOff x="1071720" y="1177200"/>
              <a:chExt cx="7713360" cy="2536560"/>
            </a:xfrm>
          </p:grpSpPr>
          <p:sp>
            <p:nvSpPr>
              <p:cNvPr id="245" name="Oval 11"/>
              <p:cNvSpPr/>
              <p:nvPr/>
            </p:nvSpPr>
            <p:spPr>
              <a:xfrm>
                <a:off x="1155960" y="1258200"/>
                <a:ext cx="7629120" cy="245556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d24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6" name="Oval 12"/>
              <p:cNvSpPr/>
              <p:nvPr/>
            </p:nvSpPr>
            <p:spPr>
              <a:xfrm>
                <a:off x="1071720" y="1177200"/>
                <a:ext cx="7629120" cy="2454840"/>
              </a:xfrm>
              <a:prstGeom prst="ellipse">
                <a:avLst/>
              </a:prstGeom>
              <a:gradFill rotWithShape="0">
                <a:gsLst>
                  <a:gs pos="0">
                    <a:srgbClr val="b7afe6"/>
                  </a:gs>
                  <a:gs pos="100000">
                    <a:srgbClr val="5d4b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7" name="Oval 13"/>
            <p:cNvSpPr/>
            <p:nvPr/>
          </p:nvSpPr>
          <p:spPr>
            <a:xfrm>
              <a:off x="1435680" y="928800"/>
              <a:ext cx="6905880" cy="2333160"/>
            </a:xfrm>
            <a:prstGeom prst="ellipse">
              <a:avLst/>
            </a:prstGeom>
            <a:gradFill rotWithShape="0">
              <a:gsLst>
                <a:gs pos="0">
                  <a:srgbClr val="5e540d"/>
                </a:gs>
                <a:gs pos="100000">
                  <a:srgbClr val="cbb6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525320" y="942480"/>
              <a:ext cx="6738120" cy="2274840"/>
            </a:xfrm>
            <a:prstGeom prst="ellipse">
              <a:avLst/>
            </a:prstGeom>
            <a:gradFill rotWithShape="0">
              <a:gsLst>
                <a:gs pos="0">
                  <a:srgbClr val="cbb61d">
                    <a:alpha val="0"/>
                  </a:srgbClr>
                </a:gs>
                <a:gs pos="100000">
                  <a:srgbClr val="ede6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594800" y="964800"/>
              <a:ext cx="6411240" cy="2125080"/>
            </a:xfrm>
            <a:prstGeom prst="ellipse">
              <a:avLst/>
            </a:prstGeom>
            <a:gradFill rotWithShape="0">
              <a:gsLst>
                <a:gs pos="0">
                  <a:srgbClr val="a19017"/>
                </a:gs>
                <a:gs pos="100000">
                  <a:srgbClr val="cbb61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Oval 16"/>
            <p:cNvSpPr/>
            <p:nvPr/>
          </p:nvSpPr>
          <p:spPr>
            <a:xfrm>
              <a:off x="1835640" y="1011960"/>
              <a:ext cx="5741640" cy="17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b61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1" name="Rectangle 14"/>
          <p:cNvSpPr/>
          <p:nvPr/>
        </p:nvSpPr>
        <p:spPr>
          <a:xfrm>
            <a:off x="2786040" y="104940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ласс небольшой, каждому по компьютеру, но если не хватает, то легко организовать работу по группам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500040" y="3429000"/>
            <a:ext cx="2500200" cy="1571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2"/>
          <a:stretch/>
        </p:blipFill>
        <p:spPr>
          <a:xfrm>
            <a:off x="571680" y="5072040"/>
            <a:ext cx="2286000" cy="1430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3"/>
          <a:stretch/>
        </p:blipFill>
        <p:spPr>
          <a:xfrm>
            <a:off x="6215040" y="3571920"/>
            <a:ext cx="2536920" cy="1442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4"/>
          <a:stretch/>
        </p:blipFill>
        <p:spPr>
          <a:xfrm>
            <a:off x="3786120" y="4000680"/>
            <a:ext cx="1785960" cy="2112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5"/>
          <a:stretch/>
        </p:blipFill>
        <p:spPr>
          <a:xfrm>
            <a:off x="6286680" y="5097600"/>
            <a:ext cx="2357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9:28:21Z</dcterms:created>
  <dc:creator>Cheresh</dc:creator>
  <dc:description/>
  <dc:language>en-US</dc:language>
  <cp:lastModifiedBy>Fedorova</cp:lastModifiedBy>
  <dcterms:modified xsi:type="dcterms:W3CDTF">2010-05-05T06:39:48Z</dcterms:modified>
  <cp:revision>60</cp:revision>
  <dc:subject/>
  <dc:title>Занимательый  квартальный отчет</dc:title>
</cp:coreProperties>
</file>