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9CF-01A2-4930-8F62-ACF0041D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B91-4A20-4BF1-B971-0C5F4417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B58-C433-4CF1-83A7-D107C098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CD4-4A29-4123-8ED1-BDF35411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B25A-EA2A-4902-A984-4DD7F5EE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7F2E-D9E6-4F83-A4C8-62BA55B6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2DB9-F489-481C-B613-D83AD71A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5666-1B5C-4ECD-96F6-991D507C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00FA-341E-43B2-8C66-19382047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32C5-8B66-4C80-A4C5-E2A062DD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39E0-E563-475A-9F52-D553AABD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922-1A32-4AF5-959A-9796051E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8E6D-187D-42D4-A5E0-10CC33C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F75F-0E77-4B91-AA9F-D1D277BF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4C41-05AC-4C4C-94EA-AC9C1046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A494-85F1-44F0-A34F-D381A90F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46F2-2778-452A-8A7C-7464BBD2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E985-0EFE-4310-A8B3-8A014401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4B4E-884B-4C64-ADCA-805E3809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8F97-BACD-4FCD-A3E3-0B391E53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80A4-230A-4081-81A9-E71999F0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41B0-24DF-4C27-8603-5C3406B7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11A-D26F-47DE-8A91-DEC9769D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B4F9-C750-487F-902F-F7CC3F7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0051-1E43-4281-BB2D-7A92D4D2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7A6C-43E0-4A7D-8EA8-2521B01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613F-EE49-4C73-9EE9-C760547A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D88C-E170-4755-B6FF-A9185A2E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7053-0A6B-4FB9-81F5-A55FD5DD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E19D-B8CF-4D75-BDBA-7568B766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7F18-5EF7-482F-A6F4-AD40697A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D1622-453B-4E8B-BAB7-5C6D0734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6646-CD04-4CB5-A14D-5A7D6588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A48-4625-4406-A9C2-99AF3BD8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DD36-17DD-4DE4-90BB-0BACB86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8420-6851-49EE-BD09-1D17B3C9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BC2D5-9C51-4098-B6FD-71F8DEA9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663E-95D7-4E42-9498-B66DF182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4749-81EE-4DB2-A549-267ADD27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6D5E0-D13B-4BC4-BDD7-FB70D9A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EDF4-C12B-43FA-909E-D4E9B00F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5117D-C504-4141-903E-969CE1FE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61BE-0E78-4DAA-ADD3-35232F7E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6D5-61A9-4A5F-BF80-E7BDE797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F27-033C-48A5-B00C-8CF137C7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A94-DC98-487F-99E8-AF22AA8B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879-D021-4FD7-995B-5C91263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B08-EEFA-4E38-8B01-3D2D845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96C6-1692-4915-AC58-975198D67AB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C45F-A07C-46CD-BE91-F99BAE6B7B1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92A2-58B1-42DD-884A-2991FF7F261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34D0-5C4A-4330-90D7-E22AFEC324D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3429000" y="2857680"/>
            <a:ext cx="2665440" cy="1857240"/>
          </a:xfrm>
          <a:prstGeom prst="rect">
            <a:avLst/>
          </a:prstGeom>
          <a:ln w="0">
            <a:noFill/>
          </a:ln>
        </p:spPr>
      </p:pic>
      <p:pic>
        <p:nvPicPr>
          <p:cNvPr id="196" name="Схема 5" descr=""/>
          <p:cNvPicPr/>
          <p:nvPr/>
        </p:nvPicPr>
        <p:blipFill>
          <a:blip r:embed="rId2"/>
          <a:stretch/>
        </p:blipFill>
        <p:spPr>
          <a:xfrm>
            <a:off x="3780000" y="920880"/>
            <a:ext cx="5370480" cy="4595760"/>
          </a:xfrm>
          <a:prstGeom prst="rect">
            <a:avLst/>
          </a:prstGeom>
          <a:ln w="0">
            <a:noFill/>
          </a:ln>
        </p:spPr>
      </p:pic>
      <p:pic>
        <p:nvPicPr>
          <p:cNvPr id="197" name="Схема 6" descr=""/>
          <p:cNvPicPr/>
          <p:nvPr/>
        </p:nvPicPr>
        <p:blipFill>
          <a:blip r:embed="rId3"/>
          <a:stretch/>
        </p:blipFill>
        <p:spPr>
          <a:xfrm>
            <a:off x="208080" y="920880"/>
            <a:ext cx="6205320" cy="49435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7" descr=""/>
          <p:cNvPicPr/>
          <p:nvPr/>
        </p:nvPicPr>
        <p:blipFill>
          <a:blip r:embed="rId4"/>
          <a:stretch/>
        </p:blipFill>
        <p:spPr>
          <a:xfrm>
            <a:off x="1920960" y="420840"/>
            <a:ext cx="5308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6" descr=""/>
          <p:cNvPicPr/>
          <p:nvPr/>
        </p:nvPicPr>
        <p:blipFill>
          <a:blip r:embed="rId1"/>
          <a:srcRect l="0" t="20507" r="28517" b="6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3357720" y="509400"/>
            <a:ext cx="5786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ён Лю́двигович Фран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16 (28) января, 1877, Москва — 10 декабря 1950, Лондон) — крупный русский философ, религиозный мыслитель и психолог. Стремился к синтезу рациональной мысли и религиозной веры В 1922 выслан из России. Жил в Германии (до 1937), во Франции (до 1945) и затем в Англ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1928880" cy="264780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0" y="31431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ы к докум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Почему, по мнению автора, о смысле жизни в свое время задумыва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ажды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)Согласны ли вы с мнением автора, аргументируйте свое м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*3)  Какие цели следует перед собой ставить, чтобы добиться успеха в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0" y="2016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ы по тексту доку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почему, по мнению автора, о смысле жизни в свое время задумыва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ажды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)согласны ли вы с мнением автора, аргументируйте свое м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*3)  какие цели следует перед собой ставить, чтобы добиться успеха в жизни и не прожить ее зр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785880"/>
          <a:ext cx="9144000" cy="5857920"/>
        </p:xfrm>
        <a:graphic>
          <a:graphicData uri="http://schemas.openxmlformats.org/drawingml/2006/table">
            <a:tbl>
              <a:tblPr/>
              <a:tblGrid>
                <a:gridCol w="1643040"/>
                <a:gridCol w="2112840"/>
                <a:gridCol w="1795680"/>
                <a:gridCol w="1797120"/>
                <a:gridCol w="1795320"/>
              </a:tblGrid>
              <a:tr h="305280"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м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4680"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 иссле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томическое и физиологическое строение, особенности генетики, основные процессы, обусловливающие функциони-рование человеческого органи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ые и бессознательные процессы, интеллект, воля, память, характер, темперамент, эмо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в системе социаль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и космических процессов на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, меди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сихология, соц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олковски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дский, Чиж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Прямоугольник 2" descr=""/>
          <p:cNvPicPr/>
          <p:nvPr/>
        </p:nvPicPr>
        <p:blipFill>
          <a:blip r:embed="rId1"/>
          <a:stretch/>
        </p:blipFill>
        <p:spPr>
          <a:xfrm>
            <a:off x="281160" y="-133200"/>
            <a:ext cx="85816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0" y="7606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бывают людьми не по существу, а только по наз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Цицерон Марк Тул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ивительно устроен человек - он огорчается, когда теряет богатство, и равнодушен к тому, что безвозвратно уходят дни его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бу-ль-Фара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веряем своим глазам - но и им нельзя верить; мы полагаемся на свое сердце - но и на него не стоит полагаться. Запомните же ученики: поистине не легко познать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у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2" descr=""/>
          <p:cNvPicPr/>
          <p:nvPr/>
        </p:nvPicPr>
        <p:blipFill>
          <a:blip r:embed="rId1"/>
          <a:stretch/>
        </p:blipFill>
        <p:spPr>
          <a:xfrm>
            <a:off x="1268280" y="-115920"/>
            <a:ext cx="673596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14200" y="1873800"/>
            <a:ext cx="878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1752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овек – эт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зульта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биологической, социальной и культурной революции, хотя существуют и другие м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1752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мысл жизни должен быть и он е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Человекознание - перспективная отрасль развития нау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357200" y="857160"/>
            <a:ext cx="607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мое глав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тертек</cp:lastModifiedBy>
  <dcterms:modified xsi:type="dcterms:W3CDTF">2010-04-27T22:58:28Z</dcterms:modified>
  <cp:revision>17</cp:revision>
  <dc:subject/>
  <dc:title>Слайд 1</dc:title>
</cp:coreProperties>
</file>