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C8E0-44D9-4505-96D1-798203D5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F9E-1AF8-415A-8782-4E4DBD78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50C-9D03-4EB3-8939-80B90490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C77-94FF-4B3E-8D8C-A603932B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99D5-5D1F-46A9-8F4D-41DBA6B9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6C0B-1735-49AD-9088-9D57713D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CA85-30D1-4AB8-9BB3-D20D1F1B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17A6-A548-43E9-B729-70CA0A89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18D5-4B60-4E78-9C71-5884C9C3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FE99-BF42-4B09-8804-1B35F7E3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C5BE-47B7-4186-8EAC-90928BDB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5E3-8FA0-450F-A2B4-C86D7205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2957-8BFE-4415-966A-D72F7A43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7E86-B9F5-488F-AB25-C9CFC4EB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36A9-0CF8-4596-933F-89CDC35C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5F33-E7BE-4432-ACF0-661498F1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0A18-CC4F-4F98-B199-CB225CFE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D3F3-650D-4353-92D3-86FE364C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6488E-74E3-4D68-9180-A95C029F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3CE1-2531-4949-B823-5925A707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3F062-56DE-4D38-B73C-35D7DE8F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6420-656E-474D-8774-A1C9B74E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88D-A070-42FA-8449-4E533D0B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54AEE-66EE-4239-BB9A-F10C4D8E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4E15-D715-4AED-87FB-6A3FC888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3B04E-F33C-4644-BF10-88EE0242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A4FD8-1272-47AA-97C4-3ECC1E86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6853F-D531-4BDD-BB41-6C5398E4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72103-2CC3-42A8-BD04-C313DD34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DE488-C5D1-4BA9-818C-9E974C6C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7784B-F4F1-41AE-814D-33A8F356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016F1-E270-4CD1-A17C-687AB9DB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4C0FD-7854-4899-9002-340F002B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84F-8718-4D5F-A37C-E5BAA59C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42EA2-6014-4B4B-B370-49EAA0DA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6314D-E67A-47BB-A82F-1BC69A2D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461E0-D5B4-4277-BAC5-F52BD91C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FF1F8-EEF1-4089-A925-4ADBEFC5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1663F-3AD2-483B-9141-F04D4592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98115-048F-4FA3-BC9A-923BEFAC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539C2-F8FD-4D83-8D68-4908C958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5DF0E-C914-4629-81E0-3BBE0E81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E8690-47C1-4BD8-A9D3-3AD55A45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45C-ACF1-477A-B05D-E14A497E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FEC-11FB-4A91-940D-1D7CAFF0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A20-4FB1-44F0-98C7-4720E2BF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E4F4-6C82-4A3E-B156-7CDD2AAE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23A-66AC-4952-9479-E5635CCE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4D74-9507-43CB-88F9-BE53C89D359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75C2-E287-4DB9-8754-80E0C3D3EFA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16BF-98AA-49A3-A6A8-950E4EAEC83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E6B5-859F-433D-9B95-A98B538C226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phorisme.ru/by-authors/hristos/?q=2090" TargetMode="External"/><Relationship Id="rId2" Type="http://schemas.openxmlformats.org/officeDocument/2006/relationships/hyperlink" Target="http://www.aphorisme.ru/by-authors/hristos/?q=2090" TargetMode="External"/><Relationship Id="rId3" Type="http://schemas.openxmlformats.org/officeDocument/2006/relationships/hyperlink" Target="http://www.aphorisme.ru/by-authors/einstein/?q=382" TargetMode="External"/><Relationship Id="rId4" Type="http://schemas.openxmlformats.org/officeDocument/2006/relationships/hyperlink" Target="http://www.aphorisme.ru/by-authors/konfuciy/?q=421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1857240"/>
          <a:ext cx="9144000" cy="4267440"/>
        </p:xfrm>
        <a:graphic>
          <a:graphicData uri="http://schemas.openxmlformats.org/drawingml/2006/table">
            <a:tbl>
              <a:tblPr/>
              <a:tblGrid>
                <a:gridCol w="3048120"/>
                <a:gridCol w="3238560"/>
                <a:gridCol w="2857320"/>
              </a:tblGrid>
              <a:tr h="1706760">
                <a:tc>
                  <a:txBody>
                    <a:bodyPr lIns="25560" rIns="25560" tIns="0" bIns="0" anchor="t">
                      <a:noAutofit/>
                    </a:bodyPr>
                    <a:p>
                      <a:pPr marL="11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гностиц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гр.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nostos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доступ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знанию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кептицизм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p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keptikos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— рассматривающий, критикующи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птим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лат.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ptimus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— наилучши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5606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нание не дает достоверных сведений о ми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ыражает сомнение в том, что все знания о мире носят достоверный харак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щищ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можность получения достоверных званий о ми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pic>
        <p:nvPicPr>
          <p:cNvPr id="196" name="Прямоугольник 3" descr=""/>
          <p:cNvPicPr/>
          <p:nvPr/>
        </p:nvPicPr>
        <p:blipFill>
          <a:blip r:embed="rId1"/>
          <a:stretch/>
        </p:blipFill>
        <p:spPr>
          <a:xfrm>
            <a:off x="1695600" y="817560"/>
            <a:ext cx="59245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хема 5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0" y="623880"/>
            <a:ext cx="914400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 познаете истину, и истина сделает вас свободными.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ea typeface="Times New Roman"/>
                <a:hlinkClick r:id="rId1"/>
              </a:rPr>
              <a:t>Иисус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ea typeface="Times New Roman"/>
                <a:hlinkClick r:id="rId2"/>
              </a:rPr>
              <a:t>Христо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стина - это то, что выдерживает испытание опытом. </a:t>
            </a:r>
            <a:r>
              <a:rPr b="0" i="1" lang="ru-RU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А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ea typeface="Times New Roman"/>
                <a:hlinkClick r:id="rId3"/>
              </a:rPr>
              <a:t>Эйнште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трельба из лука учит нас, как надо искать истину. Когда стрелок промахивается, он не винит других, а ищет вину в самом себе.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ea typeface="Times New Roman"/>
                <a:hlinkClick r:id="rId4"/>
              </a:rPr>
              <a:t>Конфу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ысячи путей ведут к заблуждению, к истине — только один.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уссо </a:t>
            </a:r>
            <a:r>
              <a:rPr b="0" i="1" lang="ru-RU" sz="2000" spc="-1" strike="noStrike" u="sng">
                <a:solidFill>
                  <a:srgbClr val="ffc000"/>
                </a:solidFill>
                <a:uFillTx/>
                <a:latin typeface="Arial"/>
                <a:ea typeface="Times New Roman"/>
              </a:rPr>
              <a:t>Ж.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слепитель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стина кажется пустыми словами там, где ее навязыва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                    </a:t>
            </a:r>
            <a:r>
              <a:rPr b="0" i="1" lang="ru-RU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Франс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 такое истина? Соответствие наших суждений созданиям прир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Дидро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олько наука учит тому, как добывать истину из ее единственного первоисточника — из действительности.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имирязев К.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Критерием истины является опыт.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Кампанелла 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значение разума — открывание истины и потому великое и губительное заблуждение — употребление разума на скрывание или извращение истины.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Толстой Л. Н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Прямоугольник 2" descr=""/>
          <p:cNvPicPr/>
          <p:nvPr/>
        </p:nvPicPr>
        <p:blipFill>
          <a:blip r:embed="rId5"/>
          <a:stretch/>
        </p:blipFill>
        <p:spPr>
          <a:xfrm>
            <a:off x="1725480" y="-96840"/>
            <a:ext cx="590076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3000240" y="652680"/>
            <a:ext cx="614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́вальд Васи́льевич Илье́нков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924-  1979,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—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оветский философ, дал начало целому направлению в марксистской философии (диалектическая логи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2323800" cy="19288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3"/>
          <p:cNvSpPr/>
          <p:nvPr/>
        </p:nvSpPr>
        <p:spPr>
          <a:xfrm>
            <a:off x="357120" y="3143160"/>
            <a:ext cx="821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ть развиваемого Ильенковым логического метода заключалась в том, как теоретическое мышление прослеживает процесс формирования предмета, начиная с простейшей, самой абстрактной формы его бытия и заканчивая наиболее развитыми и конкретными его формами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0" y="5202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просы для закре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ое значение в познавательной деятельности имеет познание чувственное и рациона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Почему истина чаще всего не является абсолют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. Приведите примеры, как усвоенные знания помогают решать проблемы в повседневной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0" y="-838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раткие 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познание мира – единство чувственного и рациональн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стина часто относитель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ние многообразно, необходимо найти себя в процессе п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тертек</cp:lastModifiedBy>
  <dcterms:modified xsi:type="dcterms:W3CDTF">2010-04-27T21:55:20Z</dcterms:modified>
  <cp:revision>18</cp:revision>
  <dc:subject/>
  <dc:title>Слайд 1</dc:title>
</cp:coreProperties>
</file>