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75F-5A8D-4C67-9AE9-56FA5DD1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228-B989-4E9F-AF1A-9777080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A89-A202-427B-BE12-AEF93723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8A6-2C89-400E-AF75-E98A4C94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DB6-FCFD-47B9-AC72-98F6809F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6F2-1746-4A72-8D20-D3386B30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CAC1-12FF-4921-BC89-EA69C68D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8B67-F10E-4CF2-90DF-551B09F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58B9-8852-428C-AB35-CD4576A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574-5AAD-4B95-9D6B-B63C153D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9DC-64EA-4C73-87D2-6ED49CD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A38-F3C5-49DD-AF44-6DCC89F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33AD-F1DB-4BEB-8AF6-F1545EE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A7C-218E-4A65-B2B6-42E6E6F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71A-6CCD-490A-A64C-C5EA7080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AD3-D577-4578-BAA2-869CE3F0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1DC6-B317-4339-820C-116E0742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DF29-50E1-4C6A-BDFE-C7CAF8D1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A509-B05D-4FCD-89AE-7A88B1C6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1189-FC7F-41DD-8954-D2390641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228B-F869-41D3-91D9-52CEB10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58D9-E174-4E18-9575-A1D79EDA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BC8-0AFF-41A9-A2D1-84D78FB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ACDB-A2DD-4D73-B4E0-FC2F1B9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53F7-D74D-4BDC-9686-F93CBE3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37DA-AF01-496F-B8E6-D5D70A9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5DCA-5D80-4180-B51F-A0FDB0C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4FF6-1B7C-4BF2-88D5-FE58705E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946F-32B6-4D9F-BAC5-B85E3080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052B-D6D8-42AF-85D6-E0F8343E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6A2B-E84D-41BE-9D0E-953D127C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ED6C-19EA-447B-A898-C42C46F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A2AD-BEFB-43AC-A790-8D3A831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A1C-3D1A-466B-B0C0-0D41E0B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03DE-47FE-420F-B87D-F70214AD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C3A6-64FA-4F33-801B-01681A2C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5818-1828-4060-8553-2DFC40EA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1556-850A-4C1B-BCA2-F4C1E2D4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3A5F-F211-4929-AA2F-A80FE49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031E-14D0-472C-80ED-A8C3C81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AE92-B19E-4195-97A9-61B8277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A9EC-5FE0-4E19-AF96-99F24B8E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1358-4CB3-4189-BB2E-5124FCB9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7E9-614C-4BA4-BE7E-8009C298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06C-9DF8-48C0-9151-8BA53B09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0D2-A4CB-4302-92AB-EE4FDF9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11C-A494-4080-8987-10A8C99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7B1-DABF-40EF-AAF3-69D98CE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E5A8-FADC-4026-8942-3106805345F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11A-D07A-44AC-B500-5719D5FBAA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27B-6E9F-4BD5-AD75-B97AC5401D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745-7F90-47B0-9E27-D064B86CFC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214200"/>
          <a:ext cx="9144000" cy="6697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541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иб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9160">
                <a:tc>
                  <a:txBody>
                    <a:bodyPr lIns="38880" rIns="3888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Я Господь, Бог твой, Который вывел тебя из земли Египетской, из дома рабства; да не будет у тебя других богов пред лицом Мо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делай себе кумира и никакого изображения того, что на небе вверху, и что на земле внизу, и что в воде ниже земли; не поклоняйся им и не служи им, ибо Я Господь, Бог твой, Бог ревнитель, наказывающий детей за вину отцов до третьего и четвёртого рода, ненавидящих Меня, и творящий милость до тысячи родов любящим Меня и соблюдающим заповеди Мо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произноси имени Господа, Бога твоего, напрасно, ибо Господь не оставит без наказания того, кто произносит имя Его напра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Помни день субботний, чтобы святить его; шесть дней работай и делай в них всякие дела твои, а день седьмой — суббота Господу, Богу твоему: не делай в оный никакого дела ни ты, ни сын твой, ни дочь твоя, ни раб твой, ни рабыня твоя, ни [вол твой, ни осёл твой, ни всякий] скот твой, ни пришелец, который в жилищах твоих; ибо в шесть дней создал Господь небо и землю, море и всё, что в них, а в день седьмой почил; посему благословил Господь день субботний и освятил е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Почитай отца твоего и мать твою, чтобы тебе было хорошо и чтобы продлились дни твои на земле, которую Господь, Бог твой, даёт те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убива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прелюбодейству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крад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произноси ложного свидетельства на ближнего твое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ffffff"/>
                        </a:buClr>
                        <a:buFont typeface="Constantia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е желай дома ближнего твоего; не желай жены ближнего твоего, ни поля его, ни раба его, ни рабыни его, ни вола его, ни осла его, ни всякого скота его, ничего, что у ближнего твое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2084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3640">
                <a:tc>
                  <a:txBody>
                    <a:bodyPr lIns="38880" rIns="388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давайте Аллаху в сотоварищи другое божество (Коран, 17:22) [23, c. 234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итайте своих родителей (Коран, 17:23) [23, c. 234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авайте другим то, что им положено (Коран, 17:26) [23, c. 234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айтесь ласково с сиротами (Коран, 17:34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ьте верны в мере, когда взвешиваете и взвешивайте правильными весами (Коран, 17:35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йте свои обещания (17:34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бивайте своих детей из боязни обеднения (Коран, 17:31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бивайте душу, которую запретил Аллах, иначе, как по праву (Коран, 17:33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ближайтесь к прелюбодеянию (Коран, 17:32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ледуй за тем, о чём у тебя нет знания (Коран, 17:36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ходи по земле горделиво (Коран, 17:37) [23, c. 235]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сточай своё богатство безрассудно, а придерживайся середины (Коран, 17:26, 27) [30, c. 30-31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8" descr=""/>
          <p:cNvPicPr/>
          <p:nvPr/>
        </p:nvPicPr>
        <p:blipFill>
          <a:blip r:embed="rId1"/>
          <a:stretch/>
        </p:blipFill>
        <p:spPr>
          <a:xfrm>
            <a:off x="216000" y="357120"/>
            <a:ext cx="8685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1" descr=""/>
          <p:cNvPicPr/>
          <p:nvPr/>
        </p:nvPicPr>
        <p:blipFill>
          <a:blip r:embed="rId1"/>
          <a:stretch/>
        </p:blipFill>
        <p:spPr>
          <a:xfrm>
            <a:off x="573120" y="92160"/>
            <a:ext cx="792792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568440"/>
          <a:ext cx="9144000" cy="6308640"/>
        </p:xfrm>
        <a:graphic>
          <a:graphicData uri="http://schemas.openxmlformats.org/drawingml/2006/table">
            <a:tbl>
              <a:tblPr/>
              <a:tblGrid>
                <a:gridCol w="1714680"/>
                <a:gridCol w="3429000"/>
                <a:gridCol w="4000320"/>
              </a:tblGrid>
              <a:tr h="631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ировоз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денное мировоз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рается на непосредственный жизненный опыт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использует опыт других людей, опыт науки и культуры, опыт религиозного сознания как элемента миров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0"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ое мировоз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ная связь с мировым культурным наследием, ориентация на решение проблем, связанных с духовными потребностями человека, стремление дать человеку веру в возможность достижения поставленных ц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ющаяся иногда непримиримость к другим жизненным позициям, недостаточное внимание к достижениям науки, а подчас и их игнориров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е мировоз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ная научная обоснованность, реальность содержащихся в нем целей и идеалов, органическая связь с производственной и социальной деятельностью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еще не занял в научном мировоззрении подобающего ему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Прямоугольник 2" descr=""/>
          <p:cNvPicPr/>
          <p:nvPr/>
        </p:nvPicPr>
        <p:blipFill>
          <a:blip r:embed="rId1"/>
          <a:stretch/>
        </p:blipFill>
        <p:spPr>
          <a:xfrm>
            <a:off x="1542960" y="-73080"/>
            <a:ext cx="5881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0" y="7142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верное средство остаться бедным - быть чест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леон Бонап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тысяча способов быть очень дурным человеком, не нарушая ни одного зако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рмена де Ста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адо думать, что человек, поступающий в соответствии со своими убеждениями, уже порядочный человек. Надо проверить, а порядочны ли его убежд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ор Михайлович Достое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самых обычных и ведущих к самым большим бедствиям соблазнов есть соблазн словами "Все так делают"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Лев Николаевич 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Прямоугольник 5" descr=""/>
          <p:cNvPicPr/>
          <p:nvPr/>
        </p:nvPicPr>
        <p:blipFill>
          <a:blip r:embed="rId1"/>
          <a:stretch/>
        </p:blipFill>
        <p:spPr>
          <a:xfrm>
            <a:off x="2000160" y="171360"/>
            <a:ext cx="5454720" cy="511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0" y="51501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каждый по одному высказыванию, которое ближе всего вашим уб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в тетрадях краткое эссе, используя уже известную вам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857160" y="3571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е глав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357120" y="1285920"/>
            <a:ext cx="8501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сть – высший уровень развит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не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моральных ориенти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шире мировоззрение. Тем больше возможностей  сориентироваться в быстро меняющемся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тертек</cp:lastModifiedBy>
  <dcterms:modified xsi:type="dcterms:W3CDTF">2006-01-01T01:01:11Z</dcterms:modified>
  <cp:revision>9</cp:revision>
  <dc:subject/>
  <dc:title>Слайд 1</dc:title>
</cp:coreProperties>
</file>