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44F-994A-4F51-AF9D-3121B8AA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A8B-C7AD-44AA-877C-047B019F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4F5-1176-4316-A7DF-049A23F0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4DF-6572-44E6-9C58-220F5B32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15C8-76D2-4696-9CA9-71F3760E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77F5-1268-4600-948B-76D43DEF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C023-EFDC-4571-8908-AE5AA0FF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8960-7749-4569-ACFB-F714B1F0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2CDE-8FEF-4589-91A9-B37F8903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A907-06BF-4095-AA25-ECAF1CE9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1108-95B6-4858-A4E2-DEB5FD2C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0730-2CF2-4249-A8CC-9ED80D64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8E66-C6FD-4259-8F44-4F29858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8851-312E-48D4-BAF6-1198BD38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C7AB-4FE3-492B-8973-151C3491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B160-7F4E-4231-925B-B31D3F29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9881-8C48-4F80-B4DD-5F617FFD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EAE4-9AFB-4B8F-AF96-82818BB1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09616-2A3C-47C0-AA59-8D6677D4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DA1E-1B1C-4592-B475-E0B7720C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88320-E904-4C0F-B34D-BB42366C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A3DB-10C3-4146-8CC2-3CC50D14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B20-5AE5-435D-A766-1FCD87FD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F0DC-7941-4969-8006-5E72255F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5D2F-7DD9-480E-9CC8-2AB5842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238E-7188-496D-8DB7-8F6B96D9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AC02-04E3-480D-B314-58DC1DCE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19BD-2AC8-4898-9B67-13E0B424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67DC-FA7C-4B50-93C3-00957048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14C9-4888-4BF4-9ACD-E5F5B053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A56DA-3C90-44AE-B9A4-DBDB6B6D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03E36-A372-495B-B682-D05F8623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E586D-6096-4848-AD02-9CF81600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34C-2688-4C59-845F-BEBC0DBE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91A92-D61D-411C-895A-76835F3D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8B0AE-929D-49BB-B715-6A5C6EBE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A02D8-84B6-4307-9963-2C709D94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588D-1952-4ABF-939F-EFFD25A0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05B26-3591-482F-B4A4-F16B00CB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4407-30A1-4F66-8629-D237949A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9A51-6B53-43B9-A720-2DCCCD0D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DB7A-F4DB-463C-B52C-92979152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BD8D-0730-4272-97AD-4A2B96CF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FF5-2AFB-458B-83D4-1729F502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ED8-CA2A-4442-856B-2F69F48E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54A-4263-4A61-8D2E-DF098858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5CC-8B9F-46B6-AEA1-49DA36D2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004-AAAB-4190-BE0E-29024D86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0DD9-6DB6-4B19-A47D-6B80DC98447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3423-129B-4425-ADA8-D70D256DF12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EC7A-883B-41DD-AB93-AB169B41E73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7557-0B8B-435E-BC4B-4A685F2FF34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nialnee.net/authors/William_Shakespeare/" TargetMode="External"/><Relationship Id="rId2" Type="http://schemas.openxmlformats.org/officeDocument/2006/relationships/hyperlink" Target="http://www.genialnee.net/authors/Konstantin_Dmitrievich_Ushinsky/" TargetMode="External"/><Relationship Id="rId3" Type="http://schemas.openxmlformats.org/officeDocument/2006/relationships/hyperlink" Target="http://www.aforism.su/avtor/670.html" TargetMode="External"/><Relationship Id="rId4" Type="http://schemas.openxmlformats.org/officeDocument/2006/relationships/hyperlink" Target="http://aphorism-citation.ru/index/0-201" TargetMode="External"/><Relationship Id="rId5" Type="http://schemas.openxmlformats.org/officeDocument/2006/relationships/hyperlink" Target="http://aphorism-citation.ru/index/0-357" TargetMode="External"/><Relationship Id="rId6" Type="http://schemas.openxmlformats.org/officeDocument/2006/relationships/hyperlink" Target="http://www.genialnee.net/authors/Mihail_Mihaylovich_Zhvaneckiy/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8_&#1072;&#1074;&#1075;&#1091;&#1089;&#1090;&#1072;" TargetMode="External"/><Relationship Id="rId2" Type="http://schemas.openxmlformats.org/officeDocument/2006/relationships/hyperlink" Target="http://ru.wikipedia.org/wiki/1749_&#1075;&#1086;&#1076;" TargetMode="External"/><Relationship Id="rId3" Type="http://schemas.openxmlformats.org/officeDocument/2006/relationships/hyperlink" Target="http://ru.wikipedia.org/wiki/&#1060;&#1088;&#1072;&#1085;&#1082;&#1092;&#1091;&#1088;&#1090;-&#1085;&#1072;-&#1052;&#1072;&#1081;&#1085;&#1077;" TargetMode="External"/><Relationship Id="rId4" Type="http://schemas.openxmlformats.org/officeDocument/2006/relationships/hyperlink" Target="http://ru.wikipedia.org/wiki/22_&#1084;&#1072;&#1088;&#1090;&#1072;" TargetMode="External"/><Relationship Id="rId5" Type="http://schemas.openxmlformats.org/officeDocument/2006/relationships/hyperlink" Target="http://ru.wikipedia.org/wiki/1832_&#1075;&#1086;&#1076;" TargetMode="External"/><Relationship Id="rId6" Type="http://schemas.openxmlformats.org/officeDocument/2006/relationships/hyperlink" Target="http://ru.wikipedia.org/wiki/&#1042;&#1077;&#1081;&#1084;&#1072;&#1088;" TargetMode="External"/><Relationship Id="rId7" Type="http://schemas.openxmlformats.org/officeDocument/2006/relationships/hyperlink" Target="http://ru.wikipedia.org/wiki/&#1057;&#1072;&#1082;&#1089;&#1077;&#1085;-&#1042;&#1077;&#1081;&#1084;&#1072;&#1088;-&#1069;&#1081;&#1079;&#1077;&#1085;&#1072;&#1093;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rcRect l="26061" t="25384" r="19532" b="29887"/>
          <a:stretch/>
        </p:blipFill>
        <p:spPr>
          <a:xfrm>
            <a:off x="214200" y="1500120"/>
            <a:ext cx="8564760" cy="50007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4" descr=""/>
          <p:cNvPicPr/>
          <p:nvPr/>
        </p:nvPicPr>
        <p:blipFill>
          <a:blip r:embed="rId2"/>
          <a:stretch/>
        </p:blipFill>
        <p:spPr>
          <a:xfrm>
            <a:off x="1438200" y="401760"/>
            <a:ext cx="62118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хема 2" descr=""/>
          <p:cNvPicPr/>
          <p:nvPr/>
        </p:nvPicPr>
        <p:blipFill>
          <a:blip r:embed="rId1"/>
          <a:stretch/>
        </p:blipFill>
        <p:spPr>
          <a:xfrm>
            <a:off x="-6480" y="1054080"/>
            <a:ext cx="4151520" cy="5584680"/>
          </a:xfrm>
          <a:prstGeom prst="rect">
            <a:avLst/>
          </a:prstGeom>
          <a:ln w="0">
            <a:noFill/>
          </a:ln>
        </p:spPr>
      </p:pic>
      <p:pic>
        <p:nvPicPr>
          <p:cNvPr id="198" name="Схема 4" descr=""/>
          <p:cNvPicPr/>
          <p:nvPr/>
        </p:nvPicPr>
        <p:blipFill>
          <a:blip r:embed="rId2"/>
          <a:stretch/>
        </p:blipFill>
        <p:spPr>
          <a:xfrm>
            <a:off x="4200480" y="1054080"/>
            <a:ext cx="4748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0" y="91764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а личность — это сад, а наша воля — его садов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1"/>
              </a:rPr>
              <a:t>Уильям Шексп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ько личность может действовать на развитие и определение личности, только характером можно образовать характ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2"/>
              </a:rPr>
              <a:t>Константин Уш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частье личности вне общества невозможно, как невозможна жизнь растения, выдернутого из земли и брошенного на бесплодный пес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3"/>
              </a:rPr>
              <a:t>Толстой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ю школы всегда должно быть воспитание гармоничной личности, а не специалист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4"/>
              </a:rPr>
              <a:t>Альберт Эйншт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быкновенные личности делают честь человеческому уму, но не определяют правил его бы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5"/>
              </a:rPr>
              <a:t>Франсуа Рене де Шатобр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вам говорят, что вы многогранная личность - не обольщайтесь. Может быть, имеется в виду, что вы гад, сволочь и паразит одновременн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6"/>
              </a:rPr>
              <a:t>Михаил Жванец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Прямоугольник 5" descr=""/>
          <p:cNvPicPr/>
          <p:nvPr/>
        </p:nvPicPr>
        <p:blipFill>
          <a:blip r:embed="rId7"/>
          <a:stretch/>
        </p:blipFill>
        <p:spPr>
          <a:xfrm>
            <a:off x="1731960" y="262080"/>
            <a:ext cx="6095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1000080"/>
          <a:ext cx="8858160" cy="5276880"/>
        </p:xfrm>
        <a:graphic>
          <a:graphicData uri="http://schemas.openxmlformats.org/drawingml/2006/table">
            <a:tbl>
              <a:tblPr/>
              <a:tblGrid>
                <a:gridCol w="380880"/>
                <a:gridCol w="4238640"/>
                <a:gridCol w="4238640"/>
              </a:tblGrid>
              <a:tr h="52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оз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реализ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й, ответств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й, целенаправл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ть, вступать, н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овывать, достигать, воздейств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, ответственность, решения, дейс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ь, возможности, способности, тал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человеком себя как личности в процессе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сс наиболее полного осуществления своих возможносте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2574360" y="-73440"/>
            <a:ext cx="449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таблицы отв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1" descr=""/>
          <p:cNvPicPr/>
          <p:nvPr/>
        </p:nvPicPr>
        <p:blipFill>
          <a:blip r:embed="rId1"/>
          <a:srcRect l="5040" t="38406" r="24082" b="13917"/>
          <a:stretch/>
        </p:blipFill>
        <p:spPr>
          <a:xfrm>
            <a:off x="285840" y="1428840"/>
            <a:ext cx="85374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14800" y="642960"/>
          <a:ext cx="5651280" cy="5908680"/>
        </p:xfrm>
        <a:graphic>
          <a:graphicData uri="http://schemas.openxmlformats.org/drawingml/2006/table">
            <a:tbl>
              <a:tblPr/>
              <a:tblGrid>
                <a:gridCol w="2825640"/>
                <a:gridCol w="2825640"/>
              </a:tblGrid>
              <a:tr h="365760">
                <a:tc gridSpan="2">
                  <a:txBody>
                    <a:bodyPr lIns="60480" rIns="60480" tIns="30240" bIns="30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оганн Вольфганг фон Гё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160"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ата рожде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"/>
                        </a:rPr>
                        <a:t>28 август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"/>
                        </a:rPr>
                        <a:t>174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49-08-2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240"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то рожде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3"/>
                        </a:rPr>
                        <a:t>Франкфур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3160"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ата смер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4"/>
                        </a:rPr>
                        <a:t>22 март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5"/>
                        </a:rPr>
                        <a:t>1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1832-03-22) (82 год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то смер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6"/>
                        </a:rPr>
                        <a:t>Вейма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lang="ru-RU" sz="20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7"/>
                        </a:rPr>
                        <a:t>Саксен-Веймар-Эйз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360"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д деятель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эт, драматург, прозаик, философ, учёный, коллекционер минералов (в честь него назван гёти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0680"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правл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свещение, сентиментал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0680"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анр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гедия, драма, поэма, ро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Picture 1" descr="Goethe (Stieler 1828).jpg"/>
          <p:cNvPicPr/>
          <p:nvPr/>
        </p:nvPicPr>
        <p:blipFill>
          <a:blip r:embed="rId8"/>
          <a:stretch/>
        </p:blipFill>
        <p:spPr>
          <a:xfrm>
            <a:off x="500040" y="1143000"/>
            <a:ext cx="20955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714920" y="1500120"/>
          <a:ext cx="4429080" cy="2870280"/>
        </p:xfrm>
        <a:graphic>
          <a:graphicData uri="http://schemas.openxmlformats.org/drawingml/2006/table">
            <a:tbl>
              <a:tblPr/>
              <a:tblGrid>
                <a:gridCol w="1454040"/>
                <a:gridCol w="1193760"/>
                <a:gridCol w="655920"/>
                <a:gridCol w="590400"/>
                <a:gridCol w="534960"/>
              </a:tblGrid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близких друзей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-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и колл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и сосед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и других люд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0" y="0"/>
          <a:ext cx="4643280" cy="6856560"/>
        </p:xfrm>
        <a:graphic>
          <a:graphicData uri="http://schemas.openxmlformats.org/drawingml/2006/table">
            <a:tbl>
              <a:tblPr/>
              <a:tblGrid>
                <a:gridCol w="1673280"/>
                <a:gridCol w="674640"/>
                <a:gridCol w="608040"/>
                <a:gridCol w="1131840"/>
                <a:gridCol w="555480"/>
              </a:tblGrid>
              <a:tr h="817560"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ому вы обращаетесь чаще всего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болезни помочь по дому, сделать покупк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6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-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/ж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чь, сы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а, б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родствен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зкий друг/подр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ченная помощ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е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285840" y="310680"/>
            <a:ext cx="857232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кие 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овек единство трех составляющ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ичность это не только индивид, но и система социально значимых чер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изация личности происходит в процессе социального повед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олжно быть свободы без ответ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тертек</cp:lastModifiedBy>
  <dcterms:modified xsi:type="dcterms:W3CDTF">2006-01-01T09:23:59Z</dcterms:modified>
  <cp:revision>6</cp:revision>
  <dc:subject/>
  <dc:title>Слайд 1</dc:title>
</cp:coreProperties>
</file>