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E99-E132-42B4-9926-9DE4F0FF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15F-FB88-4AC7-A2EA-035FA66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C24-5C0A-4FB6-B5CC-4EE0E76A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B7B-444F-4BC1-ABFB-956E198F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3DE7-8A80-47B5-BEAC-B0D55DAC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CEE-0EF9-4C10-BB56-94CB299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EB0-8F84-46DF-887D-7C15868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26F6-C445-4F8A-A871-70ADEF00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6A9F-A6D7-41BB-B021-975770B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924-CC58-446D-B1DC-A79D91F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9EE-C331-4A34-A5D9-5DAC64B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89A-BF69-4942-93D7-F44100C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EC25-57EC-407A-B978-5DC4932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57D-6158-4FB7-94E9-0AEC715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7B2-4B6A-485E-B1B6-A2A90CE2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AE5C-2386-4D90-A075-BDC61F5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ABF6-86D5-48AD-8728-206E2044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9AB3-AED4-44D7-AE35-4BC755A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D3FE-6FFE-4D7A-8140-C734060C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E5BB-595F-4A73-8F10-90129C9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2370-1B92-491A-94BA-63D31AB3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715E-21D8-47FA-B8FF-7B0B0EA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CD9-98ED-4A87-B1E7-47BD9467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4662-D533-4D63-A937-D1480FF3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B867-148A-4383-8EBA-48C4FBF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77E0-4BF8-4665-909E-47BC672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E24A-241A-4D38-A895-B14E88D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6572-6D25-4845-B6D3-FC3C99A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BE0D-AB22-48A3-8C1D-DDDE5F47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247E-3616-4280-BBCB-052F457B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AC2F-E932-497E-9D84-C7668BE3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5B6F-CE30-4B1D-B4F5-537632E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E5E59-13CB-42CC-A08C-E51D781F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E58-F21D-43EB-9CAE-CA3EA68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AC94-0830-40E0-B960-C21CBA9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38D3-F044-4266-BF5A-310ACB4D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5F22-0932-417C-80C4-F871ACF3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4DF8-F410-42B3-8B78-7368AC8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C097-BD65-4AD0-8E27-13375B5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A550-461E-4128-9FB1-BDA4F84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3469-1405-4E45-A16A-428AE7F7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10EF-201C-448C-943B-B4884992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6362-44D5-49C9-9E37-0ADBC21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B68-E79E-4085-B092-DD652E79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74B-3519-4635-93D7-9287B43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001-78E4-4F35-BBFF-C50275A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737-F474-4B9F-9CB1-199F3F6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AC7-A14A-4EAC-8B99-1188C40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60B-8362-4149-950C-EDEFB58E03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AD11-E09F-487B-86D1-4C1B061E683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9EC-7494-477A-A5C2-FD1661B250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1C5-7F82-4269-B56F-0C39DD27F08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428840"/>
          <a:ext cx="9144000" cy="5110200"/>
        </p:xfrm>
        <a:graphic>
          <a:graphicData uri="http://schemas.openxmlformats.org/drawingml/2006/table">
            <a:tbl>
              <a:tblPr/>
              <a:tblGrid>
                <a:gridCol w="252360"/>
                <a:gridCol w="2989440"/>
                <a:gridCol w="3468600"/>
                <a:gridCol w="2433600"/>
              </a:tblGrid>
              <a:tr h="97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потреб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отреб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ые потреб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ожденные, 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ственные, труд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уховные, культур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ышать, спать, защищ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адлежать, взаимодействовать, достиг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выражаться, познавать, созда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а, пища, отдых, воспроизво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ние, созидание, творчество, а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тие, ценности, познание, ми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, что необходимо для существования, развития и вос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, что является продуктом общественной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, что необходимо для духовного разв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Прямоугольник 2" descr=""/>
          <p:cNvPicPr/>
          <p:nvPr/>
        </p:nvPicPr>
        <p:blipFill>
          <a:blip r:embed="rId1"/>
          <a:stretch/>
        </p:blipFill>
        <p:spPr>
          <a:xfrm>
            <a:off x="1627200" y="603360"/>
            <a:ext cx="65660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5857920" y="3643200"/>
            <a:ext cx="2928960" cy="28576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285840" y="3643200"/>
            <a:ext cx="5429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ирамида потребностей», введённая, вероятно, для упрощённого изложения идеи иерархии потребностей, встречается впервые в немецкоязычной литературе 1970-х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потребностей нашла широкое применение в экономике, занимая важное место в построении теорий мотивации и поведения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2857680" y="642960"/>
            <a:ext cx="592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Абрахам Маслоу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908 —1970) — видный американский психолог,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рамида Маслоу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диаграмма, иерархически представляющая человеческие потребности. Однако ни в одной из его публикаций такой схемы нет, напротив, он считал, что иерархия потребностей не является фиксированной и в наибольшей степени зависит от индивидуальных особенностей кажд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642960" y="857160"/>
            <a:ext cx="1905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rcRect l="17675" t="23351" r="29359" b="1090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500040"/>
          <a:ext cx="9144000" cy="631980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  <a:gridCol w="1857240"/>
              </a:tblGrid>
              <a:tr h="219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  <a:ea typeface="Times New Roman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  <a:ea typeface="Times New Roman"/>
                        </a:rPr>
                        <a:t>в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  <a:ea typeface="Times New Roman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енности отношения к окружающему ми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ух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тношение с общественным прогрес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есс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зида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уш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тветствие социальным норм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к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зак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исимость от форм объединения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исимость от целей, способов, результатов осущест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образ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бл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тонна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цио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обретатель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исимость от сферы общественной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и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новление человеческой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ы 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неш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нутрен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2419200" y="-73080"/>
            <a:ext cx="4518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хема 2" descr=""/>
          <p:cNvPicPr/>
          <p:nvPr/>
        </p:nvPicPr>
        <p:blipFill>
          <a:blip r:embed="rId1"/>
          <a:stretch/>
        </p:blipFill>
        <p:spPr>
          <a:xfrm>
            <a:off x="420840" y="781200"/>
            <a:ext cx="83692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14200" y="29880"/>
            <a:ext cx="857268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связаны идеи этих высказы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темой нашего за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 создан для действия. Не действовать и не существовать для человека одно и то ж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ь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его так не делает жизнь легко переносимой, как деятельность, направленная к одной ц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иллер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х чаще выпадает на долю того, кто смело действует, но его редко добиваются те, кто проявляет робость и постоянно опасается последствий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у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0" y="22320"/>
            <a:ext cx="89298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ловека деятельность =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щества важен созидательный характер челове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дельного человек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енность на достижение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тертек</cp:lastModifiedBy>
  <dcterms:modified xsi:type="dcterms:W3CDTF">2010-04-27T16:27:02Z</dcterms:modified>
  <cp:revision>31</cp:revision>
  <dc:subject/>
  <dc:title>Слайд 1</dc:title>
</cp:coreProperties>
</file>