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8D6-8A0D-402B-B122-C099687D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4E3-9834-49AC-BBCB-F7410474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9166-CD78-48B2-B480-B1B82F60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5AA-749F-4AB9-89BD-22F8BE84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6C62-B279-48D2-B32A-6C22A0A7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6C81-7345-4D4D-AFDE-4460FBBF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F9B-94B8-4D0A-8878-06C8FDA7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788F-BF7E-4BBE-A658-06C163B6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FC8-A5D0-47B4-824F-70DBE89F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4CD6-2423-4CA7-AE47-60531A34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626-9682-469D-AE0F-5B143F3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72EE-5F0E-40C6-ABD0-3A54E81E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D21D-15A7-41FC-BC82-613562E1B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0253f"/>
                </a:solidFill>
                <a:latin typeface="Calibri"/>
              </a:rPr>
              <a:t>Was tue ich  für die Umwel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000080" y="71424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as Projekt zum T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“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Der Umweltschutz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28616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ie Autorinnen sind die Schüleri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der 6.b Klasse Lyzeums N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</a:rPr>
              <a:t>Botscharowa A, Gowscha P, Lysikowa, Medwedewa A und Tschernyschewa 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929200" y="5715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ambow 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8072280" y="6072120"/>
            <a:ext cx="781200" cy="576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2060"/>
                </a:solidFill>
                <a:latin typeface="Calibri"/>
              </a:rPr>
              <a:t>Den Müll werfe ich nur in Spezialcontain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P3140031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Wir sind zum Naturschutz berei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P314004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Und was machst du für den Umweltschutz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P314004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Calibri"/>
              </a:rPr>
              <a:t>Im Winter füttern wir</a:t>
            </a: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10253f"/>
                </a:solidFill>
                <a:latin typeface="Calibri"/>
              </a:rPr>
              <a:t>immer Tiere….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Содержимое 3" descr="P314004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Und Vögel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P314003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Und Has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5" descr="P314005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Calibri"/>
              </a:rPr>
              <a:t>Wir benutzen keine Sprühdosen und Insektengift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P3140033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2060"/>
                </a:solidFill>
                <a:latin typeface="Calibri"/>
              </a:rPr>
              <a:t>Ich würde gern den Müll sortiere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P3210061.JPG"/>
          <p:cNvPicPr/>
          <p:nvPr/>
        </p:nvPicPr>
        <p:blipFill>
          <a:blip r:embed="rId1"/>
          <a:stretch/>
        </p:blipFill>
        <p:spPr>
          <a:xfrm>
            <a:off x="2286000" y="1285920"/>
            <a:ext cx="3857760" cy="5143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Ich gisse die Blume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P3210058.JPG"/>
          <p:cNvPicPr/>
          <p:nvPr/>
        </p:nvPicPr>
        <p:blipFill>
          <a:blip r:embed="rId1"/>
          <a:stretch/>
        </p:blipFill>
        <p:spPr>
          <a:xfrm>
            <a:off x="2428920" y="1214280"/>
            <a:ext cx="4335480" cy="542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Ich möchte zu Hause ein Tier haben, um um es zu kümmer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P314005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Es ist unumweltfreundlich, Fichtenbäume zu fälle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P314004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0:41:11Z</dcterms:created>
  <dc:creator>BLACKEDITION</dc:creator>
  <dc:description/>
  <dc:language>en-US</dc:language>
  <cp:lastModifiedBy>Fedorova</cp:lastModifiedBy>
  <dcterms:modified xsi:type="dcterms:W3CDTF">2010-05-05T04:56:38Z</dcterms:modified>
  <cp:revision>24</cp:revision>
  <dc:subject/>
  <dc:title>Wir sorgen fur die Natur</dc:title>
</cp:coreProperties>
</file>